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082A-F862-4BBB-AF7D-16396D14D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BAD-5D01-440A-B643-FB09A2F3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1507-C00A-4E5A-9429-6662277E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4DC-4300-4369-BC5C-3A0361FD4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82B-6900-4B9B-A90C-F65AD764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542B-D629-4A65-AD8F-99716EBB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A01B-5653-47F8-B6F3-F4B264185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681D-F0E6-4EE4-A556-DD41F511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1800-4F97-4FFB-84E3-A844E484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C38-A636-44DB-9A3D-E9718672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E89C-9367-4ACD-B427-54CEF9D7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453-E97B-411F-A250-4A93E72F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CD6-A055-43E6-856B-901CDA93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1BBD-22A9-4B9D-88FF-1DA27206D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676520"/>
            <a:ext cx="8001000" cy="2590560"/>
          </a:xfrm>
          <a:prstGeom prst="rect">
            <a:avLst/>
          </a:prstGeom>
          <a:noFill/>
          <a:ln w="57240">
            <a:solidFill>
              <a:srgbClr val="ff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Equity Matters 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Right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152280"/>
          <a:ext cx="6858000" cy="6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2280"/>
                    <a:ext cx="685800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533520" y="480060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ancois Farah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ief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Development Division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C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flipH="1">
            <a:off x="2431800" y="1185840"/>
            <a:ext cx="6120" cy="4452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485880" y="1185840"/>
            <a:ext cx="19080" cy="4452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565520" y="1185840"/>
            <a:ext cx="6480" cy="4452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676840" y="1185840"/>
            <a:ext cx="38160" cy="44528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6775200" y="1185840"/>
            <a:ext cx="6120" cy="4495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70040" y="5638680"/>
            <a:ext cx="62485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1280" y="4419720"/>
            <a:ext cx="381240" cy="30456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3200400"/>
            <a:ext cx="304920" cy="45720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2286000"/>
            <a:ext cx="380880" cy="53352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4114800"/>
            <a:ext cx="228600" cy="609480"/>
          </a:xfrm>
          <a:prstGeom prst="ellipse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1600200"/>
            <a:ext cx="457200" cy="53352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4038480"/>
            <a:ext cx="381240" cy="3812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200400"/>
            <a:ext cx="38088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3352680"/>
            <a:ext cx="22860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2438280"/>
            <a:ext cx="38124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666880"/>
            <a:ext cx="381240" cy="0"/>
          </a:xfrm>
          <a:prstGeom prst="line">
            <a:avLst/>
          </a:prstGeom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5257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off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5812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access to opport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2286000"/>
            <a:ext cx="1905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ory mech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121932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ople falling on the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60480"/>
            <a:ext cx="853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ight To A “Fair Rac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Example of 400 meter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72428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al access to basic soci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66880" y="533412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6172200"/>
            <a:ext cx="381240" cy="685800"/>
          </a:xfrm>
          <a:prstGeom prst="upArrow">
            <a:avLst>
              <a:gd name="adj1" fmla="val 50000"/>
              <a:gd name="adj2" fmla="val 44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56386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601992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2209680"/>
            <a:ext cx="381240" cy="38124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ocial Policy: A Must Premise for Human Ri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ll designed social programmes, can contribute to equitable productive development and therefore to upholding human r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al welfare institutions reduce sources of social tensions and extremisms and provide a more stable environment for shared decent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609480"/>
            <a:ext cx="8305920" cy="594360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ity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 a noble duty and is always welcome but it can at best temporarily ease up the suffering of a few individuals;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quitable social development</a:t>
            </a:r>
            <a:r>
              <a:rPr b="0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an however enhance human dignity and curb the sheer structural distortions of biased policies and institutions that produce exclusion, marginalization, and vulnerability, a serious time threat for any protection, promotion or upholding of basic human rights for developme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38080" y="2286000"/>
            <a:ext cx="7467840" cy="2438280"/>
          </a:xfrm>
          <a:prstGeom prst="ellipse">
            <a:avLst/>
          </a:prstGeom>
          <a:noFill/>
          <a:ln w="381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Social Development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76320"/>
          <a:ext cx="601992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320"/>
                    <a:ext cx="6019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How Are Human Rights Linked to </a:t>
            </a:r>
            <a:br>
              <a:rPr sz="3400"/>
            </a:br>
            <a:r>
              <a:rPr b="1" lang="en-US" sz="34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Social Development?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y many people across the world suffer from varieties of deprivation of freedom “UNFREEDOM” (Amartya S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 or under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or access to health and sanitary arrangements or clean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spend their lives fighting unnecessary morbidity often succumbing to premature mort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functional education or gainful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economic and social 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equality between women and men (Sen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forms of “unfreedo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people are denied political liberty and basic civi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even claimed that denial of these rights helps to stimulate economic growth and is “good” for rapid econom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oncept of developmen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ludes respect for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l human rights, civil, political, economic, social and cultur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as an inherent and constitutive part of development, not a contingent aspect, nor even an instrumental dimen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s are usually taken to be legal rights, with a corresponding duty or obligation attached to each right. Assertion of a right, therefore, implies casting a duty upon the state, from which it could not derogate, without being guilty of violating th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8380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rict correspondence between right and duty, understandably, makes the state hesitant about encouraging the association of development with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development community should therefore espouse a different conception of rights, rather than a legal conception of a one-to-one correspondence between rights and du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19800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Can Human Rights Be M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alf the world's population lives below the two-dollar-a-day poverty 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oss inequity, exclusion and deprivation is allowed to lead  to state’s de-legitimization and to social disintegration, conflict, and viol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rther growth and profitable investment deepen impoverishment and spread it within and across countries? (ex. Pakistan 1988-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Distribution of world GDP, 1989"/>
          <p:cNvPicPr/>
          <p:nvPr/>
        </p:nvPicPr>
        <p:blipFill>
          <a:blip r:embed="rId1"/>
          <a:stretch/>
        </p:blipFill>
        <p:spPr>
          <a:xfrm>
            <a:off x="228600" y="1143000"/>
            <a:ext cx="5410080" cy="5216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2286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Inequality: A Clear Abuse of Human Righ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91320" y="1447920"/>
            <a:ext cx="312408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equality has risen in the last deca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in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mo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the result of the choice of public policies with limited investments in social development and clear abuse of basic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2130480"/>
          <a:ext cx="8229600" cy="39974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VERTY LINE 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 per person/d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VERTY LINE Equivalent US$ per person/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OVERTY LINE Equivalent Rupiah per person /mon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HEADCOUNT POVERT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% population below poverty li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LLIONS OF PEOPLE BELOW POVERTY LI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2,8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8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6,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6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9,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4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9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2,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7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5,4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0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.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78,5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3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4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380880" y="12952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onesia: Sensitivity of poverty headcount (% people  below poverty line) using different poverty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6324480"/>
            <a:ext cx="670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ource: Based on SMERU and World Bank, 1996 Indon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457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Verdana"/>
              </a:rPr>
              <a:t>What Do the Statistics Tell 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47600"/>
            <a:ext cx="91440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33"/>
                </a:solidFill>
                <a:latin typeface="Times New Roman"/>
                <a:ea typeface="Times New Roman"/>
              </a:rPr>
              <a:t>Evidence based research has now clearly shown t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greater the inequality, the less the “trickle-down” effect and the more the abuse of human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Poverty and inequality inhibit growth, depress domestic demand, hinder national economic development and infringes on basic human rights for a decent living and for freedom from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09:47:12Z</dcterms:created>
  <dc:creator>francois farah</dc:creator>
  <dc:description/>
  <dc:language>en-US</dc:language>
  <cp:lastModifiedBy>Francois Farah</cp:lastModifiedBy>
  <dcterms:modified xsi:type="dcterms:W3CDTF">2006-12-06T18:47:51Z</dcterms:modified>
  <cp:revision>93</cp:revision>
  <dc:subject/>
  <dc:title>Social Equity Matters… In Business and Fina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tle">
    <vt:lpwstr/>
  </property>
  <property fmtid="{D5CDD505-2E9C-101B-9397-08002B2CF9AE}" pid="3" name="ContentType">
    <vt:lpwstr>Document</vt:lpwstr>
  </property>
  <property fmtid="{D5CDD505-2E9C-101B-9397-08002B2CF9AE}" pid="4" name="Order">
    <vt:lpwstr>1979200.00000000</vt:lpwstr>
  </property>
  <property fmtid="{D5CDD505-2E9C-101B-9397-08002B2CF9AE}" pid="5" name="TemplateUrl">
    <vt:lpwstr/>
  </property>
  <property fmtid="{D5CDD505-2E9C-101B-9397-08002B2CF9AE}" pid="6" name="_SharedFileIndex">
    <vt:lpwstr/>
  </property>
  <property fmtid="{D5CDD505-2E9C-101B-9397-08002B2CF9AE}" pid="7" name="_SourceUrl">
    <vt:lpwstr/>
  </property>
  <property fmtid="{D5CDD505-2E9C-101B-9397-08002B2CF9AE}" pid="8" name="display_urn:schemas-microsoft-com:office:office#Author">
    <vt:lpwstr>Miriam ZAPATA</vt:lpwstr>
  </property>
  <property fmtid="{D5CDD505-2E9C-101B-9397-08002B2CF9AE}" pid="9" name="display_urn:schemas-microsoft-com:office:office#Editor">
    <vt:lpwstr>Miriam ZAPATA</vt:lpwstr>
  </property>
  <property fmtid="{D5CDD505-2E9C-101B-9397-08002B2CF9AE}" pid="10" name="xd_ProgID">
    <vt:lpwstr/>
  </property>
</Properties>
</file>