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DDEF-2B2F-4435-9980-7F158F85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EAE-DFE0-4038-9688-ADCD0F84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9D2-6D1A-4F5E-A838-759EF52F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E47-1361-4BAB-8F65-79B0A881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5C7-287E-493F-8115-8622EFF9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6DA-6D6A-4C6A-8E78-324D490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839-B0E0-400E-AA9F-ADB3C3CB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2B8-805E-45D9-8EA3-61D9F735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1DA-13C9-4216-8943-545064DC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9D3-F852-4CB7-AE04-02ECCE93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33A-C81D-461D-BAAE-7E23C322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369-C604-48CA-A440-EB55F12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1B1-EA74-4FD9-81C8-B12285D9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0EAE-0DE0-4B81-988E-191540C4B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676520"/>
            <a:ext cx="8001000" cy="2590560"/>
          </a:xfrm>
          <a:prstGeom prst="rect">
            <a:avLst/>
          </a:prstGeom>
          <a:noFill/>
          <a:ln w="57240">
            <a:solidFill>
              <a:srgbClr val="ff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Equity Matt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Right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52280"/>
          <a:ext cx="685800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33520" y="48006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cois Fara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Development Division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H="1">
            <a:off x="2431800" y="1185840"/>
            <a:ext cx="6120" cy="4452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485880" y="1185840"/>
            <a:ext cx="19080" cy="4452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565520" y="1185840"/>
            <a:ext cx="6480" cy="4452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676840" y="1185840"/>
            <a:ext cx="38160" cy="4452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775200" y="1185840"/>
            <a:ext cx="6120" cy="4495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70040" y="5638680"/>
            <a:ext cx="6248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4419720"/>
            <a:ext cx="381240" cy="30456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3200400"/>
            <a:ext cx="304920" cy="457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2286000"/>
            <a:ext cx="380880" cy="53352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4114800"/>
            <a:ext cx="228600" cy="60948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1600200"/>
            <a:ext cx="457200" cy="5335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4038480"/>
            <a:ext cx="381240" cy="3812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3352680"/>
            <a:ext cx="2286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438280"/>
            <a:ext cx="38124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666880"/>
            <a:ext cx="38124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of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5812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access to opport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28600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y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21932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falling on the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048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ight To A “Fair Rac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Example of 400 meter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72428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access to basic soci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3341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61722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56386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60199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2209680"/>
            <a:ext cx="381240" cy="3812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ocial Policy: A Must Premise for Human R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 designed social programmes, can contribute to equitable productive development and therefore to upholding human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welfare institutions reduce sources of social tensions and extremisms and provide a more stable environment for shared decent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305920" cy="59436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ity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noble duty and is always welcome but it can at best temporarily ease up the suffering of a few individuals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table social development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however enhance human dignity and curb the sheer structural distortions of biased policies and institutions that produce exclusion, marginalization, and vulnerability, a serious time threat for any protection, promotion or upholding of basic human rights for develop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2286000"/>
            <a:ext cx="7467840" cy="243828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ocial Development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76320"/>
          <a:ext cx="60199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6019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How Are Human Rights Linked to </a:t>
            </a:r>
            <a:br>
              <a:rPr sz="3400"/>
            </a:br>
            <a:r>
              <a:rPr b="1" lang="en-US" sz="3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ocial Development?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many people across the world suffer from varieties of deprivation of freedom “UNFREEDOM” (Amartya S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 or under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access to health and sanitary arrangements or clean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spend their lives fighting unnecessary morbidity often succumbing to premature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functional education or gainful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economic and soci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quality between women and men (Sen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forms of “unfreed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people are denied political liberty and basic civi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even claimed that denial of these rights helps to stimulate economic growth and is “good” for rapid econom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oncept of develop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ludes respect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human rights, civil, political, economic, social and cultu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s an inherent and constitutive part of development, not a contingent aspect, nor even an instrumental dimen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s are usually taken to be legal rights, with a corresponding duty or obligation attached to each right. Assertion of a right, therefore, implies casting a duty upon the state, from which it could not derogate, without being guilty of violating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rict correspondence between right and duty, understandably, makes the state hesitant about encouraging the association of development with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velopment community should therefore espouse a different conception of rights, rather than a legal conception of a one-to-one correspondence between rights and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9800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Can Human Rights Be M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the world's population lives below the two-dollar-a-day poverty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ss inequity, exclusion and deprivation is allowed to lead  to state’s de-legitimization and to social disintegration, conflict, and viol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rther growth and profitable investment deepen impoverishment and spread it within and across countries? (ex. Pakistan 1988-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Distribution of world GDP, 1989"/>
          <p:cNvPicPr/>
          <p:nvPr/>
        </p:nvPicPr>
        <p:blipFill>
          <a:blip r:embed="rId1"/>
          <a:stretch/>
        </p:blipFill>
        <p:spPr>
          <a:xfrm>
            <a:off x="228600" y="1143000"/>
            <a:ext cx="5410080" cy="521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228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Inequality: A Clear Abuse of Human Righ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1447920"/>
            <a:ext cx="31240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equality has risen in the last deca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the result of the choice of public policies with limited investments in social development and clear abuse of basic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130480"/>
          <a:ext cx="8229600" cy="39974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VERTY LINE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 per person/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VERTY LINE Equivalent US$ per person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VERTY LINE Equivalent Rupiah per person 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EADCOUNT POVER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% population below poverty li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 OF PEOPLE BELOW POVER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2,8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6,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9,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2,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,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8,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380880" y="1295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onesia: Sensitivity of poverty headcount (% people  below poverty line) using different poverty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632448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: Based on SMERU and World Bank, 1996 Indon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57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What Do the Statistics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47600"/>
            <a:ext cx="91440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Evidence based research has now clearly shown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the inequality, the less the “trickle-down” effect and the more the abuse of human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Poverty and inequality inhibit growth, depress domestic demand, hinder national economic development and infringes on basic human rights for a decent living and for freedom from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09:47:12Z</dcterms:created>
  <dc:creator>francois farah</dc:creator>
  <dc:description/>
  <dc:language>en-US</dc:language>
  <cp:lastModifiedBy>Francois Farah</cp:lastModifiedBy>
  <dcterms:modified xsi:type="dcterms:W3CDTF">2006-12-06T18:47:51Z</dcterms:modified>
  <cp:revision>93</cp:revision>
  <dc:subject/>
  <dc:title>Social Equity Matters… In Business and Fin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tle">
    <vt:lpwstr/>
  </property>
  <property fmtid="{D5CDD505-2E9C-101B-9397-08002B2CF9AE}" pid="3" name="ContentType">
    <vt:lpwstr>Document</vt:lpwstr>
  </property>
  <property fmtid="{D5CDD505-2E9C-101B-9397-08002B2CF9AE}" pid="4" name="Order">
    <vt:lpwstr>1979200.00000000</vt:lpwstr>
  </property>
  <property fmtid="{D5CDD505-2E9C-101B-9397-08002B2CF9AE}" pid="5" name="TemplateUrl">
    <vt:lpwstr/>
  </property>
  <property fmtid="{D5CDD505-2E9C-101B-9397-08002B2CF9AE}" pid="6" name="_SharedFileIndex">
    <vt:lpwstr/>
  </property>
  <property fmtid="{D5CDD505-2E9C-101B-9397-08002B2CF9AE}" pid="7" name="_SourceUrl">
    <vt:lpwstr/>
  </property>
  <property fmtid="{D5CDD505-2E9C-101B-9397-08002B2CF9AE}" pid="8" name="display_urn:schemas-microsoft-com:office:office#Author">
    <vt:lpwstr>Miriam ZAPATA</vt:lpwstr>
  </property>
  <property fmtid="{D5CDD505-2E9C-101B-9397-08002B2CF9AE}" pid="9" name="display_urn:schemas-microsoft-com:office:office#Editor">
    <vt:lpwstr>Miriam ZAPATA</vt:lpwstr>
  </property>
  <property fmtid="{D5CDD505-2E9C-101B-9397-08002B2CF9AE}" pid="10" name="xd_ProgID">
    <vt:lpwstr/>
  </property>
</Properties>
</file>