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9.png" ContentType="image/png"/>
  <Override PartName="/ppt/media/image5.jpeg" ContentType="image/jpeg"/>
  <Override PartName="/ppt/media/image35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5.png" ContentType="image/png"/>
  <Override PartName="/ppt/media/image2.png" ContentType="image/png"/>
  <Override PartName="/ppt/media/image10.wmf" ContentType="image/x-wmf"/>
  <Override PartName="/ppt/media/image30.jpeg" ContentType="image/jpeg"/>
  <Override PartName="/ppt/media/image15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F07498-69B3-4838-BBEE-C54E723278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931C73-1E1D-456B-8531-EC9C5288E3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2910FB-74AD-4650-81FC-F1799DE4FC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vanzar hacia el cumplimiento de los derechos de los pueblos indígenas y afrodescendientes conllevan la necesidad de desarrollar herramientas como lo es la Información pertinente, oportuna y de calidad… Mejorar la calidad de la información censal sobre grupos étnicos y garantizar la participación de pueblos indígenas y afrodescendientes en todo el proceso. (Proyecto con UNICEF, tool-kit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nstitucionalizar la producción y análisis de estadísticas de pueblos indígenas y de afrodescendientes en los sistemas estadísticos nacionales. Incluir el enfoque étnico en otras fuentes de datos. (Proyecto con UNFPA, pruebas piloto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esarrollar instrumentos complementarios (al menos en territorios indígenas): avanzar en la construcción de indicadores de derechos colectivos. (Proyecto con UNFPA: indicadores de salud reproductiv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ontinuar con actividades de difusión y capacitación. (Proyectos UNFPA y Fundación Ford). Fomentar el desarrollo de sistemas integrales y el intercambio de experienci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mpliar el número de países que captan afrodescendientes; ampliar el número de países que captan pueblos (no sólo población indígena) e idioma indíg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omover el uso de la información sociodemográfica para la promoción y el monitoreo de los derechos humanos,  la igualdad y la no discriminació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escolonizar el lenguaje (brecha cultural / barrera cultural), práctica y actitud de vid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0195EF-F71F-49DB-AAA4-8D572CFA82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CCF-AFCB-4E84-A2B9-C3A02B6D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DCB-AD8E-4EC7-B76C-E39D90E9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E29-9CD1-4B4D-9881-7BBD8C7D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78C-612F-421D-B6B6-F38505DC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0BDE-4470-47AB-B494-C6F5E367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9EC1-87C6-4E4C-AF0C-C88FD943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CD70-C2CF-48E7-9D05-DDE447C6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D465-60DD-4A42-9DA3-C0187770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BCC1-7C61-41AF-B141-524163C8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0E4A-9559-4FBC-8892-76839840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81D2-CDE9-467D-B591-3E1D76BC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1A8-776C-4177-B606-AFCCEC94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1A64-26CE-427B-A7B2-C29F5303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EB5B-095A-4693-A7B5-FE2F7478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C5DF-DBF7-4507-A0E5-B05FB8FB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B3F8-BB6A-464A-81F4-1F029C20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3D93-9854-4085-AF10-C60208A5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6DE8-E930-429F-8878-76977CE8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BAAAB-93B7-47B4-B67B-C0E9579C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712ED-60C9-409C-8916-2EA40D9E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7E23-4593-404C-AEF9-9F211C49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2B219-F83A-47CF-8B54-938B5655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FC0-6013-43C2-99FD-1C9B29F3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E0EB0-ECE7-4C95-9FAA-380BF99D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7C147-D288-4D68-8DA5-F38D482A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15B91-2226-4426-9C88-84A1D32E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B9CFE-DC3F-4631-AF68-960A8646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C461C-3342-45A8-8AA1-1014D197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22EA-5736-44F9-A1D2-A2366ED2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E2E33-3AAD-4E1A-8678-99D15311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9F97E-3DC3-48D2-BBAC-3B0DD467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6A019-5918-4CCC-ADD7-58CEA15D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7FC2D-A787-4706-9E29-1ED4EEB0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954-C658-4999-AD3B-5E8A00E2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45AE4-3BAE-4986-82AC-1C5FA959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C6332-388D-4167-AD3E-0E801950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2E67C-1D4E-45F5-9D4B-05E2C47E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14962-6359-4065-8A0D-A207178C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0E717-0FCB-44F2-A5AE-C780C9C5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9EDF0-3F1B-49D6-A1CF-EF723978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0E8A5-36E0-4E26-963B-DDD988EB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5F836-93AA-4416-B7CB-E8E2A1B7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88C1A-3658-4F3C-8ABD-B0B8E7D8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C8CB4-71A7-4A26-83D9-0105B237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FE2-F4D6-430C-A243-B6257ECC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A3379-0298-4EAF-9A6A-0E1BB0EA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0AEF9-3454-43DE-9D00-1E510CE1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3932E-EC97-405D-A1DC-26873879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B5A78-87FB-420E-A510-F106A59B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19AE6-DAF9-44A0-AD85-2CBA96AD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20A21-5847-4FC6-8A91-853C9E42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DC44C-DF44-4B09-8768-30416666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C8C7E-9D56-456C-8CE4-AD1D3BB5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162A9-2354-45C8-9E75-FF7B3648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AA44B-9B91-4B17-9ABB-D198F78E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748-2CD1-4ACF-A610-3541FF81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395CE-8A1E-42B9-A727-8AAAE93D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EA325-197E-41F0-972B-D6F31BDF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4B362-FA89-4374-A3FB-A82F5FF5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61DCD-99B7-4CE2-839A-04793FE7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8E9B5-A337-4501-A66D-6251B666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E615C-85AB-4097-BCA2-5F9FC091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1709F-7C79-413D-9DB3-1F6A7C4C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3E95F-553A-4379-A6BC-0F3B49BF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DBF35-70D0-48D4-868F-F450FF4A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F5458-11BF-4F05-ACDF-E043EC7E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2FA-ADD0-4C05-99E8-F164A043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E5613-5B4C-4198-9D5A-0AC49233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FCDE7-718C-40F0-891C-04A10AFB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CA7BC-AFF5-4FE1-A3B4-2671A3A9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51D3F-7414-40B0-854D-C01CB65C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3F987-E342-40E7-ADE6-D3C4ED0F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91406-5927-4992-9E1E-A50A3BA4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247C8-41A8-485B-81BD-6AA0C854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86BF9-5382-4235-A705-EB9FB24C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B42D9-B57F-4FDF-B027-CC6C250C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E9C2F-A0BB-4FCC-9826-1438BE64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DC2-B189-4196-AEE2-97803317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CFEF8-FB81-4424-9B98-0F4F7EE6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F499C-4CA4-4E36-9F7A-54F78199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6A336-F71F-4BE6-BD2A-B1C201A1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297AF-D60E-4EE1-B25F-1D69835A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B3640-E3CC-4303-8463-3C4302D4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F0A16-16F0-4584-9383-BC3DDC20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16FA6-696B-48D9-A37A-0EF18EDD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6DAD1-D3B4-4EB5-98AA-B4FFB0B7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EA406-CCCD-48AE-8459-81AC1624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5CF8C-ABCD-4E39-93C6-D5217152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70B-BFBF-4153-A2F5-34C0D6AA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9DF82-6FD3-4EEF-AC49-1FB9D787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85CAC-69C3-41FD-9EA2-37637D2C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4E55B-C46C-4ECC-8986-AC20283D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905A0-2332-4810-AF7A-726132A2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4E531-C67F-4339-90F9-ACD864AC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84040-E38B-4406-9777-205A92F5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03435-A717-41AB-9321-4AD71B14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7876-298A-48E8-8A2A-883E074559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9241-5EFA-4709-A384-65EA430F3C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8540-26B2-4B22-82F2-D92B13EF8E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D0FA-03D9-4F34-8FF7-C5587C7E28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94C8-0253-4615-86F9-DAF2384746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1198-27BE-4662-B7BE-46AD53FED6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11FE-8E03-4374-9260-C54FB74CF4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C259-A91A-4303-BF0A-FE045C25CA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epal/celade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image" Target="../media/image31.png"/><Relationship Id="rId15" Type="http://schemas.openxmlformats.org/officeDocument/2006/relationships/image" Target="../media/image32.jpeg"/><Relationship Id="rId16" Type="http://schemas.openxmlformats.org/officeDocument/2006/relationships/image" Target="../media/image33.jpe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1 Título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218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Social Inclusion and the growth of the common identity of people of African descent in Latin Amer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abiana Del Popol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CELADE-Population Divis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ECLAC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755800" y="146160"/>
            <a:ext cx="6583320" cy="10062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1430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spcAft>
                <a:spcPts val="1375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Lucida Sans Unicode"/>
              </a:rPr>
              <a:t>Grupos históricamente excluidos, con un menor reconocimiento para el ejercicio de sus derechos en todos los ámbito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spcAft>
                <a:spcPts val="1375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Lucida Sans Unicode"/>
              </a:rPr>
              <a:t>Avances en materia jurídica y aplicación de políticas con resultados insuficientes: brechas en la implementación de sus derecho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spcAft>
                <a:spcPts val="1375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Lucida Sans Unicode"/>
              </a:rPr>
              <a:t>Una significativa población afrodescendiente: activos actores políticos, mayores demandas de reconocimient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spcAft>
                <a:spcPts val="1375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Lucida Sans Unicode"/>
              </a:rPr>
              <a:t>Posicionamiento en las agendas públicas y creciente interés en los ámbitos internacional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spcAft>
                <a:spcPts val="1375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Lucida Sans Unicode"/>
              </a:rPr>
              <a:t>Existencia de estándares mínimos de derechos, obligatorios para los estados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567160" y="92160"/>
            <a:ext cx="6742080" cy="10602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380880" y="1219320"/>
            <a:ext cx="3962520" cy="45342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unto de partida: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incluir preguntas de identificación étnica en las fuentes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spcAft>
                <a:spcPts val="1250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es avances en los censos de población 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17 país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incluyeron identificación en censos década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spcAft>
                <a:spcPts val="1250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lgunos avances en encuestas de demografía y salud o condiciones de vida (máximo, 8 paí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spcAft>
                <a:spcPts val="1250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zago evidente en registros (sólo 1 país en registros de salud, pocos avances en 5 paí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4419720" y="31240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8"/>
          <p:cNvGraphicFramePr/>
          <p:nvPr/>
        </p:nvGraphicFramePr>
        <p:xfrm>
          <a:off x="5334120" y="1600200"/>
          <a:ext cx="3438360" cy="307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1600200"/>
                    <a:ext cx="3438360" cy="3070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6" name="5 CuadroTexto"/>
          <p:cNvSpPr/>
          <p:nvPr/>
        </p:nvSpPr>
        <p:spPr>
          <a:xfrm>
            <a:off x="449568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6 CuadroTexto"/>
          <p:cNvSpPr/>
          <p:nvPr/>
        </p:nvSpPr>
        <p:spPr>
          <a:xfrm>
            <a:off x="228600" y="5935680"/>
            <a:ext cx="8763120" cy="764280"/>
          </a:xfrm>
          <a:prstGeom prst="rect">
            <a:avLst/>
          </a:prstGeom>
          <a:solidFill>
            <a:srgbClr val="78d6ea"/>
          </a:solidFill>
          <a:ln w="9360">
            <a:solidFill>
              <a:srgbClr val="78d6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Censos 2010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: se suman países a la identificación de afrodescendientes. A la fecha, Argentina, E:P. de Bolivia, Panamá, Rep.Bol. de Venezuela, Urugu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054160" y="73080"/>
            <a:ext cx="7284960" cy="1000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2"/>
          <a:srcRect l="11916" t="14844" r="13085" b="26564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0" name="4 CuadroTexto"/>
          <p:cNvSpPr/>
          <p:nvPr/>
        </p:nvSpPr>
        <p:spPr>
          <a:xfrm>
            <a:off x="76320" y="76320"/>
            <a:ext cx="2286000" cy="1434600"/>
          </a:xfrm>
          <a:prstGeom prst="rect">
            <a:avLst/>
          </a:prstGeom>
          <a:solidFill>
            <a:srgbClr val="2da2b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IAAL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2889360" y="-6480"/>
            <a:ext cx="6377040" cy="10065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380880" y="9144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6280" indent="-344520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Profundas inequidades y brechas en la implementación del derecho a la salud de las poblaciones afrodescendiente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228600" y="2362320"/>
            <a:ext cx="434340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332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La mortalidad infantil y en la niñez es más elevada entre afrodescendientes : heterogeneidad entre países y zonas geográf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32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Arial"/>
              </a:rPr>
              <a:t>Mayores niveles de fecundidad y menor prevalencia en el uso de anticoncep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32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32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Arial"/>
              </a:rPr>
              <a:t>En algunos países, menos acceso a los controles pre y postnatales y a la atención profesional del parto; menor cobertura de vacunas en niños y niñ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4800600" y="2209680"/>
            <a:ext cx="4038480" cy="733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Ecuador (provincias de alta concentración afrodescendientes:tasa de mortalidad infantil (por mil nacidos vivos), censo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4572000" y="6172200"/>
            <a:ext cx="426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Fuente: CELADE, procesamientos especiales de los microdatos censa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3 Gráfico" descr=""/>
          <p:cNvPicPr/>
          <p:nvPr/>
        </p:nvPicPr>
        <p:blipFill>
          <a:blip r:embed="rId2"/>
          <a:stretch/>
        </p:blipFill>
        <p:spPr>
          <a:xfrm>
            <a:off x="4638600" y="3267000"/>
            <a:ext cx="42609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2889360" y="-6480"/>
            <a:ext cx="6462720" cy="1006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380880" y="11430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s inequidades étnicas en educación y en el empleo son contundentes, y se potencian con las de género; las brechas se mantienen tanto en zonas urbanas como rur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380880" y="3352680"/>
            <a:ext cx="3810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maternidad adolescente de estos grupos también es más elevada, las mayores brechas étnicas se presentan antes de los 17 añ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5 CuadroTexto"/>
          <p:cNvSpPr/>
          <p:nvPr/>
        </p:nvSpPr>
        <p:spPr>
          <a:xfrm>
            <a:off x="4114800" y="64008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Fuente: CELADE/CEPAL – OIJ – UNFPA, 200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4267080" y="2286000"/>
            <a:ext cx="4648320" cy="580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Porcentaje de jóvenes de 15 a 17 años que son madres,  censos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Object 10" descr=""/>
          <p:cNvPicPr/>
          <p:nvPr/>
        </p:nvPicPr>
        <p:blipFill>
          <a:blip r:embed="rId2"/>
          <a:stretch/>
        </p:blipFill>
        <p:spPr>
          <a:xfrm>
            <a:off x="4267080" y="2895480"/>
            <a:ext cx="4627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2054160" y="225360"/>
            <a:ext cx="7327800" cy="10000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838080" y="1447920"/>
            <a:ext cx="7925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jorar la calidad de la información censal sobre grupos étnicos y garantizar la participación de afrodescendientes en todo el proces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(</a:t>
            </a: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Proyecto CEPAL-UNICEF, tool-kit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stitucionalizar la producción y análisis de estadísticas de afrodescendientes en los sistemas estadísticos nacionales. Incluir el enfoque étnico en otras fuentes de dato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(</a:t>
            </a: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Proyecto CEPAL-UNFPA-OPS, registros de salud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arrollar instrumentos complementarios: avanzar en la construcción de indicadores de derechos colectivo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(</a:t>
            </a: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Proyecto CEPAL-UNFPA: indicadores de salud reproductiv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tinuar con actividades de difusión y capacitación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(</a:t>
            </a: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Proyectos CEPAL-UNFPA y CEPAL-Fundación Ford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).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omentar el desarrollo de sistemas integrales y el intercambio de experiencia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749600" y="225360"/>
            <a:ext cx="7327800" cy="10000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4"/>
          <p:cNvSpPr/>
          <p:nvPr/>
        </p:nvSpPr>
        <p:spPr>
          <a:xfrm>
            <a:off x="762120" y="1371600"/>
            <a:ext cx="7924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-    Persisten las inequidades entre  afrodescendientes respecto al resto de la población: las políticas deben afrontar la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discriminaciones estructu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xisten brechas de implementación de los derechos de estos grupos, con niveles más profundos en algunos países que en otros y al interior de los mismos: análisis contextualizado histórica y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territorialmente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s brechas de acceso por condición étnica se potencian según el sexo, situando a las mujeres afrodescendientes en las peores situaciones: investigación y diseño de políticas deben incorporar, además,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enfoque de géner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s inequidades no se eliminarán si las políticas no consideran las especificidades culturales: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la participación como condición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sine qua n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vanzar en un nuevo paradigma intercultural: garantizar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los derechos de las poblaciones afrodescendiente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838080" y="685800"/>
            <a:ext cx="7543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Lucida Sans Unicode"/>
              </a:rPr>
              <a:t>Muchas gra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cepal/cel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5694480" y="3124080"/>
            <a:ext cx="941400" cy="127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3"/>
          <a:stretch/>
        </p:blipFill>
        <p:spPr>
          <a:xfrm>
            <a:off x="5867280" y="3505320"/>
            <a:ext cx="987480" cy="12794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"/>
          <p:cNvPicPr/>
          <p:nvPr/>
        </p:nvPicPr>
        <p:blipFill>
          <a:blip r:embed="rId4"/>
          <a:stretch/>
        </p:blipFill>
        <p:spPr>
          <a:xfrm>
            <a:off x="4240080" y="3429000"/>
            <a:ext cx="725760" cy="1119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6" descr="Portada_Grande"/>
          <p:cNvPicPr/>
          <p:nvPr/>
        </p:nvPicPr>
        <p:blipFill>
          <a:blip r:embed="rId5"/>
          <a:stretch/>
        </p:blipFill>
        <p:spPr>
          <a:xfrm>
            <a:off x="914400" y="3276720"/>
            <a:ext cx="907920" cy="1181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6"/>
          <a:stretch/>
        </p:blipFill>
        <p:spPr>
          <a:xfrm>
            <a:off x="4191120" y="5105520"/>
            <a:ext cx="1371600" cy="1285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7"/>
          <a:srcRect l="0" t="6567" r="9993" b="10176"/>
          <a:stretch/>
        </p:blipFill>
        <p:spPr>
          <a:xfrm>
            <a:off x="7315200" y="3276720"/>
            <a:ext cx="1073160" cy="1371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4" descr="poblacionnew"/>
          <p:cNvPicPr/>
          <p:nvPr/>
        </p:nvPicPr>
        <p:blipFill>
          <a:blip r:embed="rId8"/>
          <a:stretch/>
        </p:blipFill>
        <p:spPr>
          <a:xfrm>
            <a:off x="1430280" y="4572000"/>
            <a:ext cx="897120" cy="1171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9"/>
          <a:stretch/>
        </p:blipFill>
        <p:spPr>
          <a:xfrm>
            <a:off x="4546440" y="3886200"/>
            <a:ext cx="703440" cy="1066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"/>
          <p:cNvPicPr/>
          <p:nvPr/>
        </p:nvPicPr>
        <p:blipFill>
          <a:blip r:embed="rId10"/>
          <a:stretch/>
        </p:blipFill>
        <p:spPr>
          <a:xfrm>
            <a:off x="6019920" y="3962520"/>
            <a:ext cx="1050840" cy="12762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1" descr="portada abierta AZUL liviana"/>
          <p:cNvPicPr/>
          <p:nvPr/>
        </p:nvPicPr>
        <p:blipFill>
          <a:blip r:embed="rId11"/>
          <a:srcRect l="49843" t="0" r="0" b="0"/>
          <a:stretch/>
        </p:blipFill>
        <p:spPr>
          <a:xfrm>
            <a:off x="6172200" y="4267080"/>
            <a:ext cx="977760" cy="1278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3" descr="NARANJAOCRE, Salud materno infantil"/>
          <p:cNvPicPr/>
          <p:nvPr/>
        </p:nvPicPr>
        <p:blipFill>
          <a:blip r:embed="rId12"/>
          <a:srcRect l="49843" t="0" r="0" b="0"/>
          <a:stretch/>
        </p:blipFill>
        <p:spPr>
          <a:xfrm>
            <a:off x="6324480" y="4724280"/>
            <a:ext cx="978120" cy="1278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4" descr="portada abierta ROSADA liviana"/>
          <p:cNvPicPr/>
          <p:nvPr/>
        </p:nvPicPr>
        <p:blipFill>
          <a:blip r:embed="rId13"/>
          <a:srcRect l="50231" t="0" r="0" b="0"/>
          <a:stretch/>
        </p:blipFill>
        <p:spPr>
          <a:xfrm>
            <a:off x="6553080" y="5105520"/>
            <a:ext cx="968400" cy="1279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6" descr="seminariosnew"/>
          <p:cNvPicPr/>
          <p:nvPr/>
        </p:nvPicPr>
        <p:blipFill>
          <a:blip r:embed="rId14"/>
          <a:stretch/>
        </p:blipFill>
        <p:spPr>
          <a:xfrm>
            <a:off x="2438280" y="3429000"/>
            <a:ext cx="978120" cy="12762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F:\DCIM\100_FUJI\DSCF0176.JPG"/>
          <p:cNvPicPr/>
          <p:nvPr/>
        </p:nvPicPr>
        <p:blipFill>
          <a:blip r:embed="rId15">
            <a:lum bright="26000"/>
          </a:blip>
          <a:srcRect l="12692" t="13783" r="8030" b="5211"/>
          <a:stretch/>
        </p:blipFill>
        <p:spPr>
          <a:xfrm>
            <a:off x="2895480" y="3962520"/>
            <a:ext cx="949320" cy="1292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F:\DCIM\100_FUJI\DSCF0173.JPG"/>
          <p:cNvPicPr/>
          <p:nvPr/>
        </p:nvPicPr>
        <p:blipFill>
          <a:blip r:embed="rId16"/>
          <a:srcRect l="49223" t="14578" r="8601" b="4169"/>
          <a:stretch/>
        </p:blipFill>
        <p:spPr>
          <a:xfrm>
            <a:off x="2971800" y="4952880"/>
            <a:ext cx="752400" cy="1086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"/>
          <p:cNvPicPr/>
          <p:nvPr/>
        </p:nvPicPr>
        <p:blipFill>
          <a:blip r:embed="rId17"/>
          <a:srcRect l="14286" t="0" r="14286" b="0"/>
          <a:stretch/>
        </p:blipFill>
        <p:spPr>
          <a:xfrm>
            <a:off x="1752480" y="5181480"/>
            <a:ext cx="854280" cy="1195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18"/>
          <a:stretch/>
        </p:blipFill>
        <p:spPr>
          <a:xfrm>
            <a:off x="5867280" y="1600200"/>
            <a:ext cx="20574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6:37:41Z</dcterms:created>
  <dc:creator>Alejandro Vicuña Leyton</dc:creator>
  <dc:description/>
  <dc:language>en-US</dc:language>
  <cp:lastModifiedBy>Faubus</cp:lastModifiedBy>
  <dcterms:modified xsi:type="dcterms:W3CDTF">2011-03-07T11:17:07Z</dcterms:modified>
  <cp:revision>198</cp:revision>
  <dc:subject/>
  <dc:title>Porta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1710500.00000000</vt:lpwstr>
  </property>
  <property fmtid="{D5CDD505-2E9C-101B-9397-08002B2CF9AE}" pid="3" name="TemplateUrl">
    <vt:lpwstr/>
  </property>
  <property fmtid="{D5CDD505-2E9C-101B-9397-08002B2CF9AE}" pid="4" name="_SharedFileIndex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Miriam ZAPATA</vt:lpwstr>
  </property>
  <property fmtid="{D5CDD505-2E9C-101B-9397-08002B2CF9AE}" pid="7" name="display_urn:schemas-microsoft-com:office:office#Editor">
    <vt:lpwstr>Miriam ZAPATA</vt:lpwstr>
  </property>
  <property fmtid="{D5CDD505-2E9C-101B-9397-08002B2CF9AE}" pid="8" name="xd_ProgID">
    <vt:lpwstr/>
  </property>
</Properties>
</file>