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9.png" ContentType="image/png"/>
  <Override PartName="/ppt/media/image5.jpeg" ContentType="image/jpeg"/>
  <Override PartName="/ppt/media/image35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25.png" ContentType="image/png"/>
  <Override PartName="/ppt/media/image2.png" ContentType="image/png"/>
  <Override PartName="/ppt/media/image10.wmf" ContentType="image/x-wmf"/>
  <Override PartName="/ppt/media/image30.jpeg" ContentType="image/jpeg"/>
  <Override PartName="/ppt/media/image15.png" ContentType="image/png"/>
  <Override PartName="/ppt/media/image11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6E21016-C94D-49AF-B717-46522474A02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3 Marcador de número de diapositiva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2648B1A-2CFF-4D21-A64C-55A065BD097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3 Marcador de número de diapositiva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B374691-B10E-46A6-9F11-0FC6EC2D5D5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Avanzar hacia el cumplimiento de los derechos de los pueblos indígenas y afrodescendientes conllevan la necesidad de desarrollar herramientas como lo es la Información pertinente, oportuna y de calidad… Mejorar la calidad de la información censal sobre grupos étnicos y garantizar la participación de pueblos indígenas y afrodescendientes en todo el proceso. (Proyecto con UNICEF, tool-kit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Institucionalizar la producción y análisis de estadísticas de pueblos indígenas y de afrodescendientes en los sistemas estadísticos nacionales. Incluir el enfoque étnico en otras fuentes de datos. (Proyecto con UNFPA, pruebas piloto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Desarrollar instrumentos complementarios (al menos en territorios indígenas): avanzar en la construcción de indicadores de derechos colectivos. (Proyecto con UNFPA: indicadores de salud reproductiva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Continuar con actividades de difusión y capacitación. (Proyectos UNFPA y Fundación Ford). Fomentar el desarrollo de sistemas integrales y el intercambio de experiencia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.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ampliar el número de países que captan afrodescendientes; ampliar el número de países que captan pueblos (no sólo población indígena) e idioma indíge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promover el uso de la información sociodemográfica para la promoción y el monitoreo de los derechos humanos,  la igualdad y la no discriminació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Descolonizar el lenguaje (brecha cultural / barrera cultural), práctica y actitud de vid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3 Marcador de número de diapositiva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9B82DD4-9697-4F70-B124-B8681CFAD6C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6C6C-DFD9-4D4D-918F-2E2123EE2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0BF0-5F6C-4EEA-A7B3-4369E764E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242F-81E1-4446-9207-D5A1B3817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CF92-0F9F-4ED7-BA8B-D375A48DE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F3396-BEA9-4C9F-B881-BCD2D9FA7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9864D-E28C-45A5-831D-41A92E40B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6D9AA-C608-4A55-9502-4E7BE8373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98435-7418-44F5-B5EB-530E7121F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2F3D6-1297-434C-B2F1-F33137DB7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2793F-C9B1-4CA5-B2C7-C84277771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43B4A-704A-48C7-8D93-85CEBF953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E545-CBF9-4257-AE29-C99851A29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55246-58CA-4362-82DA-81E1AA1A7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B9877-063E-4CFD-8BA9-48EB547F8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30862-024E-40EB-9D1C-0BFF72188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CEAAC-04DD-46B5-92C3-1AF4E97A2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46723-0724-463D-8D62-34E267875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5CB9F-00F7-44C2-A9F2-D0F5C8F52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6804A-249B-4869-A607-C8918AEE4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0FD59-F21C-4EC7-950E-47B09ED8A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84425-7DD0-4F74-B86D-976F46C66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A0B4F-D974-4B66-B7E5-0D1439CC7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8262-DE98-48FD-B618-63152C7FF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84064-2693-471D-B117-2706354E9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ADD4B-2FBC-459E-B7ED-7738EDE0C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EBA6C-9108-4FA7-B8D8-D793D1619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4623C-3501-4105-8DD5-89E05F9DA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B8A6C-B5D2-4204-B28E-2B36C8402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6AA69-2E35-4098-847D-3E1281584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99B5B-0B57-472B-B910-3FCD3F4EA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86B76-3135-4679-B774-6D9BFE106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93FBD-61C9-416C-B2C8-6953F8E5E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2F8A4-537F-45F9-B799-4AEC10917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7571-1E19-4584-B46A-6F26035F2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037C6-C573-4C0A-A623-F0A624B5F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89829-CF9D-4CD6-BDBC-35177F0EA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1A1A6-8547-438D-B600-646679799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A4E75-5277-4544-88DF-47C86B78B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8C8EE-3E05-40A5-91E0-CC0D9FCED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8DD34-FB5F-4B2A-9F3F-2EB7D02E8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9BB51-D7D1-4797-88DF-54810A626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FA0FB-21FF-49FB-BE8B-38CEEC665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B5B88-E4F7-4A2A-B659-0878C936F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1CE07E-F736-47BC-B8EB-37A7F911A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1693-84B0-4A32-AAC3-AA8183374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61AAB2-D0A9-4CA2-9E76-81C2B51F4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AEA0AE-25BD-47C0-8BDC-51D1FDC67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741447-2043-4F56-9AF0-C9F311C32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B2EA08-1A70-4D6C-8A7D-75690F035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7FA7E2-E2EE-440E-89D2-77F288ECA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3ADEE8-5CD3-49F6-A459-8224D8ED0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86F19B-E7E8-4995-BE60-1DFB39C72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65F810-D48B-4448-B000-F7F2600D3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82C925-FDE8-4B4B-98DD-38CC7F6DA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485460-E413-4FD2-9473-6FFE2AB59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233E-3467-4619-972C-74EF0B1B4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A6AAED-49CB-45CA-9359-07D045CEE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39DD38-A1D3-4665-8421-B5380C14B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68E41D-A59F-4480-83E3-56762ED90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0EAF06-245C-479A-93EC-459AC4ECA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666F8B-3CBF-4C43-86C5-0CDB23CEE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2A5141-8FA2-4A1F-A298-D211E94AA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4A0538-B2F6-443D-A7C3-6DB080ADD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66C4AA-C2AA-4438-82A0-24686D7A0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A2E473-0A67-4204-8AC3-8E72746E5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7FAD72-8F6D-432A-9BEB-625909AF7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5D0E-4D4B-4B84-92FD-548E963D1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C37E43-1B2A-41C4-BB2D-D5844C4F1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C8E3D1-3395-45E2-B730-25F556D01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6020ED-5467-4526-B349-E113C532E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FC9B14-81A6-4BCE-A9C4-5D8C9DCBE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0A1B5A-FB3E-4E78-B779-88E341FCD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42F0A3-24B6-49FE-A1CE-83BE9DA07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3296E2-835B-4B93-A2A9-A5B396F89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8ACE9F-1AD6-4BC9-B883-FE70187B1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8187FE-170E-4D0E-AF13-A80C1CF0A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9056AB-8E57-40E7-8E01-03FE75D6C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D4BE-CC94-4548-88CA-679696C8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B66E9B-AFD8-40FE-9CC4-670F1A9E9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6AAC32-9617-4EF5-A788-A458D7DD8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958EAA-0005-4448-BA39-D1C163A1E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878CC1-95F7-4F2F-A182-229073C35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CF89CE-44AE-46DC-AE4C-EA15E8ECF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13A85B-F5A6-4ED6-9532-E714084CC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C231BB-9E34-4E27-96A4-30635B095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3659B3-1FE4-4FEF-A451-627633113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267157-75EF-46A3-8EDD-C15A581AA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9E484B-86EE-4CE5-9820-E85871838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2FA1-83C5-47C8-AA9F-E814D5061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E247AC-EB62-40D5-A011-3027F0B8E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5BC46F-EB64-4746-9AA2-330345667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7B3C50-9576-40A0-98A0-A5ADCFEEF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F749D8-07B5-4AED-89E4-E756AEDA4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4ABAC2-FBEA-4144-8F02-317FCA854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C904B1-A31E-4579-9E62-C3BD82068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DA8C65-7562-499C-8291-06BE9B69B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13 Triángulo rectángulo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" name="14 Conector recto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B52EF-874D-480E-93F2-BDF0C16693F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0 Triángulo rectángulo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15 Grupo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16 Forma libre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18 Forma libre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" name="19 Forma libre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19 Forma libre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54" name="20 Conector recto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8EF1C-3B1B-42F6-81A0-E83AF0D3365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1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10 Cheurón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15 Cheurón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C3BC1-2DB9-4CB7-BE19-67130F4AA30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0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688E1-D8F7-49F1-A2C9-B71E899ED1F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C88C7-0CCC-4083-8498-84CE105B3F7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8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9B507-A02F-44A4-94E3-C9272DC90F7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EBF62-6C25-480A-86BD-D6A5189AA42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10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15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16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16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6" name="18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19 Cheurón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20 Cheurón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2D57B-17A4-41D0-B62E-17316741074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epal/celade" TargetMode="External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image" Target="../media/image28.jpeg"/><Relationship Id="rId12" Type="http://schemas.openxmlformats.org/officeDocument/2006/relationships/image" Target="../media/image29.jpeg"/><Relationship Id="rId13" Type="http://schemas.openxmlformats.org/officeDocument/2006/relationships/image" Target="../media/image30.jpeg"/><Relationship Id="rId14" Type="http://schemas.openxmlformats.org/officeDocument/2006/relationships/image" Target="../media/image31.png"/><Relationship Id="rId15" Type="http://schemas.openxmlformats.org/officeDocument/2006/relationships/image" Target="../media/image32.jpeg"/><Relationship Id="rId16" Type="http://schemas.openxmlformats.org/officeDocument/2006/relationships/image" Target="../media/image33.jpeg"/><Relationship Id="rId17" Type="http://schemas.openxmlformats.org/officeDocument/2006/relationships/image" Target="../media/image34.png"/><Relationship Id="rId18" Type="http://schemas.openxmlformats.org/officeDocument/2006/relationships/image" Target="../media/image35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1 Título" descr=""/>
          <p:cNvPicPr/>
          <p:nvPr/>
        </p:nvPicPr>
        <p:blipFill>
          <a:blip r:embed="rId1"/>
          <a:stretch/>
        </p:blipFill>
        <p:spPr>
          <a:xfrm>
            <a:off x="450720" y="208080"/>
            <a:ext cx="8242560" cy="121896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 Unicode"/>
              </a:rPr>
              <a:t>Social Inclusion and the growth of the common identity of people of African descent in Latin Americ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 Unicode"/>
              </a:rPr>
              <a:t>Fabiana Del Popolo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 Unicode"/>
              </a:rPr>
              <a:t>CELADE-Population Division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 Unicode"/>
              </a:rPr>
              <a:t>ECLAC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Rectangle 2" descr=""/>
          <p:cNvPicPr/>
          <p:nvPr/>
        </p:nvPicPr>
        <p:blipFill>
          <a:blip r:embed="rId1"/>
          <a:stretch/>
        </p:blipFill>
        <p:spPr>
          <a:xfrm>
            <a:off x="2755800" y="146160"/>
            <a:ext cx="6583320" cy="100620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1143000" y="1599840"/>
            <a:ext cx="7391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just">
              <a:lnSpc>
                <a:spcPct val="80000"/>
              </a:lnSpc>
              <a:spcBef>
                <a:spcPts val="400"/>
              </a:spcBef>
              <a:spcAft>
                <a:spcPts val="1375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Lucida Sans Unicode"/>
              </a:rPr>
              <a:t>Grupos históricamente excluidos, con un menor reconocimiento para el ejercicio de sus derechos en todos los ámbitos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spcAft>
                <a:spcPts val="1375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Lucida Sans Unicode"/>
              </a:rPr>
              <a:t>Avances en materia jurídica y aplicación de políticas con resultados insuficientes: brechas en la implementación de sus derechos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spcAft>
                <a:spcPts val="1375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Lucida Sans Unicode"/>
              </a:rPr>
              <a:t>Una significativa población afrodescendiente: activos actores políticos, mayores demandas de reconocimiento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spcAft>
                <a:spcPts val="1375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Lucida Sans Unicode"/>
              </a:rPr>
              <a:t>Posicionamiento en las agendas públicas y creciente interés en los ámbitos internacionales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spcAft>
                <a:spcPts val="1375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Lucida Sans Unicode"/>
              </a:rPr>
              <a:t>Existencia de estándares mínimos de derechos, obligatorios para los estados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2567160" y="92160"/>
            <a:ext cx="6742080" cy="106020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380880" y="1219320"/>
            <a:ext cx="3962520" cy="453420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8120" indent="-168120"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unto de partida: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incluir preguntas de identificación étnica en las fuentes de da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68120" indent="-168120">
              <a:spcAft>
                <a:spcPts val="1250"/>
              </a:spcAft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ayores avances en los censos de población (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17 paíse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incluyeron identificación en censos década 200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68120" indent="-168120">
              <a:spcAft>
                <a:spcPts val="1250"/>
              </a:spcAft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lgunos avances en encuestas de demografía y salud o condiciones de vida (máximo, 8 país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68120" indent="-168120">
              <a:spcAft>
                <a:spcPts val="1250"/>
              </a:spcAft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ezago evidente en registros (sólo 1 país en registros de salud, pocos avances en 5 país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AutoShape 7"/>
          <p:cNvSpPr/>
          <p:nvPr/>
        </p:nvSpPr>
        <p:spPr>
          <a:xfrm>
            <a:off x="4419720" y="312408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Object 8"/>
          <p:cNvGraphicFramePr/>
          <p:nvPr/>
        </p:nvGraphicFramePr>
        <p:xfrm>
          <a:off x="5334120" y="1600200"/>
          <a:ext cx="3438360" cy="3070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85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4120" y="1600200"/>
                    <a:ext cx="3438360" cy="30700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86" name="5 CuadroTexto"/>
          <p:cNvSpPr/>
          <p:nvPr/>
        </p:nvSpPr>
        <p:spPr>
          <a:xfrm>
            <a:off x="4495680" y="2514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6 CuadroTexto"/>
          <p:cNvSpPr/>
          <p:nvPr/>
        </p:nvSpPr>
        <p:spPr>
          <a:xfrm>
            <a:off x="228600" y="5935680"/>
            <a:ext cx="8763120" cy="764280"/>
          </a:xfrm>
          <a:prstGeom prst="rect">
            <a:avLst/>
          </a:prstGeom>
          <a:solidFill>
            <a:srgbClr val="78d6ea"/>
          </a:solidFill>
          <a:ln w="9360">
            <a:solidFill>
              <a:srgbClr val="78d6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Censos 2010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</a:rPr>
              <a:t>: se suman países a la identificación de afrodescendientes. A la fecha, Argentina, E:P. de Bolivia, Panamá, Rep.Bol. de Venezuela, Urugua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Rectangle 2" descr=""/>
          <p:cNvPicPr/>
          <p:nvPr/>
        </p:nvPicPr>
        <p:blipFill>
          <a:blip r:embed="rId1"/>
          <a:stretch/>
        </p:blipFill>
        <p:spPr>
          <a:xfrm>
            <a:off x="2054160" y="73080"/>
            <a:ext cx="7284960" cy="100008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4" descr=""/>
          <p:cNvPicPr/>
          <p:nvPr/>
        </p:nvPicPr>
        <p:blipFill>
          <a:blip r:embed="rId2"/>
          <a:srcRect l="11916" t="14844" r="13085" b="26564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390" name="4 CuadroTexto"/>
          <p:cNvSpPr/>
          <p:nvPr/>
        </p:nvSpPr>
        <p:spPr>
          <a:xfrm>
            <a:off x="76320" y="76320"/>
            <a:ext cx="2286000" cy="1434600"/>
          </a:xfrm>
          <a:prstGeom prst="rect">
            <a:avLst/>
          </a:prstGeom>
          <a:solidFill>
            <a:srgbClr val="2da2bf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PIAAL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Rectangle 2" descr=""/>
          <p:cNvPicPr/>
          <p:nvPr/>
        </p:nvPicPr>
        <p:blipFill>
          <a:blip r:embed="rId1"/>
          <a:stretch/>
        </p:blipFill>
        <p:spPr>
          <a:xfrm>
            <a:off x="2889360" y="-6480"/>
            <a:ext cx="6377040" cy="1006560"/>
          </a:xfrm>
          <a:prstGeom prst="rect">
            <a:avLst/>
          </a:prstGeom>
          <a:ln w="0">
            <a:noFill/>
          </a:ln>
        </p:spPr>
      </p:pic>
      <p:sp>
        <p:nvSpPr>
          <p:cNvPr id="392" name="Rectangle 4"/>
          <p:cNvSpPr/>
          <p:nvPr/>
        </p:nvSpPr>
        <p:spPr>
          <a:xfrm>
            <a:off x="380880" y="914400"/>
            <a:ext cx="8458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6280" indent="-344520">
              <a:lnSpc>
                <a:spcPct val="100000"/>
              </a:lnSpc>
              <a:spcBef>
                <a:spcPts val="550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CL" sz="2200" spc="-1" strike="noStrike">
                <a:solidFill>
                  <a:srgbClr val="000000"/>
                </a:solidFill>
                <a:latin typeface="Verdana"/>
              </a:rPr>
              <a:t>Profundas inequidades y brechas en la implementación del derecho a la salud de las poblaciones afrodescendientes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5"/>
          <p:cNvSpPr/>
          <p:nvPr/>
        </p:nvSpPr>
        <p:spPr>
          <a:xfrm>
            <a:off x="228600" y="2362320"/>
            <a:ext cx="4343400" cy="32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33280">
              <a:lnSpc>
                <a:spcPct val="100000"/>
              </a:lnSpc>
              <a:buClr>
                <a:srgbClr val="000000"/>
              </a:buClr>
              <a:buFont typeface="Verdana"/>
              <a:buChar char="–"/>
              <a:tabLst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Verdana"/>
                <a:ea typeface="Arial"/>
              </a:rPr>
              <a:t>La mortalidad infantil y en la niñez es más elevada entre afrodescendientes : heterogeneidad entre países y zonas geográfic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233280">
              <a:lnSpc>
                <a:spcPct val="100000"/>
              </a:lnSpc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233280">
              <a:lnSpc>
                <a:spcPct val="100000"/>
              </a:lnSpc>
              <a:buClr>
                <a:srgbClr val="000000"/>
              </a:buClr>
              <a:buFont typeface="Verdana"/>
              <a:buChar char="–"/>
              <a:tabLst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Arial"/>
              </a:rPr>
              <a:t>Mayores niveles de fecundidad y menor prevalencia en el uso de anticoncep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233280">
              <a:lnSpc>
                <a:spcPct val="100000"/>
              </a:lnSpc>
              <a:buClr>
                <a:srgbClr val="000000"/>
              </a:buClr>
              <a:buFont typeface="Verdana"/>
              <a:buChar char="–"/>
              <a:tabLst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233280">
              <a:lnSpc>
                <a:spcPct val="100000"/>
              </a:lnSpc>
              <a:buClr>
                <a:srgbClr val="000000"/>
              </a:buClr>
              <a:buFont typeface="Verdana"/>
              <a:buChar char="–"/>
              <a:tabLst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  <a:ea typeface="Arial"/>
              </a:rPr>
              <a:t>En algunos países, menos acceso a los controles pre y postnatales y a la atención profesional del parto; menor cobertura de vacunas en niños y niña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8"/>
          <p:cNvSpPr/>
          <p:nvPr/>
        </p:nvSpPr>
        <p:spPr>
          <a:xfrm>
            <a:off x="4800600" y="2209680"/>
            <a:ext cx="4038480" cy="7333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Verdana"/>
              </a:rPr>
              <a:t>Ecuador (provincias de alta concentración afrodescendientes:tasa de mortalidad infantil (por mil nacidos vivos), censo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9"/>
          <p:cNvSpPr/>
          <p:nvPr/>
        </p:nvSpPr>
        <p:spPr>
          <a:xfrm>
            <a:off x="4572000" y="6172200"/>
            <a:ext cx="4267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100" spc="-1" strike="noStrike">
                <a:solidFill>
                  <a:srgbClr val="000000"/>
                </a:solidFill>
                <a:latin typeface="Verdana"/>
              </a:rPr>
              <a:t>Fuente: CELADE, procesamientos especiales de los microdatos censal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6" name="3 Gráfico" descr=""/>
          <p:cNvPicPr/>
          <p:nvPr/>
        </p:nvPicPr>
        <p:blipFill>
          <a:blip r:embed="rId2"/>
          <a:stretch/>
        </p:blipFill>
        <p:spPr>
          <a:xfrm>
            <a:off x="4638600" y="3267000"/>
            <a:ext cx="426096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Rectangle 2" descr=""/>
          <p:cNvPicPr/>
          <p:nvPr/>
        </p:nvPicPr>
        <p:blipFill>
          <a:blip r:embed="rId1"/>
          <a:stretch/>
        </p:blipFill>
        <p:spPr>
          <a:xfrm>
            <a:off x="2889360" y="-6480"/>
            <a:ext cx="6462720" cy="1006560"/>
          </a:xfrm>
          <a:prstGeom prst="rect">
            <a:avLst/>
          </a:prstGeom>
          <a:ln w="0">
            <a:noFill/>
          </a:ln>
        </p:spPr>
      </p:pic>
      <p:sp>
        <p:nvSpPr>
          <p:cNvPr id="398" name="Rectangle 4"/>
          <p:cNvSpPr/>
          <p:nvPr/>
        </p:nvSpPr>
        <p:spPr>
          <a:xfrm>
            <a:off x="380880" y="1143000"/>
            <a:ext cx="8077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as inequidades étnicas en educación y en el empleo son contundentes, y se potencian con las de género; las brechas se mantienen tanto en zonas urbanas como rural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4"/>
          <p:cNvSpPr/>
          <p:nvPr/>
        </p:nvSpPr>
        <p:spPr>
          <a:xfrm>
            <a:off x="380880" y="3352680"/>
            <a:ext cx="38102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La maternidad adolescente de estos grupos también es más elevada, las mayores brechas étnicas se presentan antes de los 17 añ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5 CuadroTexto"/>
          <p:cNvSpPr/>
          <p:nvPr/>
        </p:nvSpPr>
        <p:spPr>
          <a:xfrm>
            <a:off x="4114800" y="6400800"/>
            <a:ext cx="441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Fuente: CELADE/CEPAL – OIJ – UNFPA, 2009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9"/>
          <p:cNvSpPr/>
          <p:nvPr/>
        </p:nvSpPr>
        <p:spPr>
          <a:xfrm>
            <a:off x="4267080" y="2286000"/>
            <a:ext cx="4648320" cy="580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Verdana"/>
              </a:rPr>
              <a:t>Porcentaje de jóvenes de 15 a 17 años que son madres,  censos 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Object 10" descr=""/>
          <p:cNvPicPr/>
          <p:nvPr/>
        </p:nvPicPr>
        <p:blipFill>
          <a:blip r:embed="rId2"/>
          <a:stretch/>
        </p:blipFill>
        <p:spPr>
          <a:xfrm>
            <a:off x="4267080" y="2895480"/>
            <a:ext cx="46278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2054160" y="225360"/>
            <a:ext cx="7327800" cy="100008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4"/>
          <p:cNvSpPr/>
          <p:nvPr/>
        </p:nvSpPr>
        <p:spPr>
          <a:xfrm>
            <a:off x="838080" y="1447920"/>
            <a:ext cx="792504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ejorar la calidad de la información censal sobre grupos étnicos y garantizar la participación de afrodescendientes en todo el proceso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. (</a:t>
            </a:r>
            <a:r>
              <a:rPr b="0" lang="es-ES" sz="1400" spc="-1" strike="noStrike">
                <a:solidFill>
                  <a:srgbClr val="3333ff"/>
                </a:solidFill>
                <a:latin typeface="Verdana"/>
              </a:rPr>
              <a:t>Proyecto CEPAL-UNICEF, tool-kit</a:t>
            </a: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)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Institucionalizar la producción y análisis de estadísticas de afrodescendientes en los sistemas estadísticos nacionales. Incluir el enfoque étnico en otras fuentes de datos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. (</a:t>
            </a:r>
            <a:r>
              <a:rPr b="0" lang="es-ES" sz="1400" spc="-1" strike="noStrike">
                <a:solidFill>
                  <a:srgbClr val="3333ff"/>
                </a:solidFill>
                <a:latin typeface="Verdana"/>
              </a:rPr>
              <a:t>Proyecto CEPAL-UNFPA-OPS, registros de salud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esarrollar instrumentos complementarios: avanzar en la construcción de indicadores de derechos colectivos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. (</a:t>
            </a:r>
            <a:r>
              <a:rPr b="0" lang="es-ES" sz="1400" spc="-1" strike="noStrike">
                <a:solidFill>
                  <a:srgbClr val="3333ff"/>
                </a:solidFill>
                <a:latin typeface="Verdana"/>
              </a:rPr>
              <a:t>Proyecto CEPAL-UNFPA: indicadores de salud reproductiva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ontinuar con actividades de difusión y capacitación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. (</a:t>
            </a:r>
            <a:r>
              <a:rPr b="0" lang="es-ES" sz="1400" spc="-1" strike="noStrike">
                <a:solidFill>
                  <a:srgbClr val="3333ff"/>
                </a:solidFill>
                <a:latin typeface="Verdana"/>
              </a:rPr>
              <a:t>Proyectos CEPAL-UNFPA y CEPAL-Fundación Ford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).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Fomentar el desarrollo de sistemas integrales y el intercambio de experiencias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1749600" y="225360"/>
            <a:ext cx="7327800" cy="1000080"/>
          </a:xfrm>
          <a:prstGeom prst="rect">
            <a:avLst/>
          </a:prstGeom>
          <a:ln w="0">
            <a:noFill/>
          </a:ln>
        </p:spPr>
      </p:pic>
      <p:sp>
        <p:nvSpPr>
          <p:cNvPr id="406" name="Rectangle 4"/>
          <p:cNvSpPr/>
          <p:nvPr/>
        </p:nvSpPr>
        <p:spPr>
          <a:xfrm>
            <a:off x="762120" y="1371600"/>
            <a:ext cx="79246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-    Persisten las inequidades entre  afrodescendientes respecto al resto de la población: las políticas deben afrontar las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Verdana"/>
              </a:rPr>
              <a:t>discriminaciones estructur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xisten brechas de implementación de los derechos de estos grupos, con niveles más profundos en algunos países que en otros y al interior de los mismos: análisis contextualizado histórica y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Verdana"/>
              </a:rPr>
              <a:t>territorialmente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Las brechas de acceso por condición étnica se potencian según el sexo, situando a las mujeres afrodescendientes en las peores situaciones: investigación y diseño de políticas deben incorporar, además,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Verdana"/>
              </a:rPr>
              <a:t>enfoque de género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Las inequidades no se eliminarán si las políticas no consideran las especificidades culturales: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Verdana"/>
              </a:rPr>
              <a:t>la participación como condición 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Verdana"/>
              </a:rPr>
              <a:t>sine qua n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Avanzar en un nuevo paradigma intercultural: garantizar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Verdana"/>
              </a:rPr>
              <a:t>los derechos de las poblaciones afrodescendientes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3"/>
          <p:cNvSpPr/>
          <p:nvPr/>
        </p:nvSpPr>
        <p:spPr>
          <a:xfrm>
            <a:off x="838080" y="685800"/>
            <a:ext cx="7543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spcAft>
                <a:spcPts val="27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Lucida Sans Unicode"/>
              </a:rPr>
              <a:t>Muchas grac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www.cepal/cel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8" name="Picture 2" descr=""/>
          <p:cNvPicPr/>
          <p:nvPr/>
        </p:nvPicPr>
        <p:blipFill>
          <a:blip r:embed="rId2"/>
          <a:stretch/>
        </p:blipFill>
        <p:spPr>
          <a:xfrm>
            <a:off x="5694480" y="3124080"/>
            <a:ext cx="941400" cy="127800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3" descr=""/>
          <p:cNvPicPr/>
          <p:nvPr/>
        </p:nvPicPr>
        <p:blipFill>
          <a:blip r:embed="rId3"/>
          <a:stretch/>
        </p:blipFill>
        <p:spPr>
          <a:xfrm>
            <a:off x="5867280" y="3505320"/>
            <a:ext cx="987480" cy="12794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6" descr=""/>
          <p:cNvPicPr/>
          <p:nvPr/>
        </p:nvPicPr>
        <p:blipFill>
          <a:blip r:embed="rId4"/>
          <a:stretch/>
        </p:blipFill>
        <p:spPr>
          <a:xfrm>
            <a:off x="4240080" y="3429000"/>
            <a:ext cx="725760" cy="111924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16" descr="Portada_Grande"/>
          <p:cNvPicPr/>
          <p:nvPr/>
        </p:nvPicPr>
        <p:blipFill>
          <a:blip r:embed="rId5"/>
          <a:stretch/>
        </p:blipFill>
        <p:spPr>
          <a:xfrm>
            <a:off x="914400" y="3276720"/>
            <a:ext cx="907920" cy="118116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2" descr=""/>
          <p:cNvPicPr/>
          <p:nvPr/>
        </p:nvPicPr>
        <p:blipFill>
          <a:blip r:embed="rId6"/>
          <a:stretch/>
        </p:blipFill>
        <p:spPr>
          <a:xfrm>
            <a:off x="4191120" y="5105520"/>
            <a:ext cx="1371600" cy="128592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5" descr=""/>
          <p:cNvPicPr/>
          <p:nvPr/>
        </p:nvPicPr>
        <p:blipFill>
          <a:blip r:embed="rId7"/>
          <a:srcRect l="0" t="6567" r="9993" b="10176"/>
          <a:stretch/>
        </p:blipFill>
        <p:spPr>
          <a:xfrm>
            <a:off x="7315200" y="3276720"/>
            <a:ext cx="1073160" cy="13716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14" descr="poblacionnew"/>
          <p:cNvPicPr/>
          <p:nvPr/>
        </p:nvPicPr>
        <p:blipFill>
          <a:blip r:embed="rId8"/>
          <a:stretch/>
        </p:blipFill>
        <p:spPr>
          <a:xfrm>
            <a:off x="1430280" y="4572000"/>
            <a:ext cx="897120" cy="117144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3" descr=""/>
          <p:cNvPicPr/>
          <p:nvPr/>
        </p:nvPicPr>
        <p:blipFill>
          <a:blip r:embed="rId9"/>
          <a:stretch/>
        </p:blipFill>
        <p:spPr>
          <a:xfrm>
            <a:off x="4546440" y="3886200"/>
            <a:ext cx="703440" cy="106668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4" descr=""/>
          <p:cNvPicPr/>
          <p:nvPr/>
        </p:nvPicPr>
        <p:blipFill>
          <a:blip r:embed="rId10"/>
          <a:stretch/>
        </p:blipFill>
        <p:spPr>
          <a:xfrm>
            <a:off x="6019920" y="3962520"/>
            <a:ext cx="1050840" cy="127620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21" descr="portada abierta AZUL liviana"/>
          <p:cNvPicPr/>
          <p:nvPr/>
        </p:nvPicPr>
        <p:blipFill>
          <a:blip r:embed="rId11"/>
          <a:srcRect l="49843" t="0" r="0" b="0"/>
          <a:stretch/>
        </p:blipFill>
        <p:spPr>
          <a:xfrm>
            <a:off x="6172200" y="4267080"/>
            <a:ext cx="977760" cy="127800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23" descr="NARANJAOCRE, Salud materno infantil"/>
          <p:cNvPicPr/>
          <p:nvPr/>
        </p:nvPicPr>
        <p:blipFill>
          <a:blip r:embed="rId12"/>
          <a:srcRect l="49843" t="0" r="0" b="0"/>
          <a:stretch/>
        </p:blipFill>
        <p:spPr>
          <a:xfrm>
            <a:off x="6324480" y="4724280"/>
            <a:ext cx="978120" cy="127800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24" descr="portada abierta ROSADA liviana"/>
          <p:cNvPicPr/>
          <p:nvPr/>
        </p:nvPicPr>
        <p:blipFill>
          <a:blip r:embed="rId13"/>
          <a:srcRect l="50231" t="0" r="0" b="0"/>
          <a:stretch/>
        </p:blipFill>
        <p:spPr>
          <a:xfrm>
            <a:off x="6553080" y="5105520"/>
            <a:ext cx="968400" cy="12794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26" descr="seminariosnew"/>
          <p:cNvPicPr/>
          <p:nvPr/>
        </p:nvPicPr>
        <p:blipFill>
          <a:blip r:embed="rId14"/>
          <a:stretch/>
        </p:blipFill>
        <p:spPr>
          <a:xfrm>
            <a:off x="2438280" y="3429000"/>
            <a:ext cx="978120" cy="127620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3" descr="F:\DCIM\100_FUJI\DSCF0176.JPG"/>
          <p:cNvPicPr/>
          <p:nvPr/>
        </p:nvPicPr>
        <p:blipFill>
          <a:blip r:embed="rId15">
            <a:lum bright="26000"/>
          </a:blip>
          <a:srcRect l="12692" t="13783" r="8030" b="5211"/>
          <a:stretch/>
        </p:blipFill>
        <p:spPr>
          <a:xfrm>
            <a:off x="2895480" y="3962520"/>
            <a:ext cx="949320" cy="12920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2" descr="F:\DCIM\100_FUJI\DSCF0173.JPG"/>
          <p:cNvPicPr/>
          <p:nvPr/>
        </p:nvPicPr>
        <p:blipFill>
          <a:blip r:embed="rId16"/>
          <a:srcRect l="49223" t="14578" r="8601" b="4169"/>
          <a:stretch/>
        </p:blipFill>
        <p:spPr>
          <a:xfrm>
            <a:off x="2971800" y="4952880"/>
            <a:ext cx="752400" cy="108612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9" descr=""/>
          <p:cNvPicPr/>
          <p:nvPr/>
        </p:nvPicPr>
        <p:blipFill>
          <a:blip r:embed="rId17"/>
          <a:srcRect l="14286" t="0" r="14286" b="0"/>
          <a:stretch/>
        </p:blipFill>
        <p:spPr>
          <a:xfrm>
            <a:off x="1752480" y="5181480"/>
            <a:ext cx="854280" cy="11955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2" descr=""/>
          <p:cNvPicPr/>
          <p:nvPr/>
        </p:nvPicPr>
        <p:blipFill>
          <a:blip r:embed="rId18"/>
          <a:stretch/>
        </p:blipFill>
        <p:spPr>
          <a:xfrm>
            <a:off x="5867280" y="1600200"/>
            <a:ext cx="205740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16:37:41Z</dcterms:created>
  <dc:creator>Alejandro Vicuña Leyton</dc:creator>
  <dc:description/>
  <dc:language>en-US</dc:language>
  <cp:lastModifiedBy>Faubus</cp:lastModifiedBy>
  <dcterms:modified xsi:type="dcterms:W3CDTF">2011-03-07T11:17:07Z</dcterms:modified>
  <cp:revision>198</cp:revision>
  <dc:subject/>
  <dc:title>Portad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rder">
    <vt:lpwstr>1710500.00000000</vt:lpwstr>
  </property>
  <property fmtid="{D5CDD505-2E9C-101B-9397-08002B2CF9AE}" pid="3" name="TemplateUrl">
    <vt:lpwstr/>
  </property>
  <property fmtid="{D5CDD505-2E9C-101B-9397-08002B2CF9AE}" pid="4" name="_SharedFileIndex">
    <vt:lpwstr/>
  </property>
  <property fmtid="{D5CDD505-2E9C-101B-9397-08002B2CF9AE}" pid="5" name="_SourceUrl">
    <vt:lpwstr/>
  </property>
  <property fmtid="{D5CDD505-2E9C-101B-9397-08002B2CF9AE}" pid="6" name="display_urn:schemas-microsoft-com:office:office#Author">
    <vt:lpwstr>Miriam ZAPATA</vt:lpwstr>
  </property>
  <property fmtid="{D5CDD505-2E9C-101B-9397-08002B2CF9AE}" pid="7" name="display_urn:schemas-microsoft-com:office:office#Editor">
    <vt:lpwstr>Miriam ZAPATA</vt:lpwstr>
  </property>
  <property fmtid="{D5CDD505-2E9C-101B-9397-08002B2CF9AE}" pid="8" name="xd_ProgID">
    <vt:lpwstr/>
  </property>
</Properties>
</file>