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4E6D-12B0-4602-B60B-C8FBCED5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op register limited to legal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FD5F-129D-4EC1-B593-9EBCF25CD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thers….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104-1E03-4F6D-AFE6-373C437C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.g. Cyprus, Finland, Portugal, Slovakia, and New Zealand), int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.g. Australia, Denmark, and the Netherlands)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6F5D-E8C8-49F2-B7DF-8CED175F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ovakia, Israel and Kyrgyzst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34A-133C-412D-98BC-28133B9E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F84-B586-4EE2-8AED-8BDEA74C9BF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son Schachter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29B82A0-04C5-409D-A53C-E8D6BCFF1D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1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3399"/>
                </a:solidFill>
                <a:latin typeface="Arial"/>
              </a:rPr>
              <a:t>United Nations Economic Commission for Europe 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Hard-to-Count Migration Populations: Importance, Definitions, and Categ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on Schachter, Statist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Committee on the Protection of the Rights of All Migrant Workers and Members of their Families (CMW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 of General Discussion on “the role of migration statistics for treaty reporting and migration policies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neva, April 22,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countries provided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ylum seekers are foreigners who have applied for refugee status and are awaiting a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1E12-0E9F-4AE5-A03A-D2F048C0674D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reported a definition in-line with UNH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se broader interpretation to include asylum applicants under internation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6382-95A9-4E75-BB1D-520C12C99D81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ourc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000" y="1483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suses and population registers, visa and border control data, as well as some household and passenger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term migrants &amp; refugees most fre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lar and transit migrants least fre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regular migrants and/or trafficked persons: border control information, police reports, and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594-C8BD-4866-A5F6-51B7758BC019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A5B4-4949-457A-8084-89DDBA52BE92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able 4" descr=""/>
          <p:cNvPicPr/>
          <p:nvPr/>
        </p:nvPicPr>
        <p:blipFill>
          <a:blip r:embed="rId1"/>
          <a:stretch/>
        </p:blipFill>
        <p:spPr>
          <a:xfrm>
            <a:off x="390600" y="1006560"/>
            <a:ext cx="7412040" cy="5248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539640" y="55008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Number of countries and sources used to provide counts or estimates of hard-to-count migran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untries could provide more than one source per migran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99A-14DC-45A0-9D61-394A3385D9C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Relevance of Group and Difficulty of Estimation, All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6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ountry-Specific Relevance and Difficulties in Estimation of Irregular Mi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D838-05E6-4ECB-99CF-59655DB4E704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590400" y="1628640"/>
            <a:ext cx="7920360" cy="4492800"/>
            <a:chOff x="590400" y="1628640"/>
            <a:chExt cx="7920360" cy="4492800"/>
          </a:xfrm>
        </p:grpSpPr>
        <p:pic>
          <p:nvPicPr>
            <p:cNvPr id="145" name="Picture 10" descr=""/>
            <p:cNvPicPr/>
            <p:nvPr/>
          </p:nvPicPr>
          <p:blipFill>
            <a:blip r:embed="rId1"/>
            <a:stretch/>
          </p:blipFill>
          <p:spPr>
            <a:xfrm>
              <a:off x="590400" y="1628640"/>
              <a:ext cx="2097000" cy="23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1" descr=""/>
            <p:cNvPicPr/>
            <p:nvPr/>
          </p:nvPicPr>
          <p:blipFill>
            <a:blip r:embed="rId2"/>
            <a:stretch/>
          </p:blipFill>
          <p:spPr>
            <a:xfrm>
              <a:off x="590400" y="4019040"/>
              <a:ext cx="2097000" cy="21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12"/>
            <p:cNvGrpSpPr/>
            <p:nvPr/>
          </p:nvGrpSpPr>
          <p:grpSpPr>
            <a:xfrm>
              <a:off x="2687400" y="1628640"/>
              <a:ext cx="5823360" cy="4492800"/>
              <a:chOff x="2687400" y="1628640"/>
              <a:chExt cx="5823360" cy="4492800"/>
            </a:xfrm>
          </p:grpSpPr>
          <p:pic>
            <p:nvPicPr>
              <p:cNvPr id="148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7400" y="1628640"/>
                <a:ext cx="5823360" cy="449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5826600" y="1628640"/>
                <a:ext cx="2684160" cy="12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086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s that Influence the Difficulty of Measuring Hard-to-Count Migrant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Office might have difficulty accessing administrative data from other national organ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lready produced by another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levance for a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2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7EF-B4C1-450C-9BFC-045B9FEDFD03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Goals of Proj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160" y="1752480"/>
            <a:ext cx="792468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land Working Group Task F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of hard-to-count migrants in differen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definitions of hard-to-count migrants at the national and inter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influence the data collection of hard-to-count migrant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938-1C28-42DA-A720-79F81AE179B6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are Hard-to-Count Migrant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55700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migr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ked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23F-FE68-4E5F-A3A5-D4EDCE5134A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UNECE Questionnaire on International Migration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915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from Sec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and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 of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D2FD-45B0-4052-B971-0FA3B97701EB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hort-term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6999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requently col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from international defini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nimum length of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ximum duration of st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2 month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C76-FDC3-4088-914C-F6ADDE8F8572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Circular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557360"/>
            <a:ext cx="7924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SO measured or provided a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of stay in destination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f repeate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C6A-6E5A-4C88-A373-1B53BD113D13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Irregular/Undocumented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84428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nly four countries provided an operational defin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ther definitions similar to the international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F35E-6E11-40C6-BCEF-36549ABBBBAE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Transit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ountries provided a definition or attempt to measu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iz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tition of international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tion to move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14A-AA01-4DD8-AFEC-44D547FF8D0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Trafficked persons/Smugg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920" y="15570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ffi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128-998A-4C66-ABE1-D8331314A3B8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1:16:09Z</dcterms:created>
  <dc:creator>Hansen</dc:creator>
  <dc:description/>
  <dc:language>en-US</dc:language>
  <cp:lastModifiedBy>Jason Schachter</cp:lastModifiedBy>
  <dcterms:modified xsi:type="dcterms:W3CDTF">2013-04-18T12:30:05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7480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