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BAF3-B348-4896-AB44-037CD05EE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Pop register limited to legal resid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FB9D-B017-4E43-9BBA-0FF0CDAF8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Others….environ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1874-ABB2-4C0C-A188-5D758E4EE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.g. Cyprus, Finland, Portugal, Slovakia, and New Zealand), int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.g. Australia, Denmark, and the Netherlands). ac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F75E-7F51-48DE-A988-891137133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ovakia, Israel and Kyrgyzst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C65A-7EC7-47B7-8247-222F7151E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264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92480" y="175212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264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92480" y="4020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609480"/>
            <a:ext cx="708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3960" y="4020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3960" y="175212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4020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304920" y="6324480"/>
            <a:ext cx="8381880" cy="0"/>
          </a:xfrm>
          <a:prstGeom prst="line">
            <a:avLst/>
          </a:prstGeom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B8E7-2DC7-4DC7-81B7-C2F9E637EFCA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590920" y="632448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ason Schachter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- UNECE Statistica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744B331-1F37-4DC0-8DC8-6985922B826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UNECElogoDarkBlue200px"/>
          <p:cNvPicPr/>
          <p:nvPr/>
        </p:nvPicPr>
        <p:blipFill>
          <a:blip r:embed="rId2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UNECElogoDarkBlue200px"/>
          <p:cNvPicPr/>
          <p:nvPr/>
        </p:nvPicPr>
        <p:blipFill>
          <a:blip r:embed="rId3"/>
          <a:stretch/>
        </p:blipFill>
        <p:spPr>
          <a:xfrm>
            <a:off x="7718400" y="228600"/>
            <a:ext cx="1044720" cy="1117440"/>
          </a:xfrm>
          <a:prstGeom prst="rect">
            <a:avLst/>
          </a:prstGeom>
          <a:ln w="0">
            <a:noFill/>
          </a:ln>
        </p:spPr>
      </p:pic>
      <p:sp>
        <p:nvSpPr>
          <p:cNvPr id="9" name="Line 11"/>
          <p:cNvSpPr/>
          <p:nvPr/>
        </p:nvSpPr>
        <p:spPr>
          <a:xfrm>
            <a:off x="228600" y="380880"/>
            <a:ext cx="722952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NECElogoDarkBlue200px"/>
          <p:cNvPicPr/>
          <p:nvPr/>
        </p:nvPicPr>
        <p:blipFill>
          <a:blip r:embed="rId2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752480" y="6094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6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UNECElogoDarkBlue200px"/>
          <p:cNvPicPr/>
          <p:nvPr/>
        </p:nvPicPr>
        <p:blipFill>
          <a:blip r:embed="rId3"/>
          <a:srcRect l="0" t="0" r="0" b="18196"/>
          <a:stretch/>
        </p:blipFill>
        <p:spPr>
          <a:xfrm>
            <a:off x="533520" y="533520"/>
            <a:ext cx="104436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1752480" y="6094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3399"/>
                </a:solidFill>
                <a:latin typeface="Arial"/>
              </a:rPr>
              <a:t>United Nations Economic Commission for Europe Statistical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5562720" y="6477120"/>
            <a:ext cx="335268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8686800" y="5791320"/>
            <a:ext cx="0" cy="91440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1752480" y="533520"/>
            <a:ext cx="2057400" cy="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ing Hard-to-Count Migration Populations: Importance, Definitions, and Catego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son Schachter, Statistic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ed Nations Economic Commission for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 Committee on the Protection of the Rights of All Migrant Workers and Members of their Families (CMW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y of General Discussion on “the role of migration statistics for treaty reporting and migration policies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neva, April 22, 201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Asylum Seek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ven countries provided defini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ylum seekers are foreigners who have applied for refugee status and are awaiting a respo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1197-42EC-4F1F-A826-6B60F0B79F02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Refuge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st all reported a definition in-line with UNH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use broader interpretation to include asylum applicants under international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F55F-E8FB-443B-BF7B-699719B449EC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ta Source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000" y="1483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nsuses and population registers, visa and border control data, as well as some household and passenger surv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term migrants &amp; refugees most frequ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ular and transit migrants least frequ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regular migrants and/or trafficked persons: border control information, police reports, and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08FC-BBCA-4635-8185-2311B51C4700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460E-9E00-4923-94AA-DF4C61AC32A8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Table 4" descr=""/>
          <p:cNvPicPr/>
          <p:nvPr/>
        </p:nvPicPr>
        <p:blipFill>
          <a:blip r:embed="rId1"/>
          <a:stretch/>
        </p:blipFill>
        <p:spPr>
          <a:xfrm>
            <a:off x="390600" y="1006560"/>
            <a:ext cx="7412040" cy="52480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"/>
          <p:cNvSpPr/>
          <p:nvPr/>
        </p:nvSpPr>
        <p:spPr>
          <a:xfrm>
            <a:off x="539640" y="550080"/>
            <a:ext cx="73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1: Number of countries and sources used to provide counts or estimates of hard-to-count migrant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untries could provide more than one source per migrant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72BE-9A27-452D-8B59-40363E011ACE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Relevance of Group and Difficulty of Estimation, All Count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6624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70866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Country-Specific Relevance and Difficulties in Estimation of Irregular Mig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1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9A3D-4F2B-4037-98DB-4337C8BD8681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9"/>
          <p:cNvGrpSpPr/>
          <p:nvPr/>
        </p:nvGrpSpPr>
        <p:grpSpPr>
          <a:xfrm>
            <a:off x="590400" y="1628640"/>
            <a:ext cx="7920360" cy="4492800"/>
            <a:chOff x="590400" y="1628640"/>
            <a:chExt cx="7920360" cy="4492800"/>
          </a:xfrm>
        </p:grpSpPr>
        <p:pic>
          <p:nvPicPr>
            <p:cNvPr id="145" name="Picture 10" descr=""/>
            <p:cNvPicPr/>
            <p:nvPr/>
          </p:nvPicPr>
          <p:blipFill>
            <a:blip r:embed="rId1"/>
            <a:stretch/>
          </p:blipFill>
          <p:spPr>
            <a:xfrm>
              <a:off x="590400" y="1628640"/>
              <a:ext cx="2097000" cy="23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1" descr=""/>
            <p:cNvPicPr/>
            <p:nvPr/>
          </p:nvPicPr>
          <p:blipFill>
            <a:blip r:embed="rId2"/>
            <a:stretch/>
          </p:blipFill>
          <p:spPr>
            <a:xfrm>
              <a:off x="590400" y="4019040"/>
              <a:ext cx="2097000" cy="210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Group 12"/>
            <p:cNvGrpSpPr/>
            <p:nvPr/>
          </p:nvGrpSpPr>
          <p:grpSpPr>
            <a:xfrm>
              <a:off x="2687400" y="1628640"/>
              <a:ext cx="5823360" cy="4492800"/>
              <a:chOff x="2687400" y="1628640"/>
              <a:chExt cx="5823360" cy="4492800"/>
            </a:xfrm>
          </p:grpSpPr>
          <p:pic>
            <p:nvPicPr>
              <p:cNvPr id="148" name="Picture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2687400" y="1628640"/>
                <a:ext cx="5823360" cy="449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5826600" y="1628640"/>
                <a:ext cx="2684160" cy="123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086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s that Influence the Difficulty of Measuring Hard-to-Count Migrants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stical Office might have difficulty accessing administrative data from other national organiz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lready produced by another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relevance for a coun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2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A2EC-7DC1-425E-B461-CEC9CA719EBB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Goals of Proje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160" y="1752480"/>
            <a:ext cx="792468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land Working Group Task Fo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vance of hard-to-count migrants in differen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definitions of hard-to-count migrants at the national and internat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that influence the data collection of hard-to-count migrant pop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365A-216E-453A-9F96-EA7CC2840538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are Hard-to-Count Migrant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155700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-term migr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ular 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 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 mi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ked per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lum see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551B-C6EB-47D7-995D-9FAAE5C56D15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UNECE Questionnaire on International Migration Statist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000" y="1915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 from Section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ed in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ECE and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estions o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ev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rs of estim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C8DD-02CE-4AC4-BD9A-E41C222859EF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Short-term 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169992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requently coll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ion from international defini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inimum length of st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ximum duration of st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2 month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tu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008C-B92F-4109-8D44-25B94120E241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Circular 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160" y="1557360"/>
            <a:ext cx="79246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SO measured or provided a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ion of stay in destination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of repeated m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9FE9-6517-4E85-973F-E9BB2F94E801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Irregular/Undocumented 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9640" y="184428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Only four countries provided an operational defini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Other definitions similar to the international standar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39D0-10B9-4535-A00F-A1DFB4115E92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Transit Migra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countries provided a definition or attempt to measur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aliz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etition of international mi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ntion to move on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A2DA-6714-4D66-9A0A-A006997C82E8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Arial"/>
              </a:rPr>
              <a:t>Trafficked persons/Smugg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0920" y="15570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ffi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ugg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4572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1908-45BA-4AC2-97A2-405D3EB19065}" type="datetime3">
              <a:rPr b="1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8T11:16:09Z</dcterms:created>
  <dc:creator>Hansen</dc:creator>
  <dc:description/>
  <dc:language>en-US</dc:language>
  <cp:lastModifiedBy>Jason Schachter</cp:lastModifiedBy>
  <dcterms:modified xsi:type="dcterms:W3CDTF">2013-04-18T12:30:05Z</dcterms:modified>
  <cp:revision>1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1748000.00000000</vt:lpwstr>
  </property>
  <property fmtid="{D5CDD505-2E9C-101B-9397-08002B2CF9AE}" pid="3" name="TemplateUrl">
    <vt:lpwstr/>
  </property>
  <property fmtid="{D5CDD505-2E9C-101B-9397-08002B2CF9AE}" pid="4" name="_SharedFileIndex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Valerie MYTNIK</vt:lpwstr>
  </property>
  <property fmtid="{D5CDD505-2E9C-101B-9397-08002B2CF9AE}" pid="7" name="display_urn:schemas-microsoft-com:office:office#Editor">
    <vt:lpwstr>Valerie MYTNIK</vt:lpwstr>
  </property>
  <property fmtid="{D5CDD505-2E9C-101B-9397-08002B2CF9AE}" pid="8" name="xd_ProgID">
    <vt:lpwstr/>
  </property>
</Properties>
</file>