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925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4A0-2FCF-40B7-B830-0C2300CA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90A-81A4-449E-8DFD-18CFF09C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1C2-3BDA-4C15-AD4D-1DB8976C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E8C-614A-41B4-BBAC-F813C231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B7D0-5B72-444E-8C0B-65DA980F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70F0-9A97-4951-9296-7FB455C3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05C1-52BC-401B-BE36-38982207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0388-AE56-45D5-AFA7-672331F7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DC45-C734-4472-89F1-1873D92D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E5A1-79A1-4477-A6B0-4588F9C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1CCD-02E0-4A97-B025-B56221F6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25D-7D73-4727-B2BC-6FFD83FA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250E-BEED-4D7B-8837-A005448C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2AA1-4541-43FE-BC90-1CFF657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90ED-E272-429A-B128-B31BB95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BF7E-9F56-4A2F-AC97-52744553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79680"/>
            <a:ext cx="264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4CA4-21DD-48FB-A23E-658EB58D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425-37D7-451B-8C1C-68F405CE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79D-4F55-4622-8E76-AA394A7A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521-9DAC-46E0-96D1-230529FA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22C-1C14-49B3-9154-745D0B7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69F-0136-47DD-AB88-038DD21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7968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0C6-7FAD-4B81-9DBD-7678012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46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79680"/>
            <a:ext cx="8229600" cy="20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87E-2EF8-465F-BAE4-4FA142E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4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276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27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1276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22D-E63E-4108-973A-F5C4552D6EB9}" type="datetime3">
              <a:rPr b="0" lang="en-GB" sz="1400" spc="-1" strike="noStrike">
                <a:solidFill>
                  <a:srgbClr val="01276e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276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63D-67C3-4F72-A522-7EB275098339}" type="slidenum">
              <a:rPr b="0" lang="en-US" sz="1400" spc="-1" strike="noStrike">
                <a:solidFill>
                  <a:srgbClr val="0127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RA_logo_en_PP"/>
          <p:cNvPicPr/>
          <p:nvPr/>
        </p:nvPicPr>
        <p:blipFill>
          <a:blip r:embed="rId2"/>
          <a:stretch/>
        </p:blipFill>
        <p:spPr>
          <a:xfrm>
            <a:off x="179280" y="115920"/>
            <a:ext cx="207324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40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A_logo_en_PP"/>
          <p:cNvPicPr/>
          <p:nvPr/>
        </p:nvPicPr>
        <p:blipFill>
          <a:blip r:embed="rId2"/>
          <a:stretch/>
        </p:blipFill>
        <p:spPr>
          <a:xfrm>
            <a:off x="179280" y="115920"/>
            <a:ext cx="2073240" cy="907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276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2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27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276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d4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BBEB-C4C6-4643-AF31-088B4D2205C2}" type="slidenum">
              <a:rPr b="0" lang="en-US" sz="1400" spc="-1" strike="noStrike">
                <a:solidFill>
                  <a:srgbClr val="ffd40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ra.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116000" y="2565360"/>
            <a:ext cx="691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276e"/>
                </a:solidFill>
                <a:latin typeface="Arial"/>
              </a:rPr>
              <a:t>Separated, asylum-seeking children in the EU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76e"/>
                </a:solidFill>
                <a:latin typeface="Arial"/>
              </a:rPr>
              <a:t>Living conditions and legal procedures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1F7-6040-4249-BB13-5C1806B241A7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F3B4-C05C-40D9-BE7C-B444F8EDC2F7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Relig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ource of motivation and support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some children complained that religious needs not taken seriously 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n some MS Muslim children questioned whether food conformed to religious requirements</a:t>
            </a:r>
            <a:r>
              <a:rPr b="0" lang="en-GB" sz="16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Importance of Leisure Activities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strength and distraction from negative thoughts: mostly available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complaints of lack of financial resources to have access (ex. sport facilities)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watching TV and access to the Internet: pass-time activities and sources of information – often the only ones children could afford)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some children no access to the media/not frequently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lack of pocket money reduces possibilities for social interactio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0A4-4CEE-4084-BBA8-9B566FDBFD41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6653-4C9D-440A-8599-82738F3831E5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Social workers</a:t>
            </a:r>
            <a:br>
              <a:rPr sz="5400"/>
            </a:b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Positive role of care workers:</a:t>
            </a: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most MS children satisfied with level of care and support provid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, for adults in most countries the number, qualifications and training of social workers (particularly in reception centers) should be improv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raining required on the specific needs of these childre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4E45-A66A-4DEE-A7D4-969552F34372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0D4E-8D4C-4D14-A218-3555169C5A6B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Health Care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29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Mixed experiences: most children had positive experienc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but problems were also identified, e.g.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adequate medical screening and health assessment upon arrival in some MS or no assessment at all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ases of denial of specialist medical treatm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Need for better psychological suppor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terpretation often not adequat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ome girls noted they would prefer female doctors, but this wish could not always be accommodat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3DB-8914-46CA-B8D3-169AC85F20AD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79FE-EBFA-46F5-AC83-3CA226C76E04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n most MS efforts to place children in main stream educa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lthough for children placed in large accommodation centers this often not the cas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difficulties in mainstream school enrolment frequ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reception centers education mainly consisting of language courses, and children asking for more hou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ome adults express concerns re. school attenda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sufficient and child-friendly information about educational opt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5A4-90BF-4B4C-9071-3699708587AE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F1F-7F34-47CD-B94C-03D8DDDDE1D3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Social Interac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All children expressed strong desire to interact more with peers from the host society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lthough some children indicated they were more comfortable with people from their own country/ethnicity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mportant motivation for language learning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ost children living in accommodation centers no friends from the local community – those who have feel more accepted/integrat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practical barriers such as lack of adequate pocket money and early evening care few in accommoda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00F6-0CF5-47B5-9C2D-9C902A6B12F4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40D-7F0C-4BF3-AADE-B3BD52557C2A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Discrimination/Mistreatmen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Research not designed to address particularly sensitive issues and few children or adults spoke about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reported verbal and physical abuse by the police and other official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frequently asked to repeat the details of traumatic experiences to assess the validity and consistency of their applicat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mostly offended about not being taken seriously or being accused of lying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imited possibilities of redress for the children or lack of information for the children about their existe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DBEE-226B-4E45-87B4-07DEFA9D4175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8AB-0A64-4B58-8C28-65A89C81CFA9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1276e"/>
                </a:solidFill>
                <a:latin typeface="Arial"/>
              </a:rPr>
              <a:t>Legal Issues and Procedures</a:t>
            </a:r>
            <a:br>
              <a:rPr sz="4000"/>
            </a:b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Emerged as being of primary importance for the childre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often uninformed about their rights and the proceedings concerning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quiries addressed to children sometimes are not child friendly or culturally sensitive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no standard practice to have legal advisors present at interviews and official interrogat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oncern expressed about the children’s access to free and quality legal aid with regard to the various procedur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18E-B342-4087-BB45-7FDA6577C49F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A68B-93EB-4C36-A947-362BD6F79638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Legal Guardianship/Legal Represent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656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Provision of legal guardianship and representation valu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ost children unaware of whether they have a guardian, who that person is, or the responsibilities attached to the func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adults believe they are the guardians when this is not the case/unaware of provisions and duti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dults referred to delays in assigning a guardian and children complained as to the frequency of contacts with guardian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adequate training and qualification of legal reps. and lack of professional interpreta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2009-D48B-4A6D-872F-6991862BA3F9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ED40-DC3D-4755-B6C4-AD739A2E2DCB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Age assessment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A variety of methods applied, including documentary evide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, medical tests frequent and lack of certainty about: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applicable tests and the qualifications required by those conducting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steps to inform the children of the procedure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obtaining of the child’s informed cons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ppeal mechanisms against age assessments often unavailabl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0A2-7983-4A79-ABC5-7BF917C4788E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438-0046-41E8-9975-BB61C92FC9DF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Family Tracing and Reunific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656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Most children wish to be reunited with their family 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However: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information on professional family tracing and on who can assist the children is frequen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uccessful family tracing rare and children’s wish for tracing often not acted up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ssistance by the ICRC and Red Cross’ National Societies tracing and message services highlight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ome children distrust the procedures and fear that if their family is found their asylum claim may fail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1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5D33-DA98-484D-B882-D2F20591684B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A083-9E2F-41BA-8B35-D7D9A00DF881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85360" y="2565000"/>
            <a:ext cx="8558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6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Established 15 February 2007 in Vienna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6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Providing </a:t>
            </a:r>
            <a:r>
              <a:rPr b="1" lang="en-GB" sz="2400" spc="-1" strike="noStrike">
                <a:solidFill>
                  <a:srgbClr val="215698"/>
                </a:solidFill>
                <a:latin typeface="Arial"/>
              </a:rPr>
              <a:t>evidence based </a:t>
            </a: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assistance and expertise on issues of fundamental rights to EU institutions and MSs when implementing EU law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6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15698"/>
                </a:solidFill>
                <a:latin typeface="Arial"/>
              </a:rPr>
              <a:t>Since 2007 collecting data and reporting on child rights issue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215698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5698"/>
                </a:solidFill>
                <a:latin typeface="Arial"/>
              </a:rPr>
              <a:t>Rights of the child a key issue (MAF)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428840" y="1557360"/>
            <a:ext cx="6143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698"/>
                </a:solidFill>
                <a:latin typeface="Arial"/>
              </a:rPr>
              <a:t>The FRA:</a:t>
            </a:r>
            <a:r>
              <a:rPr b="1" lang="en-US" sz="24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15698"/>
                </a:solidFill>
                <a:latin typeface="Arial"/>
              </a:rPr>
              <a:t>backgrou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80E9-D34E-4494-A730-2F0C66D58F37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F5FF-95B4-4225-BBA1-E8CDDCE7334C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Asylum procedure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The children were very eager to discuss the asylum procedure in most countri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ong duration of legal status determination leads to feelings of uncertainty, insecurity and lack of prospect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the children often lack of information about the role of the different persons involved in the asylum procedure (interviewers, legal guardians, advisers)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any children frustrated by the time allocated to discussing their case with legal advise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ack of adequate interpreters or knowledge of the dialect spoken by the children, some children expressed doubts about the impartiality of interprete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E02-D3CE-4955-B46B-60B67186E678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6DC4-7CAC-4D0C-B23C-6035C12B4693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Deten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Only a few children were interviewed during detention, but other spoke of earlier experiences of deten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Not easy for children to understand why they are ‘locked up’ if they have not committed a crime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children systematically detained upon arrival until their age is establish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dults and children claimed in a number of MS that no legal advice or any form of counselling was available during deten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In some MS children claimed they had experienced verbal and physical abuse during detentio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70D-0D6D-4504-A0F0-C4026741B1FE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F52-F4A7-4D5E-B57C-F26EDF2735D7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276e"/>
                </a:solidFill>
                <a:latin typeface="Arial"/>
              </a:rPr>
              <a:t>Concluding remarks</a:t>
            </a: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Experiences, views and perceptions of children differed, according to their living environment and also previous experienc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Views expressed offer valuable insight into the children’s situation and how their needs can be met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76e"/>
                </a:solidFill>
                <a:latin typeface="Arial"/>
              </a:rPr>
              <a:t>The Stockholm Programme</a:t>
            </a: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 adopted by the European Council highlights that the situation of unaccompanied children requires special attention and dedicated respons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76e"/>
                </a:solidFill>
                <a:latin typeface="Arial"/>
              </a:rPr>
              <a:t>The Stockholm Programme</a:t>
            </a:r>
            <a:r>
              <a:rPr b="0" lang="en-US" sz="2400" spc="-1" strike="noStrike">
                <a:solidFill>
                  <a:srgbClr val="01276e"/>
                </a:solidFill>
                <a:latin typeface="Arial"/>
              </a:rPr>
              <a:t> notes that the strengthening of border controls should not prevent access to protection systems by those persons entitled to benefit from them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F6CC-6E5C-4F75-9EAA-EA44A349EC73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8CE-A373-4AC6-998F-B210502E0376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276e"/>
                </a:solidFill>
                <a:latin typeface="Arial"/>
              </a:rPr>
              <a:t>The FRA</a:t>
            </a: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276e"/>
                </a:solidFill>
                <a:latin typeface="Arial"/>
              </a:rPr>
              <a:t>For further information: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ra.europa.eu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276e"/>
                </a:solidFill>
                <a:latin typeface="Arial"/>
              </a:rPr>
              <a:t>maria.estebanez@fra.europa.eu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40A8-FC53-4ABF-812A-C391F904D245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67BA-6CD0-4EFB-8464-57BB766DE359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European Commission request (2008) supporting the objectives set up in the 2006 Commission Communicatio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276e"/>
                </a:solidFill>
                <a:latin typeface="Arial"/>
              </a:rPr>
              <a:t>Specific FRA Indicator Group: adaptability of immigration processes to the vulnerabilities of separated childre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The work on the Indicators identified two types of situations of particular vulnerability: 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Trafficked children: (July 2009) FRA report on </a:t>
            </a:r>
            <a:r>
              <a:rPr b="1" lang="en-GB" sz="2000" spc="-1" strike="noStrike">
                <a:solidFill>
                  <a:srgbClr val="01276e"/>
                </a:solidFill>
                <a:latin typeface="Arial"/>
              </a:rPr>
              <a:t>‘Child Trafficking in the EU’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Third country nationals/stateless separated from both parents or primary carer in EU Member States: (April 2010) summary </a:t>
            </a:r>
            <a:r>
              <a:rPr b="1" lang="en-GB" sz="2000" spc="-1" strike="noStrike">
                <a:solidFill>
                  <a:srgbClr val="01276e"/>
                </a:solidFill>
                <a:latin typeface="Arial"/>
              </a:rPr>
              <a:t>report on separated, asylum-seeking children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addressing ‘challenges’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92360" y="1123920"/>
            <a:ext cx="558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FRA development of</a:t>
            </a:r>
            <a:r>
              <a:rPr b="1" lang="en-GB" sz="48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EU child rights indicators</a:t>
            </a:r>
            <a:r>
              <a:rPr b="1" lang="en-GB" sz="32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1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77FB-E0F1-4AB6-BBA7-9D95F78A62C5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6D69-48E9-40C4-9415-D5554B89088E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Separated, asylum seeking children in EU Member States’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276e"/>
                </a:solidFill>
                <a:latin typeface="Arial"/>
              </a:rPr>
              <a:t>Rights based approach: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nvolves children directly in the research through interviews (child participation, Article 12 CRC)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nvolves also, the views, experiences and perspectives of officials and other staff dealing with the children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is a critical means to assess the adequacy of current practices and to identify the changes necessary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aims to provide a valuable insight into children's views and perspectives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* 12 EU MSs covered: Austria, Belgium, Cyprus, France, Hungary, Italy, Malta, The Netherlands, Poland, Spain, Sweden and the United Kingdom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Complements the European Migration Network study covering legal provisions and policies for unaccompanied minors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443-0C99-494A-A5BF-8E46E37F1CB0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49FB-B585-42A1-9B17-B4B361FAFD66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Subject of the report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Separated children</a:t>
            </a: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’: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 ‘those children separated from both parents, or from their previous legal or customary primary care-giver’ - more inclusive than ‘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unaccompanied minors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’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Separated, asylum-seeking’: stateless or third country nationals staying in the country under host state care (not always claiming asylum) mainly over 14 years ol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Refers to relevant CRC provisions and EU legislation in its references to the protection of unaccompanied minor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Considerations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 as to how the needs of the children can be addresse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F64C-1E2E-4F58-81B0-CB0DBC445F4E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3BA-D19A-4CA5-9BB8-17077412962F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Areas covered</a:t>
            </a:r>
            <a:br>
              <a:rPr sz="2800"/>
            </a:b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Living Conditions</a:t>
            </a:r>
            <a:r>
              <a:rPr b="0" lang="en-GB" sz="2000" spc="-1" strike="noStrike">
                <a:solidFill>
                  <a:srgbClr val="01276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accommodation and boarding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recreation and leisure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social workers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healthcare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social interac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discrimination and other forms of mistreatment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Legal Issues and Procedures</a:t>
            </a:r>
            <a:endParaRPr b="0" lang="en-US" sz="20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legal guardianship and legal representa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age assessment qualifying a person as ‘child’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family tracing and reunifica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the asylum procedure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276e"/>
                </a:solidFill>
                <a:latin typeface="Arial"/>
              </a:rPr>
              <a:t>detention</a:t>
            </a:r>
            <a:endParaRPr b="0" lang="en-US" sz="18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D1A5-DA07-4AB6-8CA0-CBF361ED6312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778C-C352-43E0-85CE-72445B5CF823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276e"/>
                </a:solidFill>
                <a:latin typeface="Arial"/>
              </a:rPr>
              <a:t>Views on living conditions</a:t>
            </a:r>
            <a:endParaRPr b="0" lang="en-US" sz="40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276e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215698"/>
                </a:solidFill>
                <a:latin typeface="Arial"/>
              </a:rPr>
              <a:t>Accommodation and boarding</a:t>
            </a: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: small-scale preferred to large scale,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foster care and semi-autonomous living preferred for younger children and children over 16 respectively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: detention facilities, closed accommodation facilities, hotels and hostels, mixed housing of children and unrelated adults considered entirely inappropriate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* Overcrowding and sanitary conditions identified as a problem in some facilitie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E68-6A21-4ACE-9D15-ABBC21268041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65A-6D6E-4B7E-80FD-833B9815A1B3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Location of accommodation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preferred living in larger urban areas, while adults held differing opinions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Initial Reception Centers:</a:t>
            </a:r>
            <a:r>
              <a:rPr b="0" lang="en-GB" sz="3200" spc="-1" strike="noStrike">
                <a:solidFill>
                  <a:srgbClr val="01276e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iving conditions often considered unsatisfactory (re. lack of privacy, food and care standards, access to health care, education, leisure activities and electronic media – TV and Internet)</a:t>
            </a:r>
            <a:r>
              <a:rPr b="0" lang="en-GB" sz="3200" spc="-1" strike="noStrike">
                <a:solidFill>
                  <a:srgbClr val="01276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569-9DA0-425F-9717-110A570C5DAA}" type="datetime3">
              <a:rPr b="0" lang="en-GB" sz="1400" spc="-1" strike="noStrike">
                <a:solidFill>
                  <a:srgbClr val="01276e"/>
                </a:solidFill>
                <a:latin typeface="Arial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C84-F945-457E-A248-6E44467899F3}" type="slidenum">
              <a:rPr b="0" lang="en-US" sz="1400" spc="-1" strike="noStrike">
                <a:solidFill>
                  <a:srgbClr val="01276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698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1276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Important issue for the children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Regarding the forms of provision: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more liked: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access to kitchen facilities – and pocket money to buy food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27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less liked: institutionalised provision of meals and luncheon vouchers 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Quality and quantity: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children not provided with as much food as wanted in a number of MS and sometimes complaining about meal timing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276e"/>
                </a:solidFill>
                <a:latin typeface="Arial"/>
              </a:rPr>
              <a:t>Consideration of cultural habits: </a:t>
            </a:r>
            <a:r>
              <a:rPr b="0" lang="en-GB" sz="2400" spc="-1" strike="noStrike">
                <a:solidFill>
                  <a:srgbClr val="01276e"/>
                </a:solidFill>
                <a:latin typeface="Arial"/>
              </a:rPr>
              <a:t>food familiar to them rarely available (good practice: country of origin cooks)</a:t>
            </a:r>
            <a:endParaRPr b="0" lang="en-US" sz="2400" spc="-1" strike="noStrike">
              <a:solidFill>
                <a:srgbClr val="0127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8:25:48Z</dcterms:created>
  <dc:creator>amiltsos</dc:creator>
  <dc:description/>
  <dc:language>en-US</dc:language>
  <cp:lastModifiedBy>Mayola Lidome</cp:lastModifiedBy>
  <dcterms:modified xsi:type="dcterms:W3CDTF">2012-09-11T13:39:51Z</dcterms:modified>
  <cp:revision>214</cp:revision>
  <dc:subject/>
  <dc:title>Implementation of the Budg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rder">
    <vt:lpwstr>1723400.00000000</vt:lpwstr>
  </property>
  <property fmtid="{D5CDD505-2E9C-101B-9397-08002B2CF9AE}" pid="4" name="Tags">
    <vt:lpwstr>executive board</vt:lpwstr>
  </property>
  <property fmtid="{D5CDD505-2E9C-101B-9397-08002B2CF9AE}" pid="5" name="TemplateUrl">
    <vt:lpwstr/>
  </property>
  <property fmtid="{D5CDD505-2E9C-101B-9397-08002B2CF9AE}" pid="6" name="_SharedFileIndex">
    <vt:lpwstr/>
  </property>
  <property fmtid="{D5CDD505-2E9C-101B-9397-08002B2CF9AE}" pid="7" name="_SourceUrl">
    <vt:lpwstr/>
  </property>
  <property fmtid="{D5CDD505-2E9C-101B-9397-08002B2CF9AE}" pid="8" name="display_urn:schemas-microsoft-com:office:office#Author">
    <vt:lpwstr>Valerie MYTNIK</vt:lpwstr>
  </property>
  <property fmtid="{D5CDD505-2E9C-101B-9397-08002B2CF9AE}" pid="9" name="display_urn:schemas-microsoft-com:office:office#Editor">
    <vt:lpwstr>Valerie MYTNIK</vt:lpwstr>
  </property>
  <property fmtid="{D5CDD505-2E9C-101B-9397-08002B2CF9AE}" pid="10" name="xd_ProgID">
    <vt:lpwstr/>
  </property>
</Properties>
</file>