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9250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F9E-5220-4BDE-BEEC-76AF1AEC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1F6-8705-4958-BBC6-BE2EB902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7DD-5D1E-49B8-B068-E3B55185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A46-1AC6-47A3-A629-F0F394A7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5ED3-8EBB-49C4-9DB9-6E979D2B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E61E-EEF4-423F-9709-EAFC8B13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55A6-379E-4660-834F-486511C0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DF03-1E9D-4F81-9A26-B86DF9A6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B600-4E7D-4C1F-A679-E49DC0B1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7D38-6E2D-4254-A7C9-74EDC9DF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4E9F-C538-4B28-A309-67B11CB5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2CE-EE58-48EF-8A5B-671EB004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EDEC-7C2C-4941-BD16-8427F37B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0601-7342-42E1-B371-ADE8BCB8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C864-DE6D-497F-8771-1FC8F161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6CE7-C08A-433A-8495-CC36056D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BDA2-BFED-419A-8B0B-96EDCD55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917-B76C-4AD9-9CEC-F5A76E78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C9B-E07F-4EB2-A075-181827D8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B42-38D2-42C0-A25E-0DD5A515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802-E8BB-452A-ABC2-97E3C3CE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F7C-3766-446C-BE51-B8B94F63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966-448E-4D6C-8B57-A6B5B4BC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755-68B0-4796-8702-5F051E6B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40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276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127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127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127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1276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F9D1-3EF8-4D4D-8B14-D0CA236B6E53}" type="datetime3">
              <a:rPr b="0" lang="en-GB" sz="1400" spc="-1" strike="noStrike">
                <a:solidFill>
                  <a:srgbClr val="01276e"/>
                </a:solidFill>
                <a:latin typeface="Times New Roman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27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D2B8-A3D4-4012-826D-E9A53BBC1199}" type="slidenum">
              <a:rPr b="0" lang="en-US" sz="1400" spc="-1" strike="noStrike">
                <a:solidFill>
                  <a:srgbClr val="0127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FRA_logo_en_PP"/>
          <p:cNvPicPr/>
          <p:nvPr/>
        </p:nvPicPr>
        <p:blipFill>
          <a:blip r:embed="rId2"/>
          <a:stretch/>
        </p:blipFill>
        <p:spPr>
          <a:xfrm>
            <a:off x="179280" y="115920"/>
            <a:ext cx="2073240" cy="90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40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FRA_logo_en_PP"/>
          <p:cNvPicPr/>
          <p:nvPr/>
        </p:nvPicPr>
        <p:blipFill>
          <a:blip r:embed="rId2"/>
          <a:stretch/>
        </p:blipFill>
        <p:spPr>
          <a:xfrm>
            <a:off x="179280" y="115920"/>
            <a:ext cx="2073240" cy="907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276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127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127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127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d4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A849-E967-48FE-829B-9488F9F7D33B}" type="slidenum">
              <a:rPr b="0" lang="en-US" sz="1400" spc="-1" strike="noStrike">
                <a:solidFill>
                  <a:srgbClr val="ffd4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ra.europa.e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116000" y="2565360"/>
            <a:ext cx="6912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76e"/>
                </a:solidFill>
                <a:latin typeface="Arial"/>
              </a:rPr>
              <a:t>Separated, asylum-seeking children in the EU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276e"/>
                </a:solidFill>
                <a:latin typeface="Arial"/>
              </a:rPr>
              <a:t>Living conditions and legal procedures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AE28-2182-40EA-B9B8-E238002F6084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1117-7FBD-411E-9397-8ED555161F72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source of motivation and support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some children complained that religious needs not taken seriously 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In some MS Muslim children questioned whether food conformed to religious requirements</a:t>
            </a:r>
            <a:r>
              <a:rPr b="0" lang="en-GB" sz="1600" spc="-1" strike="noStrike">
                <a:solidFill>
                  <a:srgbClr val="01276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276e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Importance of Leisure Activities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strength and distraction from negative thoughts: mostly available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complaints of lack of financial resources to have access (ex. sport facilities)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watching TV and access to the Internet: pass-time activities and sources of information – often the only ones children could afford)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some children no access to the media/not frequently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lack of pocket money reduces possibilities for social interaction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49C4-086B-4E2A-B1F2-64242B6AD9AC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1716-6600-42E5-BC05-E68192D921BC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Social workers</a:t>
            </a:r>
            <a:br>
              <a:rPr sz="5400"/>
            </a:b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Positive role of care workers:</a:t>
            </a: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 most MS children satisfied with level of care and support provid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however, for adults in most countries the number, qualifications and training of social workers (particularly in reception centers) should be improv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training required on the specific needs of these childre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0B9F-05A3-4462-B763-05280FA6C381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157B-20E2-4DB6-9751-C532D3B0EB35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Health Care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29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Mixed experiences: most children had positive experience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but problems were also identified, e.g.: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ack of adequate medical screening and health assessment upon arrival in some MS or no assessment at all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ases of denial of specialist medical treatment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Need for better psychological support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terpretation often not adequat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Some girls noted they would prefer female doctors, but this wish could not always be accommodat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C49E-05DF-449F-B027-BC0CDB92A08F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E4A7-ACAC-4C6B-89CB-125D9DF9A387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In most MS efforts to place children in main stream educa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lthough for children placed in large accommodation centers this often not the cas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difficulties in mainstream school enrolment frequent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 some reception centers education mainly consisting of language courses, and children asking for more hour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some adults express concerns re. school attendanc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ack of sufficient and child-friendly information about educational option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4460-9261-484C-988A-6BA6107585C9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F4D9-7EA5-4FC4-B54F-15C562774195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Social Interact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All children expressed strong desire to interact more with peers from the host society: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lthough some children indicated they were more comfortable with people from their own country/ethnicity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mportant motivation for language learning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most children living in accommodation centers no friends from the local community – those who have feel more accepted/integrat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practical barriers such as lack of adequate pocket money and early evening care few in accommoda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A2E3-B3A4-4A10-9B4E-BF7ADF5DE165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81A7-7E7E-48BE-8E77-1A37BC6090CB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Discrimination/Mistreatment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Research not designed to address particularly sensitive issues and few children or adults spoke about them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However: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reported verbal and physical abuse by the police and other officials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hildren frequently asked to repeat the details of traumatic experiences to assess the validity and consistency of their application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hildren mostly offended about not being taken seriously or being accused of lying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imited possibilities of redress for the children or lack of information for the children about their existenc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CE69-86CD-4549-99AF-EB6858B10361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3124-FBC8-4D92-8498-0F41D9DAAE75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1276e"/>
                </a:solidFill>
                <a:latin typeface="Arial"/>
              </a:rPr>
              <a:t>Legal Issues and Procedures</a:t>
            </a:r>
            <a:br>
              <a:rPr sz="4000"/>
            </a:br>
            <a:endParaRPr b="0" lang="en-US" sz="40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Emerged as being of primary importance for the childre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However: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hildren often uninformed about their rights and the proceedings concerning them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quiries addressed to children sometimes are not child friendly or culturally sensitive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 some MS no standard practice to have legal advisors present at interviews and official interrogation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oncern expressed about the children’s access to free and quality legal aid with regard to the various procedure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3323-E53F-42D7-B4C0-5430891C4742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669E-81DE-4174-B328-2D89E830FB15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Legal Guardianship/Legal Representat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656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Provision of legal guardianship and representation valu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However: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most children unaware of whether they have a guardian, who that person is, or the responsibilities attached to the func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 some MS adults believe they are the guardians when this is not the case/unaware of provisions and dutie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dults referred to delays in assigning a guardian and children complained as to the frequency of contacts with guardians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ack of adequate training and qualification of legal reps. and lack of professional interpreta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5F78-AE6F-4080-A662-49222EBCA37E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99FA-4157-4D4E-8500-8C5054459795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Age assessment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A variety of methods applied, including documentary evidenc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However, medical tests frequent and lack of certainty about: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the applicable tests and the qualifications required by those conducting them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the steps to inform the children of the procedures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the obtaining of the child’s informed consent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ppeal mechanisms against age assessments often unavailabl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DBA4-8E2E-4E1B-A5A9-598DBE94D11E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B5A8-2E35-4400-8E53-6D761214EFE5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Family Tracing and Reunificat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656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Most children wish to be reunited with their family 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However: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ack of information on professional family tracing and on who can assist the children is frequent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successful family tracing rare and children’s wish for tracing often not acted up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ssistance by the ICRC and Red Cross’ National Societies tracing and message services highlight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some children distrust the procedures and fear that if their family is found their asylum claim may fail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1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5404-4B60-419E-BC56-08B4CDF343DB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1012-00ED-493A-85AD-A2EEFA8F8CF4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85360" y="2565000"/>
            <a:ext cx="8558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6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15698"/>
                </a:solidFill>
                <a:latin typeface="Arial"/>
              </a:rPr>
              <a:t>Established 15 February 2007 in Vienna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6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15698"/>
                </a:solidFill>
                <a:latin typeface="Arial"/>
              </a:rPr>
              <a:t>Providing </a:t>
            </a:r>
            <a:r>
              <a:rPr b="1" lang="en-GB" sz="2400" spc="-1" strike="noStrike">
                <a:solidFill>
                  <a:srgbClr val="215698"/>
                </a:solidFill>
                <a:latin typeface="Arial"/>
              </a:rPr>
              <a:t>evidence based </a:t>
            </a:r>
            <a:r>
              <a:rPr b="0" lang="en-GB" sz="2400" spc="-1" strike="noStrike">
                <a:solidFill>
                  <a:srgbClr val="215698"/>
                </a:solidFill>
                <a:latin typeface="Arial"/>
              </a:rPr>
              <a:t>assistance and expertise on issues of fundamental rights to EU institutions and MSs when implementing EU law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6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15698"/>
                </a:solidFill>
                <a:latin typeface="Arial"/>
              </a:rPr>
              <a:t>Since 2007 collecting data and reporting on child rights issues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215698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15698"/>
                </a:solidFill>
                <a:latin typeface="Arial"/>
              </a:rPr>
              <a:t>Rights of the child a key issue (MAF)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428840" y="1557360"/>
            <a:ext cx="6143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698"/>
                </a:solidFill>
                <a:latin typeface="Arial"/>
              </a:rPr>
              <a:t>The FRA:</a:t>
            </a:r>
            <a:r>
              <a:rPr b="1" lang="en-US" sz="24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15698"/>
                </a:solidFill>
                <a:latin typeface="Arial"/>
              </a:rPr>
              <a:t>backgrou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47BF-56BA-422D-BB7E-8DC2E336BAEB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52B1-A345-4126-9794-2F6B72072FAF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Asylum procedure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The children were very eager to discuss the asylum procedure in most countrie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ong duration of legal status determination leads to feelings of uncertainty, insecurity and lack of prospect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the children often lack of information about the role of the different persons involved in the asylum procedure (interviewers, legal guardians, advisers)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many children frustrated by the time allocated to discussing their case with legal adviser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ack of adequate interpreters or knowledge of the dialect spoken by the children, some children expressed doubts about the impartiality of interpreter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9322-F028-43A5-A8DC-DF8720DE9B3D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5412-56DA-4619-9F2E-BFBA94064E61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Detent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Only a few children were interviewed during detention, but other spoke of earlier experiences of deten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Not easy for children to understand why they are ‘locked up’ if they have not committed a crime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 some MS children systematically detained upon arrival until their age is establish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dults and children claimed in a number of MS that no legal advice or any form of counselling was available during deten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 some MS children claimed they had experienced verbal and physical abuse during deten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4E22-6A81-4AEC-AFAE-DF673996F9E7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C7F3-B016-47CB-91BC-E4A3D34C8660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276e"/>
                </a:solidFill>
                <a:latin typeface="Arial"/>
              </a:rPr>
              <a:t>Concluding remarks</a:t>
            </a:r>
            <a:endParaRPr b="0" lang="en-US" sz="40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276e"/>
                </a:solidFill>
                <a:latin typeface="Arial"/>
              </a:rPr>
              <a:t>Experiences, views and perceptions of children differed, according to their living environment and also previous experienc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276e"/>
                </a:solidFill>
                <a:latin typeface="Arial"/>
              </a:rPr>
              <a:t>Views expressed offer valuable insight into the children’s situation and how their needs can be met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276e"/>
                </a:solidFill>
                <a:latin typeface="Arial"/>
              </a:rPr>
              <a:t>The Stockholm Programme</a:t>
            </a:r>
            <a:r>
              <a:rPr b="0" lang="en-US" sz="2400" spc="-1" strike="noStrike">
                <a:solidFill>
                  <a:srgbClr val="01276e"/>
                </a:solidFill>
                <a:latin typeface="Arial"/>
              </a:rPr>
              <a:t> adopted by the European Council highlights that the situation of unaccompanied children requires special attention and dedicated response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276e"/>
                </a:solidFill>
                <a:latin typeface="Arial"/>
              </a:rPr>
              <a:t>The Stockholm Programme</a:t>
            </a:r>
            <a:r>
              <a:rPr b="0" lang="en-US" sz="2400" spc="-1" strike="noStrike">
                <a:solidFill>
                  <a:srgbClr val="01276e"/>
                </a:solidFill>
                <a:latin typeface="Arial"/>
              </a:rPr>
              <a:t> notes that the strengthening of border controls should not prevent access to protection systems by those persons entitled to benefit from them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FF8E-2800-499B-928B-4BA38525FF16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A28C-8729-4A89-A4CF-031A66D053B5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1276e"/>
                </a:solidFill>
                <a:latin typeface="Arial"/>
              </a:rPr>
              <a:t>The FRA</a:t>
            </a:r>
            <a:endParaRPr b="0" lang="en-US" sz="40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276e"/>
                </a:solidFill>
                <a:latin typeface="Arial"/>
              </a:rPr>
              <a:t>For further information: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ra.europa.eu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276e"/>
                </a:solidFill>
                <a:latin typeface="Arial"/>
              </a:rPr>
              <a:t>maria.estebanez@fra.europa.eu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7FDF-A247-4018-B698-D5DE174576F3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D741-1B8E-4818-914F-FA53ACD3AA0D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European Commission request (2008) supporting the objectives set up in the 2006 Commission Communication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276e"/>
                </a:solidFill>
                <a:latin typeface="Arial"/>
              </a:rPr>
              <a:t>Specific FRA Indicator Group: adaptability of immigration processes to the vulnerabilities of separated children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The work on the Indicators identified two types of situations of particular vulnerability: 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Trafficked children: (July 2009) FRA report on </a:t>
            </a:r>
            <a:r>
              <a:rPr b="1" lang="en-GB" sz="2000" spc="-1" strike="noStrike">
                <a:solidFill>
                  <a:srgbClr val="01276e"/>
                </a:solidFill>
                <a:latin typeface="Arial"/>
              </a:rPr>
              <a:t>‘Child Trafficking in the EU’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Third country nationals/stateless separated from both parents or primary carer in EU Member States: (April 2010) summary </a:t>
            </a:r>
            <a:r>
              <a:rPr b="1" lang="en-GB" sz="2000" spc="-1" strike="noStrike">
                <a:solidFill>
                  <a:srgbClr val="01276e"/>
                </a:solidFill>
                <a:latin typeface="Arial"/>
              </a:rPr>
              <a:t>report on separated, asylum-seeking children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 addressing ‘challenges’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92360" y="1123920"/>
            <a:ext cx="5580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FRA development of</a:t>
            </a:r>
            <a:r>
              <a:rPr b="1" lang="en-GB" sz="48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EU child rights indicators</a:t>
            </a:r>
            <a:r>
              <a:rPr b="1" lang="en-GB" sz="3200" spc="-1" strike="noStrike">
                <a:solidFill>
                  <a:srgbClr val="0127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1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3F7A-5490-4627-8FFC-C6E4234F8FD8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59A1-F795-4AE3-AF45-D4A3ECA88040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123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‘</a:t>
            </a: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Separated, asylum seeking children in EU Member States’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276e"/>
                </a:solidFill>
                <a:latin typeface="Arial"/>
              </a:rPr>
              <a:t>Rights based approach: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276e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involves children directly in the research through interviews (child participation, Article 12 CRC)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276e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involves also, the views, experiences and perspectives of officials and other staff dealing with the children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276e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is a critical means to assess the adequacy of current practices and to identify the changes necessary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276e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aims to provide a valuable insight into children's views and perspectives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* 12 EU MSs covered: Austria, Belgium, Cyprus, France, Hungary, Italy, Malta, The Netherlands, Poland, Spain, Sweden and the United Kingdom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Complements the European Migration Network study covering legal provisions and policies for unaccompanied minors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AB03-D4ED-43F9-B8E5-AEE968178359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DCA2-E0C8-44FD-8129-11159DEDD4CB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Subject of the report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507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Separated children</a:t>
            </a: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’: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 ‘those children separated from both parents, or from their previous legal or customary primary care-giver’ - more inclusive than ‘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unaccompanied minors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’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Separated, asylum-seeking’: stateless or third country nationals staying in the country under host state care (not always claiming asylum) mainly over 14 years ol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Refers to relevant CRC provisions and EU legislation in its references to the protection of unaccompanied minor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Considerations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 as to how the needs of the children can be address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4128-C8D5-434E-9359-33102ADD915C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37CA-015C-4E65-AF56-DD3B403D1EE5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Areas covered</a:t>
            </a:r>
            <a:br>
              <a:rPr sz="2800"/>
            </a:b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435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Living Conditions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accommodation and boarding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religion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recreation and leisure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social workers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healthcare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social interaction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discrimination and other forms of mistreatment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Legal Issues and Procedures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legal guardianship and legal representation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age assessment qualifying a person as ‘child’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family tracing and reunification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the asylum procedure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detention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8131-3A8B-408A-91BC-26FA428F06FB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F309-3EC5-4C54-8E6C-7FE9FC2E6D73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1276e"/>
                </a:solidFill>
                <a:latin typeface="Arial"/>
              </a:rPr>
              <a:t>Views on living conditions</a:t>
            </a:r>
            <a:endParaRPr b="0" lang="en-US" sz="40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276e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Accommodation and boarding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Positive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: small-scale preferred to large scale,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foster care and semi-autonomous living preferred for younger children and children over 16 respectively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egative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: detention facilities, closed accommodation facilities, hotels and hostels, mixed housing of children and unrelated adults considered entirely inappropriat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* Overcrowding and sanitary conditions identified as a problem in some facilitie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DA25-9715-4C97-8845-1715547A415F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E5D1-7406-4576-BA1A-E9992311852F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Location of accommodat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hildren preferred living in larger urban areas, while adults held differing opinion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Initial Reception Centers:</a:t>
            </a:r>
            <a:r>
              <a:rPr b="0" lang="en-GB" sz="32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iving conditions often considered unsatisfactory (re. lack of privacy, food and care standards, access to health care, education, leisure activities and electronic media – TV and Internet)</a:t>
            </a:r>
            <a:r>
              <a:rPr b="0" lang="en-GB" sz="3200" spc="-1" strike="noStrike">
                <a:solidFill>
                  <a:srgbClr val="0127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3C19-6769-41B2-9107-F84ED82F432B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30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9A04-10F2-4BEF-B760-55E57EFDABE5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Important issue for the childre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Regarding the forms of provision: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more liked: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ccess to kitchen facilities – and pocket money to buy foo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ess liked: institutionalised provision of meals and luncheon vouchers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Quality and quantity: 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hildren not provided with as much food as wanted in a number of MS and sometimes complaining about meal timing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Consideration of cultural habits: 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food familiar to them rarely available (good practice: country of origin cooks)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8:25:48Z</dcterms:created>
  <dc:creator>amiltsos</dc:creator>
  <dc:description/>
  <dc:language>en-US</dc:language>
  <cp:lastModifiedBy>Mayola Lidome</cp:lastModifiedBy>
  <dcterms:modified xsi:type="dcterms:W3CDTF">2012-09-11T13:39:51Z</dcterms:modified>
  <cp:revision>214</cp:revision>
  <dc:subject/>
  <dc:title>Implementation of the Budg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rder">
    <vt:lpwstr>1723400.00000000</vt:lpwstr>
  </property>
  <property fmtid="{D5CDD505-2E9C-101B-9397-08002B2CF9AE}" pid="4" name="Tags">
    <vt:lpwstr>executive board</vt:lpwstr>
  </property>
  <property fmtid="{D5CDD505-2E9C-101B-9397-08002B2CF9AE}" pid="5" name="TemplateUrl">
    <vt:lpwstr/>
  </property>
  <property fmtid="{D5CDD505-2E9C-101B-9397-08002B2CF9AE}" pid="6" name="_SharedFileIndex">
    <vt:lpwstr/>
  </property>
  <property fmtid="{D5CDD505-2E9C-101B-9397-08002B2CF9AE}" pid="7" name="_SourceUrl">
    <vt:lpwstr/>
  </property>
  <property fmtid="{D5CDD505-2E9C-101B-9397-08002B2CF9AE}" pid="8" name="display_urn:schemas-microsoft-com:office:office#Author">
    <vt:lpwstr>Valerie MYTNIK</vt:lpwstr>
  </property>
  <property fmtid="{D5CDD505-2E9C-101B-9397-08002B2CF9AE}" pid="9" name="display_urn:schemas-microsoft-com:office:office#Editor">
    <vt:lpwstr>Valerie MYTNIK</vt:lpwstr>
  </property>
  <property fmtid="{D5CDD505-2E9C-101B-9397-08002B2CF9AE}" pid="10" name="xd_ProgID">
    <vt:lpwstr/>
  </property>
</Properties>
</file>