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C8710-4C48-45DC-9CB5-269A8600C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CF8DE-ACBF-4A67-9700-FBE17F8C8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00320" y="801720"/>
            <a:ext cx="4262400" cy="31957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B7D-499A-4232-9DCB-6B7553EA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9EF-ACF1-4A81-9D30-47293BE4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4A6-D35B-4C94-93E8-4CD210EA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424-8D53-4C49-9359-5C672033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FEF-5DA6-43C2-931E-F40D9002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41F-DE8C-4514-BBB7-7BCCE762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A22-237C-4080-9169-38656EF2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D29-741E-4F5C-B52A-BFE7C804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4049-F666-4173-BA73-C0C37AD4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585-C447-4A8E-B1D3-541B72AD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A39-1C95-4172-8086-690A6C85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331-111B-44D5-8A69-1A92D229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CEBCE-02C8-4077-8FF7-855201485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cbi.nlm.nih.gov/pubmed/?term=Bartlett%20ES%5BAuthor%5D&amp;cauthor=true&amp;cauthor_uid=23748596" TargetMode="External"/><Relationship Id="rId2" Type="http://schemas.openxmlformats.org/officeDocument/2006/relationships/hyperlink" Target="http://www.ncbi.nlm.nih.gov/pubmed/?term=Trasande%20L%5BAuthor%5D&amp;cauthor=true&amp;cauthor_uid=23748596" TargetMode="External"/><Relationship Id="rId3" Type="http://schemas.openxmlformats.org/officeDocument/2006/relationships/hyperlink" Target="http://www.ncbi.nlm.nih.gov/pubmed/23748596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175680"/>
            <a:ext cx="9144000" cy="52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tee on the Rights of the Chi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’s Rights and the Environ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 General Day of Discu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 1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’s exposure to environmental toxic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Lilian Cor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ISDE logo.jpg"/>
          <p:cNvPicPr/>
          <p:nvPr/>
        </p:nvPicPr>
        <p:blipFill>
          <a:blip r:embed="rId1"/>
          <a:stretch/>
        </p:blipFill>
        <p:spPr>
          <a:xfrm>
            <a:off x="1574640" y="4883040"/>
            <a:ext cx="59817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y 2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ury exposure and neurologic con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88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14-year-old boy experiencing back pain, weakness, paralysis, hand tremors and weight loss, was diagnosed with Guillain-Barre syndro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treatment was not alleviating the sympt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 revealed very high mercury levels for the boy, mother and sis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 had been involved  informally in breaking fluorescent tubes to reduce waste volume, which exposed him to mercury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family was exposed by washing their clothes together, which transferred contaminants to family memb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treatment was administrated, the symptoms reversed and the patient c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is more than absence of illn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ults must ensure children develops their full capacity, enjoy quality of life and clean environments as well as protect them from environmental threa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and for generations to com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3012840"/>
            <a:ext cx="82296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E 2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niversary 1990-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ary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" descr="ISDE logo.jpg"/>
          <p:cNvPicPr/>
          <p:nvPr/>
        </p:nvPicPr>
        <p:blipFill>
          <a:blip r:embed="rId1"/>
          <a:stretch/>
        </p:blipFill>
        <p:spPr>
          <a:xfrm>
            <a:off x="1574640" y="4917960"/>
            <a:ext cx="59817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: Preventing disease  through healthy enviro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560" y="1600200"/>
            <a:ext cx="860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lobal assessment of the burden of disease from environmental ris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hildren under 5 years, up to 26% (16-38%) of all death could be prevented if environmental risks were rem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eveloping count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 number may be significantly hig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49AC8-3FCF-435B-BA60-1584A2654738}" type="slidenum"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52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not little adult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9400" y="1318680"/>
            <a:ext cx="889128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ology of development and immature detox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er life expectancy: more time to be exposed and to develop dis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and unique exposu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 exposure pathway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ception, in utero, breastfee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ratory behaviors leading to exposure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/object/mou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re and living zones, micro-environme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to the ground, higher surface area to volume ratio that adu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do not understand dange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ambulatory, adolescence “high risk” behavi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36849-2FC5-482F-8467-B260B377073D}" type="slidenum"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98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lnerability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lean environment for the weakest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9400" y="1131480"/>
            <a:ext cx="889128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the most vuln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exposed SINCE CONCEP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ection of young people of reproductive 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need healthy environments in which to grow, develop, play and lea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neurodevelopm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havior, intellectual functions and IQ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i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produc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loss and disease causes deep emotional dama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ally powerless: children have not political voic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on to protect children from environmental risks is inacceptable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risks are avoidable cause of disease and dea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07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xic exposure during all the periods of development has a deep impact on health and quality f life of children, adults, productivity and sustainable develo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oductive ag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gnant mother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borns (up to 28 days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ants (28 days to 1 year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ng children (1-4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er children (5-12)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lescents (12-18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250920" y="6308640"/>
            <a:ext cx="18730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FF8AC-62C7-484C-92A9-D6D718DA91BB}" type="datetime"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29/07/26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9C679-EE23-4CD0-981D-96246CEBDBFA}" type="slidenum"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002280" y="603360"/>
            <a:ext cx="287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r "re-emerging" potential threats to children's health and develop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7000" y="1635120"/>
            <a:ext cx="422100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limat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one deple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adi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019920" y="463680"/>
            <a:ext cx="2801880" cy="15732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8221680" y="3852720"/>
            <a:ext cx="57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WH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250920" y="455760"/>
            <a:ext cx="55324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THREATS OF CONCERN ARE RELATED TO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DIATRIC ILLN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8" descr="315"/>
          <p:cNvPicPr/>
          <p:nvPr/>
        </p:nvPicPr>
        <p:blipFill>
          <a:blip r:embed="rId1"/>
          <a:stretch/>
        </p:blipFill>
        <p:spPr>
          <a:xfrm>
            <a:off x="6083280" y="2149560"/>
            <a:ext cx="2584440" cy="169056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68" name="Rectangle 19"/>
          <p:cNvSpPr/>
          <p:nvPr/>
        </p:nvSpPr>
        <p:spPr>
          <a:xfrm>
            <a:off x="8236080" y="6283440"/>
            <a:ext cx="49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WH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7" descr="untitled"/>
          <p:cNvPicPr/>
          <p:nvPr/>
        </p:nvPicPr>
        <p:blipFill>
          <a:blip r:embed="rId2"/>
          <a:stretch/>
        </p:blipFill>
        <p:spPr>
          <a:xfrm>
            <a:off x="6083280" y="3956040"/>
            <a:ext cx="2584440" cy="23526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70" name="Rectangle 10"/>
          <p:cNvSpPr/>
          <p:nvPr/>
        </p:nvSpPr>
        <p:spPr>
          <a:xfrm>
            <a:off x="365040" y="3086280"/>
            <a:ext cx="3543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S OF CONC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419040" y="3429000"/>
            <a:ext cx="4456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 metals: Lead and mercu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stici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rine disrup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sen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cotox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s from pharmaceuticals origin in the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96840" y="1278000"/>
            <a:ext cx="31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FEF63-E182-4F75-9B54-D04E3BCC41A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EC1D5-39A8-4555-8A89-4E02BE317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680" y="333000"/>
            <a:ext cx="882000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d cost of morbidity and mortality</a:t>
            </a:r>
            <a:br>
              <a:rPr sz="3000"/>
            </a:b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 in children in the US - 2011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9480" y="1874880"/>
            <a:ext cx="866772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estimates from WHO are that abou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million children in developing countr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suff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anent brain dama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lead poison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environmentally attributable costs of lead exposure, methylmercury exposure, developmental disabilities, asthma and cancer to be $70.9 billion in 200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Bartlett ES</a:t>
            </a:r>
            <a:r>
              <a:rPr b="0" lang="en-US" sz="1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Trasande L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Eur J Public Health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2014 Feb;24(1):21-6. doi: 10.1093/eurpub/ckt063. Epub 2013 Jun 6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n important sub-registration, differences in the indicators, definitions, and age categories implemented by the different agencies that collect and report childhood health and expo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5720" y="3103200"/>
            <a:ext cx="6172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pital Garraha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ildren’s Hospita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enos Aires - Argentin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. Marisa Gaioli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274680" y="5676840"/>
            <a:ext cx="87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Hospital Garraham is the most important pediatric hospital in Argentina and Latin America 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one of the 10 best in the wor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y 1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senic in drinking wat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2520" y="1863720"/>
            <a:ext cx="87552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12-year-old girl presented migraines and hypertension, medicated since a year a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mother mentioned that the girl’s aunt and other neighbors have health problems due to arsenic present in the drinking water in the area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 found high arsenic levels in the patient’s ur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irl was advised to drink bottled water and stop using well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and arsenic levels dropped after three months and anti-hypertensive medication was withdrawn, blood tension remaining l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7:22:20Z</dcterms:created>
  <dc:creator>Lilian</dc:creator>
  <dc:description/>
  <dc:language>en-US</dc:language>
  <cp:lastModifiedBy>Microsoft Office User</cp:lastModifiedBy>
  <dcterms:modified xsi:type="dcterms:W3CDTF">2016-09-20T12:11:15Z</dcterms:modified>
  <cp:revision>275</cp:revision>
  <dc:subject/>
  <dc:title>Educare all’ambiente: formazione e insegnamento a carattere generale e specialistico in tutti gli ambienti di conoscenza e di sapere.   Tavola Rotonda: educazione e spiritualità ecologica: un altro stile di vita   </dc:title>
</cp:coreProperties>
</file>