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1C3CA-EA65-46F8-A93A-28314D75D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900" spc="-1" strike="noStrike">
                <a:solidFill>
                  <a:srgbClr val="000000"/>
                </a:solidFill>
                <a:latin typeface="Calibri"/>
              </a:rPr>
              <a:t>Emerging issues are </a:t>
            </a:r>
            <a:r>
              <a:rPr b="0" lang="es-UY" sz="900" spc="-1" strike="noStrike">
                <a:solidFill>
                  <a:srgbClr val="000000"/>
                </a:solidFill>
                <a:latin typeface="Calibri"/>
              </a:rPr>
              <a:t>new or "re-emerging" potential threats to children's health and development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Calibri"/>
              </a:rPr>
              <a:t>For some of the following, the effects have not been fully demonstrated, but there is growing evidence about potential effects on childr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Global climate change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– global warming and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ts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ffects on vectors and on vector-borne diseases, which are a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ajor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"killer"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children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 The pictures illustrate two examples of major climate events, such as hurricanes and floods (young girl in flooded area in Luanda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Ozone depletion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– and overexposure to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ltraviolet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radiation, to which children are very susceptible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Some radiations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ive cause for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great concern and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re currently the subject of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studies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Contamination by persistent organic pollutants (POPs)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– effects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ave been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emonstrated in wildlife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acute toxic effects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ave been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bserved in humans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effects of low-level exposure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re currently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under study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ndocrine disruption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– due to anthropogenic and natural compounds with endocrine effects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which have been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demonstrated in animals,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nd are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suspected in humans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Obesity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– related to environments that predispose to sedentarism and unhealthy diets in childr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Other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alibri"/>
              </a:rPr>
              <a:t>Pictures: WHO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29932-ED9A-467F-A518-E29F0FE89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00320" y="801720"/>
            <a:ext cx="4262400" cy="31957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2D3-F909-45D2-B862-01D0AEEE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3B4-EE96-472B-AE75-BC73091A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D57-1B9D-458A-ABF5-A9E9DBD3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44A-454B-4D31-B4F6-0FE581A1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C4B-D2B8-4D50-8C9D-BCE972E7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CF6-6DFA-41AB-A82A-31A3DD32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6AB-8CF2-4C17-8D00-E0507041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DA7-CF21-4B76-8DB4-B31B9334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F77-32A1-4AE7-BB91-63161468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9F8-BC33-4325-A534-8F2CF721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90F-8457-4317-AAF1-24F9CE65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A97-3F5E-4DFE-BDAC-BE1A9C3F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D52DD-2321-4055-9A73-F74BB4366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cbi.nlm.nih.gov/pubmed/?term=Bartlett%20ES[Author]&amp;cauthor=true&amp;cauthor_uid=23748596" TargetMode="External"/><Relationship Id="rId2" Type="http://schemas.openxmlformats.org/officeDocument/2006/relationships/hyperlink" Target="http://www.ncbi.nlm.nih.gov/pubmed/?term=Trasande%20L[Author]&amp;cauthor=true&amp;cauthor_uid=23748596" TargetMode="External"/><Relationship Id="rId3" Type="http://schemas.openxmlformats.org/officeDocument/2006/relationships/hyperlink" Target="http://www.ncbi.nlm.nih.gov/pubmed/23748596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75680"/>
            <a:ext cx="9144000" cy="52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tee on the Rights of the Chi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’s Rights and the Environ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General Day of Discu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 1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’s exposure to environmental toxic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Lilian Cor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ISDE logo.jpg"/>
          <p:cNvPicPr/>
          <p:nvPr/>
        </p:nvPicPr>
        <p:blipFill>
          <a:blip r:embed="rId1"/>
          <a:stretch/>
        </p:blipFill>
        <p:spPr>
          <a:xfrm>
            <a:off x="1574640" y="4883040"/>
            <a:ext cx="59817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caso 2: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ición a mercurio y enfermedad neurológ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280" y="1600200"/>
            <a:ext cx="892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ño de 14 años con dolor de espalda, debilidad importante, parálisis, temblores y perdida de peso diagnosticado con Síndrome de Guillain Bar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dicación administrada no alivia sus síntom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análisis confirman intoxicación por mercurio, también en su madre y herman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firma trabajo informal rompiendo tubos fluorescentes con mercurio para reducir el volumen del residu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amilia se expuso al lavar sus ropas transfiriendo el contamina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tamiento especifico mejoró los síntomas y logro la cura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ud es mas que la ausencia de enferme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adultos deben asegurar que los niños desarrollen su capacidad, disfruten de calidad de vida y ambientes limp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mplementar acciones para evitar la exposición tox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r ahora también asegura la salud y calidad de vi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s próximas genera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3012840"/>
            <a:ext cx="82296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E 2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niversary 1990-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" descr="ISDE logo.jpg"/>
          <p:cNvPicPr/>
          <p:nvPr/>
        </p:nvPicPr>
        <p:blipFill>
          <a:blip r:embed="rId1"/>
          <a:stretch/>
        </p:blipFill>
        <p:spPr>
          <a:xfrm>
            <a:off x="1574640" y="4917960"/>
            <a:ext cx="59817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S:  Enfermedades prevenibles mediante ambientes saludables</a:t>
            </a:r>
            <a:br>
              <a:rPr sz="3000"/>
            </a:br>
            <a:br>
              <a:rPr sz="30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ión global de la carga de enfermedad </a:t>
            </a:r>
            <a:br>
              <a:rPr sz="30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a a riesgos ambientales</a:t>
            </a:r>
            <a:br>
              <a:rPr sz="30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br>
              <a:rPr sz="2800"/>
            </a:br>
            <a:br>
              <a:rPr sz="36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5920" y="3475080"/>
            <a:ext cx="874404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niños menores de 5 años, más del 26% (16-38%) de todas las muertes son PREVENIBLES si se remueven los riesgos ambient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numero puede ser significativamente mas al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países en vías de desarrol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347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ños nos son adultos pequeñ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7800" y="1422000"/>
            <a:ext cx="873288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iología de desarrollo y detoxificación inmad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r expectativa de vida: para exponerse y desarrollar enferme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ición diferente y únic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ías únicas de exposició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cepción, in utero, leche mater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rtamiento exploratorio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/objeto/bo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tura y zona donde vive, micro-ambientes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ca del suelo, mayor superficie de absorción respecto del volumen que el adul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ntienden el peligro y no pueden evitarlo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adores, comportamiento de alto riesgo del adolesc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840" y="1182600"/>
            <a:ext cx="8686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ños son los más vulnerab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uestos desde su concep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ección de los jóvenes en edad reproductiv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ños necesitan ambientes saludables donde crecer, desarrollarse, jugar y apren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-desarroll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ducta, funciones y coeficiente intelectu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5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ida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producció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pérdida y enfermedad provoca profundo daño emo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ños no tienen voz política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lnerabilidad: </a:t>
            </a:r>
            <a:br>
              <a:rPr sz="30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ambiente limpio para los más déb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acción para proteger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s niños de los riesgos ambientales es INACEPTABLE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riesgos ambientales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causa EVITABLE de enfermedad y de mue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114280"/>
            <a:ext cx="82296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xposición tóxica en todos los periodos de desarrollo tiene un profundo impacto en la salud y calidad de vida del niño, del adulto, su productividad y el desarrollo sustentab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ar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óvenes en edad reproductiva (antes de la concepción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s madres en el embaraz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recién nacido (hasta el 1 mes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lactante (1 mes a 1 año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ños pequeños (1-4 años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ños mayores (5-12 años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lescentes (12-18 año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250920" y="6308640"/>
            <a:ext cx="18730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2B50F-5AA4-4A1B-9EE4-4EB4901FA5B3}" type="datetime"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72ED4-5FC0-498F-B2BC-122DFEC8A30D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002280" y="603360"/>
            <a:ext cx="287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000" spc="-1" strike="noStrike">
                <a:solidFill>
                  <a:srgbClr val="006600"/>
                </a:solidFill>
                <a:latin typeface="Arial"/>
                <a:ea typeface="Arial"/>
              </a:rPr>
              <a:t>Potenciales amenazas nuevas y “re-emergentes” para la salud de los nin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1635120"/>
            <a:ext cx="435744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 climático glo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eción de ozo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s radi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019920" y="463680"/>
            <a:ext cx="2801880" cy="15732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221680" y="3852720"/>
            <a:ext cx="57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WH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90360" y="71280"/>
            <a:ext cx="6435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ambientales preocupantes para la salud de los niñ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8" descr="315"/>
          <p:cNvPicPr/>
          <p:nvPr/>
        </p:nvPicPr>
        <p:blipFill>
          <a:blip r:embed="rId1"/>
          <a:stretch/>
        </p:blipFill>
        <p:spPr>
          <a:xfrm>
            <a:off x="6083280" y="2149560"/>
            <a:ext cx="2584440" cy="169056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66" name="Rectangle 19"/>
          <p:cNvSpPr/>
          <p:nvPr/>
        </p:nvSpPr>
        <p:spPr>
          <a:xfrm>
            <a:off x="8236080" y="6283440"/>
            <a:ext cx="49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WH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7" descr="untitled"/>
          <p:cNvPicPr/>
          <p:nvPr/>
        </p:nvPicPr>
        <p:blipFill>
          <a:blip r:embed="rId2"/>
          <a:stretch/>
        </p:blipFill>
        <p:spPr>
          <a:xfrm>
            <a:off x="6083280" y="3956040"/>
            <a:ext cx="2584440" cy="23526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68" name="Rectangle 10"/>
          <p:cNvSpPr/>
          <p:nvPr/>
        </p:nvSpPr>
        <p:spPr>
          <a:xfrm>
            <a:off x="365040" y="2868480"/>
            <a:ext cx="35434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ímicos preocup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250920" y="3429000"/>
            <a:ext cx="576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es pesados: plomo y mercur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guici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ruptores endocri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sén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o-tox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ímicos de origen farmacéutico en el ambien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3520" y="115236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as emerg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53DC6-A743-45D8-AE57-C2C78551B01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F9553-D986-4991-A36D-1BB4CBF65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680" y="333000"/>
            <a:ext cx="88200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 de la morbi-mortalidad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mo en niños en EEUU -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680" y="1611360"/>
            <a:ext cx="878688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S estima qu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millon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niños en países en desarroll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ren de alguna forma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ño permanente (neurotóxico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intoxicación por plo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sto de la combinación del costo atribuible a la exposición de los niños a plomo, mercurio, problemas de desarrollo, asma y cáncer en los niños solamente en la Unión Europea es de 70 mil millones de dólares en 20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Bartlett ES</a:t>
            </a:r>
            <a:r>
              <a:rPr b="0" lang="es-ES_tradnl" sz="1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es-ES_tradnl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Trasande L</a:t>
            </a: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ES_tradnl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Eur J Public Health.</a:t>
            </a: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2014 Feb;24(1):21-6. doi: 10.1093/eurpub/ckt063. Epub 2013 Jun 6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un sub-registro importante, también diferencia en los indicadores, definiciones y categorías de edad que utilizan las diferentes agencias para recolectar y reportar la información sobre salud y exposición de los niñ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43972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s de caso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pital Garraham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pital Pediátrico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enos Aires - Argentina </a:t>
            </a:r>
            <a:br>
              <a:rPr sz="36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. Marisa Gaioli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caso 1: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sénico en agua de bebida e hiperten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2960" y="1793880"/>
            <a:ext cx="8961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ña de 12 años con migraña e hipertensión, medicada desde hace un añ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dre menciona que una tía y vecinos están enfermos por consumir el agua de bebida contaminada con arsén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análisis confirman intoxicación con arsén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comienda beber agua embotellada y no consumir la loc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esión arterial y niveles de arsénico se normalizan luego de tres meses y se retira la medic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. Gaioli, 2016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7:22:20Z</dcterms:created>
  <dc:creator>Lilian</dc:creator>
  <dc:description/>
  <dc:language>en-US</dc:language>
  <cp:lastModifiedBy>Microsoft Office User</cp:lastModifiedBy>
  <dcterms:modified xsi:type="dcterms:W3CDTF">2016-09-20T12:06:19Z</dcterms:modified>
  <cp:revision>272</cp:revision>
  <dc:subject/>
  <dc:title>Educare all’ambiente: formazione e insegnamento a carattere generale e specialistico in tutti gli ambienti di conoscenza e di sapere.   Tavola Rotonda: educazione e spiritualità ecologica: un altro stile di vita   </dc:title>
</cp:coreProperties>
</file>