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3E34A-3069-4133-A018-34687F0CD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900" spc="-1" strike="noStrike">
                <a:solidFill>
                  <a:srgbClr val="000000"/>
                </a:solidFill>
                <a:latin typeface="Calibri"/>
              </a:rPr>
              <a:t>Emerging issues are </a:t>
            </a: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new or "re-emerging" potential threats to children's health and development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For some of the following, the effects have not been fully demonstrated, but there is growing evidence about potential effects on childr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UY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global warming and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ts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effects on vectors and on vector-borne diseases, which are a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ajor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"killer"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The pictures illustrate two examples of major climate events, such as hurricanes and floods (young girl in flooded area in Luanda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zone depletio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and overexposure to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ltraviolet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radiation, to which children are very susceptible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Some radiations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ive cause for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great concern and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re currently the subject of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studie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ontamination by persistent organic pollutants (POPs)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– effects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ave bee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demonstrated in wildlife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acute toxic effects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ave been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observed in huma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effects of low-level exposure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re currently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under study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Endocrine disruptio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due to anthropogenic and natural compounds with endocrine effect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which have been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demonstrated in animals,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are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suspected in huma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besity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– related to environments that predispose to sedentarism and unhealthy diets in childr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alibri"/>
              </a:rPr>
              <a:t>Pictures: WHO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B2BBD-C847-4FF6-A7B5-D8BE6A079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00320" y="801720"/>
            <a:ext cx="4262400" cy="31957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52760"/>
            <a:ext cx="502920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448-2956-4EBC-A8DF-E01AC053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587-8847-45B8-BEF8-3D5DEE2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0CE-2986-471C-80B6-04C5CE0A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C37-A78E-44FA-97F2-0C6468AB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4AE-1405-441A-8E3E-AB96BD72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263-D21F-4CEE-81FF-9352364F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369-67CF-449C-A9E3-43EB297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346-E8D8-48C4-808B-7214B231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A21-0A8D-47AC-AF39-5434D8F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0BD-C1B5-4F82-8787-80A25A2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021-D675-4298-9515-D1FA57B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6AC-5519-466A-A41F-0261D92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90C1C-DADE-4222-8BD9-BC1C96B3A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cbi.nlm.nih.gov/pubmed/?term=Bartlett%20ES[Author]&amp;cauthor=true&amp;cauthor_uid=23748596" TargetMode="External"/><Relationship Id="rId2" Type="http://schemas.openxmlformats.org/officeDocument/2006/relationships/hyperlink" Target="http://www.ncbi.nlm.nih.gov/pubmed/?term=Trasande%20L[Author]&amp;cauthor=true&amp;cauthor_uid=23748596" TargetMode="External"/><Relationship Id="rId3" Type="http://schemas.openxmlformats.org/officeDocument/2006/relationships/hyperlink" Target="http://www.ncbi.nlm.nih.gov/pubmed/2374859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75680"/>
            <a:ext cx="9144000" cy="52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 on the Rights of the Chi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Rights and the Environ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General Day of Discu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1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’s exposure to environmental toxic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Lilian Cor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SDE logo.jpg"/>
          <p:cNvPicPr/>
          <p:nvPr/>
        </p:nvPicPr>
        <p:blipFill>
          <a:blip r:embed="rId1"/>
          <a:stretch/>
        </p:blipFill>
        <p:spPr>
          <a:xfrm>
            <a:off x="1574640" y="488304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caso 2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ición a mercurio y enfermedad neurológ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1600200"/>
            <a:ext cx="892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 de 14 años con dolor de espalda, debilidad importante, parálisis, temblores y perdida de peso diagnosticado con Síndrome de Guillain Bar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cación administrada no alivia sus sínto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nálisis confirman intoxicación por mercurio, también en su madre y herman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firma trabajo informal rompiendo tubos fluorescentes con mercurio para reducir el volumen del residu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milia se expuso al lavar sus ropas transfiriendo el contamina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especifico mejoró los síntomas y logro la cur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ud es mas que la ausencia de enferme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dultos deben asegurar que los niños desarrollen su capacidad, disfruten de calidad de vida y ambientes limp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mplementar acciones para evitar la exposición tox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r ahora también asegura la salud y calidad de vi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próximas genera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3012840"/>
            <a:ext cx="82296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DE 2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iversary 1990-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" descr="ISDE logo.jpg"/>
          <p:cNvPicPr/>
          <p:nvPr/>
        </p:nvPicPr>
        <p:blipFill>
          <a:blip r:embed="rId1"/>
          <a:stretch/>
        </p:blipFill>
        <p:spPr>
          <a:xfrm>
            <a:off x="1574640" y="4917960"/>
            <a:ext cx="598176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:  Enfermedades prevenibles mediante ambientes saludables</a:t>
            </a:r>
            <a:br>
              <a:rPr sz="3000"/>
            </a:b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ón global de la carga de enfermedad 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a a riesgos ambientales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br>
              <a:rPr sz="2800"/>
            </a:br>
            <a:br>
              <a:rPr sz="36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920" y="3475080"/>
            <a:ext cx="874404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iños menores de 5 años, más del 26% (16-38%) de todas las muertes son PREVENIBLES si se remueven los riesgos ambien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numero puede ser significativamente mas al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países en vías de desarrol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347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os son adultos pequeñ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7800" y="1422000"/>
            <a:ext cx="873288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iología de desarrollo y detoxificación inmad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r expectativa de vida: para exponerse y desarrollar enferme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ición diferente y únic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as únicas de exposición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cepción, in utero, leche mater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rtamiento exploratorio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/objeto/bo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tura y zona donde vive, micro-ambientes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ca del suelo, mayor superficie de absorción respecto del volumen que el adul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tienden el peligro y no pueden evitarlo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adores, comportamiento de alto riesgo del adolesc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118260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son los más vulnerab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uestos desde su concep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ección de los jóvenes en edad reproductiv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ecesitan ambientes saludables donde crecer, desarrollarse, jugar y apren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-desarroll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ducta, funciones y coeficiente intelectu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5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tilida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cció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érdida y enfermedad provoca profundo daño emo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ños no tienen voz polític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nerabilidad: 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mbiente limpio para los más déb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acción para protege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niños de los riesgos ambientales es INACEPTABLE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iesgos ambientales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causa EVITABLE de enfermedad y de mue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114280"/>
            <a:ext cx="82296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osición tóxica en todos los periodos de desarrollo tiene un profundo impacto en la salud y calidad de vida del niño, del adulto, su productividad y el desarrollo sustentab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a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venes en edad reproductiva (antes de la concepció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madres en el embaraz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recién nacido (hasta el 1 me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lactante (1 mes a 1 añ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s pequeños (1-4 años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os mayores (5-12 año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lescentes (12-18 año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250920" y="6308640"/>
            <a:ext cx="1873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C33D6-B1A5-49C7-B0A5-E1D3650CC5E6}" type="datetime">
              <a:rPr b="0" lang="es-ES" sz="8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E3038-55EC-498E-AE3A-1F467B483E7A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02280" y="603360"/>
            <a:ext cx="287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UY" sz="2000" spc="-1" strike="noStrike">
                <a:solidFill>
                  <a:srgbClr val="006600"/>
                </a:solidFill>
                <a:latin typeface="Arial"/>
                <a:ea typeface="Arial"/>
              </a:rPr>
              <a:t>Potenciales amenazas nuevas y “re-emergentes” para la salud de los nin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635120"/>
            <a:ext cx="435744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climático glob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eción de ozo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radi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019920" y="463680"/>
            <a:ext cx="2801880" cy="1573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221680" y="3852720"/>
            <a:ext cx="57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90360" y="71280"/>
            <a:ext cx="6435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ambientales preocupantes para la salud de los niñ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8" descr="315"/>
          <p:cNvPicPr/>
          <p:nvPr/>
        </p:nvPicPr>
        <p:blipFill>
          <a:blip r:embed="rId1"/>
          <a:stretch/>
        </p:blipFill>
        <p:spPr>
          <a:xfrm>
            <a:off x="6083280" y="2149560"/>
            <a:ext cx="2584440" cy="169056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6" name="Rectangle 19"/>
          <p:cNvSpPr/>
          <p:nvPr/>
        </p:nvSpPr>
        <p:spPr>
          <a:xfrm>
            <a:off x="8236080" y="628344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WH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7" descr="untitled"/>
          <p:cNvPicPr/>
          <p:nvPr/>
        </p:nvPicPr>
        <p:blipFill>
          <a:blip r:embed="rId2"/>
          <a:stretch/>
        </p:blipFill>
        <p:spPr>
          <a:xfrm>
            <a:off x="6083280" y="3956040"/>
            <a:ext cx="2584440" cy="23526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68" name="Rectangle 10"/>
          <p:cNvSpPr/>
          <p:nvPr/>
        </p:nvSpPr>
        <p:spPr>
          <a:xfrm>
            <a:off x="365040" y="2868480"/>
            <a:ext cx="35434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ímicos preocup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50920" y="3429000"/>
            <a:ext cx="576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es pesados: plomo y mercur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guici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ruptores endocri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é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o-tox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ímicos de origen farmacéutico en el ambien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3520" y="115236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s emerg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EA10A-8ABD-41EA-9CD3-27ABA2400AE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59CDD-E9D3-41C9-81DA-0064297DB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680" y="333000"/>
            <a:ext cx="88200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do de la morbi-mortalidad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mo en niños en EEUU -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0680" y="1611360"/>
            <a:ext cx="878688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 estima qu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millon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niños en países en desarroll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ren de alguna forma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ño permanente (neurotóxico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intoxicación por plo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o de la combinación del costo atribuible a la exposición de los niños a plomo, mercurio, problemas de desarrollo, asma y cáncer en los niños solamente en la Unión Europea es de 70 mil millones de dólares en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Bartlett ES</a:t>
            </a:r>
            <a:r>
              <a:rPr b="0" lang="es-ES_tradnl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Trasande L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ES_tradnl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Eur J Public Health.</a:t>
            </a:r>
            <a:r>
              <a:rPr b="0" lang="es-ES_tradn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014 Feb;24(1):21-6. doi: 10.1093/eurpub/ckt063. Epub 2013 Jun 6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un sub-registro importante, también diferencia en los indicadores, definiciones y categorías de edad que utilizan las diferentes agencias para recolectar y reportar la información sobre salud y exposición de los niñ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43972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s de cas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Garraham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ital Pediátric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enos Aires - Argentina </a:t>
            </a:r>
            <a:br>
              <a:rPr sz="36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. Marisa Gaioli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caso 1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sénico en agua de bebida e hipert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2960" y="1793880"/>
            <a:ext cx="8961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ña de 12 años con migraña e hipertensión, medicada desde hace un añ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dre menciona que una tía y vecinos están enfermos por consumir el agua de bebida contaminada con arsé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nálisis confirman intoxicación con arsén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comienda beber agua embotellada y no consumir la lo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ión arterial y niveles de arsénico se normalizan luego de tres meses y se retira la medic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. Gaioli, 201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17:22:20Z</dcterms:created>
  <dc:creator>Lilian</dc:creator>
  <dc:description/>
  <dc:language>en-US</dc:language>
  <cp:lastModifiedBy>Microsoft Office User</cp:lastModifiedBy>
  <dcterms:modified xsi:type="dcterms:W3CDTF">2016-09-20T12:06:19Z</dcterms:modified>
  <cp:revision>272</cp:revision>
  <dc:subject/>
  <dc:title>Educare all’ambiente: formazione e insegnamento a carattere generale e specialistico in tutti gli ambienti di conoscenza e di sapere.   Tavola Rotonda: educazione e spiritualità ecologica: un altro stile di vita   </dc:title>
</cp:coreProperties>
</file>