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619AB-3ECB-4811-8335-ABF7FD755D4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7EADBA-2E1F-4E09-A0DD-99C474C474DE}" type="slidenum"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613040"/>
            <a:ext cx="50292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DFE-1CA0-499D-8AD3-21E7E81D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A65-47A9-4B32-8236-946254F8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CAA86-2E21-43B6-A2B5-EC6CB196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CCE79-A0D9-4EF3-9B18-E40E2C57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0F6EE-1E7B-4556-8395-6C8960FF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F693B-C75D-4357-8D26-8016CFED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E007C-C1F0-4317-AC3E-CCD51AF4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CC804-9805-4722-B1BC-71696EF1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80322-32BD-4C20-88C7-9E9083A7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7CB2E-3F5D-47E8-A55D-D666373F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900FF-A5B2-4DC0-9247-D3FE6A58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6846E-9E13-4170-A922-745C2A9E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5F8-E9B8-41AD-8F6E-B93F207F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D604C-52BC-48CE-9EB8-4D60DF87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26544-D65D-4094-8897-EDE5648B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3B597-4618-4878-A82C-DFE0A065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B81A7-0E41-4F10-B813-83F538C6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09563-93D0-4DCD-AD1A-24161248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0BE20-2ECA-4DBE-874D-EED05DFE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66FE5-A49D-44AC-B639-966BAAD2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2861E-DAE5-4D24-93E6-23E7A6D8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5AED0-F007-4E1A-90D7-F8AD6038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2317B-755B-4F1F-80B2-A8C75F02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09C1-AF05-440F-B073-E2AD565F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96720-35BC-461F-9D9B-D3AAEC2F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F4875-BB82-4C4D-B50F-214E621E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4164F-2504-4AFA-90BA-188D5F3B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8BFA4-0111-4062-AFF3-54D82DB1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3BF86-F4F3-4DBA-8B9D-3D3615C5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DD256-F728-4332-83E2-D9D6BC86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5D640-EA19-4F90-824F-28C9E8E4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528CE-4C9B-4DA5-ABC1-78179968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6D77D-6971-4F5C-AA7E-2E23B2E8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1B54A-DE16-4C40-9755-E1FC4AA7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8E36-AA68-4A49-B510-207479B3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31006-7585-4524-8C33-9EEFA813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256FC-B1AA-4BDA-BF23-9D1BF35F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22D86-B1EE-472D-8514-C6CB6B7E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C04E3-B948-432D-BEB0-ABFF53B7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9453E-4AD5-4644-87BF-F5A322E7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23221-8EE3-45E8-B9EA-8F1F9723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AA9CD-CF10-403F-93ED-51682FCF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65DAF-18DA-46C1-9B7A-34688B82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F9BF3-9B19-4BAA-B0FA-515440AA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A3FC7-38E7-48D9-927B-C1B65E7A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AA0D-B54E-47F8-A11C-E434FC86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87E75-FCB5-466F-80A3-82A679E3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90205-F9F6-4336-A068-E56586F0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8E657-D28D-4CEE-BC8B-3A59771A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8D035-CC81-4095-8136-DBF30759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53201-A476-4FBC-8B08-382232F3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52C2E9-A343-48D5-B986-F8A55843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5DCF8-FE51-459A-AC5A-37B8522D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AE77D-6C5D-4E9B-9E34-11EC4F24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AA9020-FE4A-49A8-92D4-688BE2D3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27A8A-F878-4E0C-BDCF-93BCA469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6C1D-A3AF-4BCC-ADEB-8285B24D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FD3ACA-0DE7-4DA7-B22D-FB332DEC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EEC0F-977A-4E51-BB2F-9E436E4B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EB019-60FB-47D3-A1CD-A223A2CB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DAAA7-D727-42F1-94A0-05B9E401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AEE268-1940-4D82-9070-48D1A580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1106B1-0E52-44EF-9E1E-09940E03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02C6FA-FD45-4793-92D2-14202E02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43FBB7-80B5-4D77-A2B7-5A5FD0DC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329347-767A-4364-840F-98E89B50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F73F05-8199-4F54-8B2F-F664D4DF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B019-A956-46A0-BD17-9D148B08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D48B15-CD08-4F1F-AB7A-469D25AD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0E6CFE-49C8-4143-97FD-1B2E42EB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682CE9-6562-407C-A1E8-11304958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DB5654-179C-4099-8D75-0F0ACF11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E2E4DE-7B98-461C-8CE4-7E9929C8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CFB8B-D8FD-4D94-9507-0693E04F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0D5468-00B9-47B4-9466-BC202114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E2A44E-1D97-4A28-A8B6-CA8F2999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CB16C2-8CEB-4B32-890B-72D7B339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D1AFF8-6C0F-4136-A808-E8EBABE9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218C-9ED7-4E5F-83B5-CDBB8DDD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E57C6B-1F45-4D84-A287-268805D6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B98152-5FB7-4F50-9404-D966D182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781C22-3540-4AA2-A619-F4D5C5EC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705C71-53E2-48BD-BD06-41BFA1C9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368A2E-1E4C-449E-B159-FDDB6CEC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B7B494-C520-4674-865E-90052418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C3F637-19A8-4A32-A629-32C6D1C8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087C47-1DB5-4DDE-A021-3AC91B7F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B1FF84-49FC-4ACF-A34D-D7EFAC83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AFC7DD-9DB9-4FF5-8B2C-C29C21DE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A511-A1AF-47F1-9705-6DA10C64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F8FAC7-648B-415F-AC73-EC1ADD25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9DCBB8-D159-4E73-B6C1-50734715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51CD6-5402-410C-BC34-9BDD7883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12F648-13E2-4755-B242-98A895D3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6CCE93-2604-460B-A87C-B82424FE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501BB9-8098-4404-9CFB-83662A79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0CAFE5-AC61-4B78-86B2-47DE51E7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F97454-2691-4EC0-AB83-6ADA73EA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476D6C-14A5-4BCC-9193-5E2EF1CF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930F86-B2EA-4B87-B387-4D06161B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F34E-4938-4CE5-9790-25BCEEDB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C60086-7E20-4819-A801-5394455C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10CE73-106E-4500-B88B-0D4C5E65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DA08EA-60F3-4FD3-84F7-FE62C614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19268B-E0F2-40E9-A8CD-28726CA7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0A2026-9730-4962-A994-B866949D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52762D-5CF2-4651-BA28-4A3B1F06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D1931D-6BEB-40AF-8245-92913C7D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9180EC-6D6B-4DEF-B66F-D820239C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EB1E45-B068-413A-93F3-10CF79AF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6ACA78-8C55-4617-8DE8-6D6DED60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50DA-43C2-40A4-8EFC-E062278C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149E-65B0-4DF5-9E7D-B2877761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58A635-7455-4699-9ABE-DAB7A832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EFC47E-4881-46F4-8961-2922932A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0ACE62-7CE5-4DC4-A299-451F46D9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574C6C-844E-48DF-BB6B-E4A6FC8F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3F9B63-847F-40CE-B414-F2C745D9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C8D5-05C0-4123-B930-07B01095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9184-9802-4A60-BCF6-62625FD1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613E-0248-4851-975D-F5BE1A43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E8C3-9495-4140-AC5B-481E51D4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DADDE-1ACB-4060-8EB2-CFE1BCFB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22A85-1143-4203-BDFE-0215A342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8F145-DE6D-430B-9E8A-D47CFF3E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10DEE-B613-4E11-A8A8-8E8F5183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7DB62-1550-4C77-85E3-CDCFC446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CBF-0BB6-402F-AF62-CFD79AFB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51D51-B044-4D5A-A9FA-818DA54C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91311-F38A-4113-850F-3CA1DFF3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2B837-23EC-496D-B045-73607BBD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1E4DF-44C7-43EC-8A94-89C02567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BCA8F-CD32-4FCF-9B16-E77EA304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74588-316A-46FB-A7D8-DEB25812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216CC-6279-4BE5-8B5F-978AEFF0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33821-5126-4588-A7F2-065764FF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37F87-16CF-4DB3-B628-2A723850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90E70-6291-430A-A3AD-35FF1D11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EE2C-1B97-48C2-BC72-81D603FA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45337-8312-4E34-AF8B-FB9A1D34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D1227-8E31-4D17-808B-44C19775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FC4B6-C186-4E90-BD0D-5F8F39EC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D29C1-841F-4058-995C-A9F48D83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8D9D3-5895-4AB7-A18E-3E59AF2D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39C52-5E50-4087-A49F-283F4AC9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A222D-64F9-4192-90DC-CC9B6E6D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BA64C-77F7-4D16-85B2-E6F579FC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33573-3D35-474A-AE55-996A371A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344A7-10C4-4C29-8E54-A573C086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6CFF-D099-4D5A-A069-14AFD2E6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3086D-5800-4525-B25D-8F1B4843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BB467-CC07-4A25-835E-44181AF9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723F0-98F1-4E43-BB07-78A16F65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17345-BA2B-4138-8183-ABC58ED5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03403-2F1E-4DB5-8023-3F5FE040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20877-4101-4CD6-A527-F7072751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18F50-70D6-4052-8FC9-21BF72E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F7AE8-B513-4E19-8FCD-8FEB8BE6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4B2AA-FE5C-46AC-85DF-275CB9AD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8C742-61DE-45A3-B3E1-564A89D5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E1F1-8B6D-42FE-BDAC-AA1C89BF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FC22E-00B6-4763-9D49-CC666204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488D0-777F-4E0A-8B2D-9931470E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B5D6E-76E6-4A8D-B504-3A1B627B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2CCC9-3F60-4B28-8598-0F33C057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31A53-133A-4FF3-A99F-8A2D44B7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5B035-6208-4459-B776-DC26DDCD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CE4F1-A266-4F50-B87B-5ED90B03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9FFAB-754F-4CAC-8A29-8BAEC129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81729-577A-411D-8549-CE4B2022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93B04-DA34-45FF-AAD1-AA9F6CC5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A7E7-71D4-4FE7-9654-72A7D488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00306-3012-4B7D-A723-B45AC31A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03B39-52DE-42B7-8597-EAD260ED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7C8C3-8AFD-4355-8A95-F16856D4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59604-8A91-427D-B1D0-5B354241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96F96-BE50-4EA3-AB8F-53449FB6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5F098-D2CD-44BC-BEB4-CA36F2A4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50961-DC41-45F7-B4AE-EE78B4FA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F8121-3802-417B-81C8-40714E30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35577-B885-4A00-96E9-0559F154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6178A-362C-4B42-8372-A1D280E9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97D-65AA-4916-A36F-75531E66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9C3F8-1D48-4B3D-8AB4-995C367B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6ED83-494B-4F63-9A61-907B2FBB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1349E-52BC-4907-A840-E1E43550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CB239-5918-4BC7-9488-2E4E9087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FF01F-74AE-459D-B295-A4FAFF78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1E462-677C-4399-B311-C2B82C76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5DF27-12FE-4969-BC20-14676168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ED19C-FB65-415F-91C3-ACC1864D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B950D-F17D-4098-8E4F-70634A86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F88A6-CFF0-4001-83D0-EFBB319E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AC52-0FD7-410F-8FB4-728D9C98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D2EE5-E8D7-4652-9152-B586FD59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8362B-F5A5-49C4-BBA6-65900268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03A88-FB6D-45CA-817C-2A646F7C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EC8EC-25A4-4B6A-A7D7-C96930D8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72988-7558-48A1-A077-9A1F204A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A1311-4CD0-4200-93B7-11D30F76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5CD2E-4D6A-4D4A-8954-0AA1BC83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33B13-D10C-4501-9FB5-A19E9605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CE625-C01D-49C5-A5CE-2B89A0DE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5A1C7-9EBF-44C9-9E4C-BFA8636E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91180-3B88-4DDB-B764-291B95C5D492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5353A-1E1D-4EAF-821C-FDDF19729296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FCE5C-A7EB-4981-984E-B0A66C6E23B6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654F4-3E96-4724-8A5B-FEB028956713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55F27-62AC-4BFD-BCFD-83465BAED4B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4AE56-6DEE-4C8E-A459-4D9599DE5867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92AFC-638D-4B9D-90A8-12C00911CC37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395F9-3AC5-4EF6-991A-BE2FB5207CA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CE35A-1262-45D9-B5F4-2E7CCE88216E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EB34D-B58D-46F2-B41F-E2E33C47EEC3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9C9962-F4F8-459B-BEBF-BFF203459858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3739BB-1E71-48E3-8A3B-A8BE5C359A98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71773B-FE7F-44F1-A3DC-AE983D38376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ED0CD-CE3F-434F-8023-CE651C62F8E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93C0F-4EFB-4E7D-BA8D-576A7ACCB13F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4B6F8-4BDE-49C9-897C-0780B2BA0ACE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00E80-BD63-4C18-8947-5FE2E395F290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547640" y="184464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6643e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262626"/>
                </a:solidFill>
                <a:latin typeface="Century Gothic"/>
              </a:rPr>
              <a:t>UNITED NATIONS 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Century Gothic"/>
              </a:rPr>
              <a:t>COMMITTEE ON THE RIGHTS OF PERSONS WITH DISABILITIES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Century Gothic"/>
              </a:rPr>
              <a:t>(CRPD COMMITTEE)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Century Gothic"/>
              </a:rPr>
              <a:t>DAY OF GENERAL DISCUSSION ON THE RIGHT TO EQUALITY AND</a:t>
            </a:r>
            <a:br>
              <a:rPr sz="2000"/>
            </a:br>
            <a:r>
              <a:rPr b="0" lang="fr-FR" sz="2000" spc="-1" strike="noStrike">
                <a:solidFill>
                  <a:srgbClr val="262626"/>
                </a:solidFill>
                <a:latin typeface="Century Gothic"/>
              </a:rPr>
              <a:t>NON-DISCRIMINATION (ARTICLE 5)</a:t>
            </a:r>
            <a:br>
              <a:rPr sz="2000"/>
            </a:br>
            <a:r>
              <a:rPr b="0" lang="fr-FR" sz="2000" spc="-1" strike="noStrike">
                <a:solidFill>
                  <a:srgbClr val="262626"/>
                </a:solidFill>
                <a:latin typeface="Century Gothic"/>
              </a:rPr>
              <a:t>Room XVII</a:t>
            </a:r>
            <a:br>
              <a:rPr sz="2000"/>
            </a:br>
            <a:r>
              <a:rPr b="0" i="1" lang="fr-FR" sz="2000" spc="-1" strike="noStrike">
                <a:solidFill>
                  <a:srgbClr val="262626"/>
                </a:solidFill>
                <a:latin typeface="Century Gothic"/>
              </a:rPr>
              <a:t>Palais des Nations</a:t>
            </a:r>
            <a:r>
              <a:rPr b="0" lang="fr-FR" sz="2000" spc="-1" strike="noStrike">
                <a:solidFill>
                  <a:srgbClr val="262626"/>
                </a:solidFill>
                <a:latin typeface="Century Gothic"/>
              </a:rPr>
              <a:t>, Geneva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Century Gothic"/>
              </a:rPr>
              <a:t>25 August 2017</a:t>
            </a:r>
            <a:br>
              <a:rPr sz="2000"/>
            </a:b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900000" y="450864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entury Gothic"/>
              </a:rPr>
              <a:t>SUPPORT SYSTEMS IN THE CONTEXT OF ACCESSIBILITY AND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entury Gothic"/>
              </a:rPr>
              <a:t>REASONABLE ACCOMMODATION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95959"/>
                </a:solidFill>
                <a:latin typeface="Century Gothic"/>
              </a:rPr>
              <a:t>LOS SISTEMAS DE APOYOS EN EL CONTEXTO DE LA ACCESIBILIDAD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95959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595959"/>
                </a:solidFill>
                <a:latin typeface="Century Gothic"/>
              </a:rPr>
              <a:t>Y LOS AJUSTES RAZONABLES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400" spc="-1" strike="noStrike">
                <a:solidFill>
                  <a:srgbClr val="595959"/>
                </a:solidFill>
                <a:latin typeface="Century Gothic"/>
              </a:rPr>
              <a:t>Agustina Palacios, CONICET, Center of Human Rights, University of Mar del Plata (Argentina)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500" spc="-1" strike="noStrike">
                <a:solidFill>
                  <a:srgbClr val="56643e"/>
                </a:solidFill>
                <a:latin typeface="Century Gothic"/>
              </a:rPr>
              <a:t>.</a:t>
            </a: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400" spc="-1" strike="noStrike">
                <a:solidFill>
                  <a:srgbClr val="262626"/>
                </a:solidFill>
                <a:latin typeface="Century Gothic"/>
              </a:rPr>
              <a:t>LOS SISTEMAS DE APOYOS EN EL CONTEXTO DE LA ACCESIBILIDAD Y LOS AJUSTES RAZONABLES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Century Gothic"/>
              </a:rPr>
              <a:t>1. LAS DIFERENTES DIMENSIONES DE LA ACCESIBILIDAD Y SU CONFIGURACION JURÍDIC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Century Gothic"/>
              </a:rPr>
              <a:t>2. DIFERENCIAS ENTRE CONDICIONES DE ACCESIBILIDAD, MEDIDAS PARA LA ACCESIBILIDAD Y AJUSTES RAZONABLE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Century Gothic"/>
              </a:rPr>
              <a:t>3. LOS SISTEMAS DE APOYOS EN EL CONTEXTO DE LA ACCESIBILIDAD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262626"/>
                </a:solidFill>
                <a:latin typeface="Century Gothic"/>
              </a:rPr>
              <a:t>1. LAS DIFERENTES DIMENSIONES DE LA ACCESIBILIDAD Y SU CONFIGURACION JURÍDICA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56643e"/>
                </a:solidFill>
                <a:latin typeface="Century Gothic"/>
              </a:rPr>
              <a:t>-La accesibilidad como principio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56643e"/>
                </a:solidFill>
                <a:latin typeface="Century Gothic"/>
              </a:rPr>
              <a:t>La accesibilidad como parte del “contenido esencial de los derechos”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56643e"/>
                </a:solidFill>
                <a:latin typeface="Century Gothic"/>
              </a:rPr>
              <a:t>La accesibilidad como derecho autónomo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56643e"/>
                </a:solidFill>
                <a:latin typeface="Century Gothic"/>
              </a:rPr>
              <a:t>El derecho a no ser discriminado/a por ausencia de accesibilidad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Century Gothic"/>
              </a:rPr>
              <a:t>2. DIFERENCIAS ENTRE CONDICIONES DE ACCESIBILIDAD, MEDIDAS PARA LA ACCESIBILIDAD Y AJUSTES RAZONABLES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0" name="Marcador de contenido 1" descr=""/>
          <p:cNvPicPr/>
          <p:nvPr/>
        </p:nvPicPr>
        <p:blipFill>
          <a:blip r:embed="rId1"/>
          <a:stretch/>
        </p:blipFill>
        <p:spPr>
          <a:xfrm>
            <a:off x="1944720" y="2133720"/>
            <a:ext cx="658980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Century Gothic"/>
              </a:rPr>
              <a:t>3. LOS SISTEMAS DE APOYOS EN EL CONTEXTO DE LA ACCESIBILIDAD Y LOS AJUSTES RAZONABLE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500" spc="-1" strike="noStrike" u="sng">
                <a:solidFill>
                  <a:srgbClr val="404040"/>
                </a:solidFill>
                <a:uFillTx/>
                <a:latin typeface="Century Gothic"/>
              </a:rPr>
              <a:t>APOYOS PARA LA VIDA INDEPENDIENTE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824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500" spc="-1" strike="noStrike">
                <a:solidFill>
                  <a:srgbClr val="404040"/>
                </a:solidFill>
                <a:latin typeface="Century Gothic"/>
              </a:rPr>
              <a:t>-Los apoyos como condiciones de accesibilidad-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entury Gothic"/>
              </a:rPr>
              <a:t>Los apoyos como condición de accesibilidad deben preverse desde los parámetros de UNIVERSALIDAD, y por ende desde una instancia previa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824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500" spc="-1" strike="noStrike">
                <a:solidFill>
                  <a:srgbClr val="404040"/>
                </a:solidFill>
                <a:latin typeface="Century Gothic"/>
              </a:rPr>
              <a:t>-Los apoyos como medidas para garantizar la accesibilidad-</a:t>
            </a:r>
            <a:r>
              <a:rPr b="0" lang="es-ES" sz="1500" spc="-1" strike="noStrike">
                <a:solidFill>
                  <a:srgbClr val="404040"/>
                </a:solidFill>
                <a:latin typeface="Century Gothic"/>
              </a:rPr>
              <a:t>)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entury Gothic"/>
              </a:rPr>
              <a:t>Podrían ser caracterizados también desde una visión de diseño universal, pero que se concreta en materia prestacional. O como dice el Informe de la Relatora , desde los sistemas de protección social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824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700" spc="-1" strike="noStrike">
                <a:solidFill>
                  <a:srgbClr val="404040"/>
                </a:solidFill>
                <a:latin typeface="Century Gothic"/>
              </a:rPr>
              <a:t>-Los apoyos como ajustes razonable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entury Gothic"/>
              </a:rPr>
              <a:t>El apoyo como ajuste razonable deberá adoptarse cuando desde el diseño universal y las medidas pertinentes no haya podido garantizarse la accesibilidad universal para un caso concreto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824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824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56643e"/>
                </a:solidFill>
                <a:latin typeface="Century Gothic"/>
              </a:rPr>
              <a:t>Consecuencia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700" spc="-1" strike="noStrike">
                <a:solidFill>
                  <a:srgbClr val="404040"/>
                </a:solidFill>
                <a:latin typeface="Century Gothic"/>
              </a:rPr>
              <a:t>Como </a:t>
            </a:r>
            <a:r>
              <a:rPr b="1" lang="es-ES" sz="1700" spc="-1" strike="noStrike">
                <a:solidFill>
                  <a:srgbClr val="404040"/>
                </a:solidFill>
                <a:latin typeface="Century Gothic"/>
              </a:rPr>
              <a:t>condición de accesibilidad- </a:t>
            </a:r>
            <a:r>
              <a:rPr b="0" lang="es-ES" sz="1700" spc="-1" strike="noStrike">
                <a:solidFill>
                  <a:srgbClr val="404040"/>
                </a:solidFill>
                <a:latin typeface="Century Gothic"/>
              </a:rPr>
              <a:t>la prestación de servicio de apoyo es parte del contenido esencial del derecho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700" spc="-1" strike="noStrike">
                <a:solidFill>
                  <a:srgbClr val="404040"/>
                </a:solidFill>
                <a:latin typeface="Century Gothic"/>
              </a:rPr>
              <a:t>Como </a:t>
            </a:r>
            <a:r>
              <a:rPr b="1" lang="es-ES" sz="1700" spc="-1" strike="noStrike">
                <a:solidFill>
                  <a:srgbClr val="404040"/>
                </a:solidFill>
                <a:latin typeface="Century Gothic"/>
              </a:rPr>
              <a:t>medida de accesibilidad- </a:t>
            </a:r>
            <a:r>
              <a:rPr b="0" lang="es-ES" sz="1700" spc="-1" strike="noStrike">
                <a:solidFill>
                  <a:srgbClr val="404040"/>
                </a:solidFill>
                <a:latin typeface="Century Gothic"/>
              </a:rPr>
              <a:t>la prestación del apoyo requiere de una regulación mediante una legislación específica (de tipo prestacional o de protección social)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700" spc="-1" strike="noStrike">
                <a:solidFill>
                  <a:srgbClr val="404040"/>
                </a:solidFill>
                <a:latin typeface="Century Gothic"/>
              </a:rPr>
              <a:t>Como </a:t>
            </a:r>
            <a:r>
              <a:rPr b="1" lang="es-ES" sz="1700" spc="-1" strike="noStrike">
                <a:solidFill>
                  <a:srgbClr val="404040"/>
                </a:solidFill>
                <a:latin typeface="Century Gothic"/>
              </a:rPr>
              <a:t>ajuste razonable-</a:t>
            </a:r>
            <a:r>
              <a:rPr b="0" lang="es-ES" sz="1700" spc="-1" strike="noStrike">
                <a:solidFill>
                  <a:srgbClr val="404040"/>
                </a:solidFill>
                <a:latin typeface="Century Gothic"/>
              </a:rPr>
              <a:t>, la adopción será obligatoria siempre que la carga no resulte desproporcionada o indebida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500" spc="-1" strike="noStrike">
                <a:solidFill>
                  <a:srgbClr val="404040"/>
                </a:solidFill>
                <a:latin typeface="Century Gothic"/>
              </a:rPr>
              <a:t>La importancia de estas distinciones, categorización y configuración tienen efectos a la hora de la garantía del derecho. Por ello se considera necesario un mayor debate sobre esta posibilidad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 u="sng">
                <a:solidFill>
                  <a:srgbClr val="262626"/>
                </a:solidFill>
                <a:uFillTx/>
                <a:latin typeface="Century Gothic"/>
              </a:rPr>
              <a:t>LOS APOYOS PARA EL EJERCICIO DE LA CAPACIDAD JURÍDICA (art. 12)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500" spc="-1" strike="noStrike">
                <a:solidFill>
                  <a:srgbClr val="404040"/>
                </a:solidFill>
                <a:latin typeface="Century Gothic"/>
              </a:rPr>
              <a:t>Por el modo en que se encuentran previstos en el art. 12, los apoyos para el ejercicio de la capacidad jurídica son parte del contenido esencial de dicho derecho, y son asimismo una medida para garantizar la accesibilidad (reconocida por la norma como condición de accesibilidad, CON INDEPENDENCIA DE CUANDO SE ADOPTEN)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500" spc="-1" strike="noStrike">
                <a:solidFill>
                  <a:srgbClr val="404040"/>
                </a:solidFill>
                <a:latin typeface="Century Gothic"/>
              </a:rPr>
              <a:t>Ello porque asimismo los apoyos del 12 están reforzados como obligación específica (la obligación de adoptarlos cuando sean necesarios).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500" spc="-1" strike="noStrike">
                <a:solidFill>
                  <a:srgbClr val="404040"/>
                </a:solidFill>
                <a:latin typeface="Century Gothic"/>
              </a:rPr>
              <a:t>Si la norma no lo dijera, de todos modos formarían parte del contenido esencial del ejercicio de la capacidad jurídica, pero están reconocidos de manera especifica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500" spc="-1" strike="noStrike">
                <a:solidFill>
                  <a:srgbClr val="404040"/>
                </a:solidFill>
                <a:latin typeface="Century Gothic"/>
              </a:rPr>
              <a:t>Es por ello que los apoyos del 12 no pueden ser considerados como ajustes razonables. Y en este sentido esto es muy importante</a:t>
            </a:r>
            <a:r>
              <a:rPr b="1" lang="es-ES" sz="1500" spc="-1" strike="noStrike">
                <a:solidFill>
                  <a:srgbClr val="404040"/>
                </a:solidFill>
                <a:latin typeface="Century Gothic"/>
              </a:rPr>
              <a:t>, porque no es posible debatir ni sobre su inmediatez ni sobre la carga desproporcionada o indebida</a:t>
            </a:r>
            <a:r>
              <a:rPr b="0" lang="es-ES" sz="15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971280" y="2781000"/>
            <a:ext cx="817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7030a0"/>
                </a:solidFill>
                <a:latin typeface="Century Gothic"/>
              </a:rPr>
              <a:t>Agustina Palacios</a:t>
            </a:r>
            <a:br>
              <a:rPr sz="3200"/>
            </a:br>
            <a:r>
              <a:rPr b="0" lang="es-ES" sz="3200" spc="-1" strike="noStrike">
                <a:solidFill>
                  <a:srgbClr val="7030a0"/>
                </a:solidFill>
                <a:latin typeface="Century Gothic"/>
              </a:rPr>
              <a:t>Centro de Investigación y Docencia en Derechos Humanos “Alicia Moreau”, Facultad de Derecho, Universidad Nacional de Mar del Plata (Argentina)</a:t>
            </a:r>
            <a:br>
              <a:rPr sz="3200"/>
            </a:br>
            <a:r>
              <a:rPr b="0" lang="es-ES" sz="3200" spc="-1" strike="noStrike">
                <a:solidFill>
                  <a:srgbClr val="7030a0"/>
                </a:solidFill>
                <a:latin typeface="Century Gothic"/>
              </a:rPr>
              <a:t>aguspalacios@hotmail.com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Rectangle 4"/>
          <p:cNvSpPr/>
          <p:nvPr/>
        </p:nvSpPr>
        <p:spPr>
          <a:xfrm>
            <a:off x="250920" y="260280"/>
            <a:ext cx="874872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9" name="Imagen 4" descr="CONICET-logo"/>
          <p:cNvPicPr/>
          <p:nvPr/>
        </p:nvPicPr>
        <p:blipFill>
          <a:blip r:embed="rId1"/>
          <a:stretch/>
        </p:blipFill>
        <p:spPr>
          <a:xfrm>
            <a:off x="3564000" y="260280"/>
            <a:ext cx="2555640" cy="15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4:22:13Z</dcterms:created>
  <dc:creator>aprizzo</dc:creator>
  <dc:description/>
  <dc:language>en-US</dc:language>
  <cp:lastModifiedBy>federica palacios</cp:lastModifiedBy>
  <dcterms:modified xsi:type="dcterms:W3CDTF">2017-08-24T02:27:36Z</dcterms:modified>
  <cp:revision>401</cp:revision>
  <dc:subject/>
  <dc:title>Diapositiva 1</dc:title>
</cp:coreProperties>
</file>