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</p:sldIdLst>
  <p:sldSz cx="9144000" cy="6858000"/>
  <p:notesSz cx="68580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"/>
          <p:cNvSpPr/>
          <p:nvPr/>
        </p:nvSpPr>
        <p:spPr>
          <a:xfrm>
            <a:off x="0" y="0"/>
            <a:ext cx="6858000" cy="97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dt" idx="52"/>
          </p:nvPr>
        </p:nvSpPr>
        <p:spPr>
          <a:xfrm>
            <a:off x="388440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4240" cy="364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 type="body"/>
          </p:nvPr>
        </p:nvSpPr>
        <p:spPr>
          <a:xfrm>
            <a:off x="685800" y="4613040"/>
            <a:ext cx="548640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 type="ftr" idx="53"/>
          </p:nvPr>
        </p:nvSpPr>
        <p:spPr>
          <a:xfrm>
            <a:off x="-360" y="92232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6"/>
          <p:cNvSpPr>
            <a:spLocks noGrp="1"/>
          </p:cNvSpPr>
          <p:nvPr>
            <p:ph type="sldNum" idx="54"/>
          </p:nvPr>
        </p:nvSpPr>
        <p:spPr>
          <a:xfrm>
            <a:off x="3884400" y="92232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420450-FD47-4242-BA32-66C2728C180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Rectangle 7"/>
          <p:cNvSpPr/>
          <p:nvPr/>
        </p:nvSpPr>
        <p:spPr>
          <a:xfrm>
            <a:off x="3884760" y="92232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BDC8C7-DD99-4F1E-AA17-8B8995FA58FC}" type="slidenum"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1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4240" cy="3641760"/>
          </a:xfrm>
          <a:prstGeom prst="rect">
            <a:avLst/>
          </a:prstGeom>
          <a:ln w="0">
            <a:noFill/>
          </a:ln>
        </p:spPr>
      </p:sp>
      <p:sp>
        <p:nvSpPr>
          <p:cNvPr id="1202" name="PlaceHolder 2"/>
          <p:cNvSpPr>
            <a:spLocks noGrp="1"/>
          </p:cNvSpPr>
          <p:nvPr>
            <p:ph type="body"/>
          </p:nvPr>
        </p:nvSpPr>
        <p:spPr>
          <a:xfrm>
            <a:off x="914400" y="4613040"/>
            <a:ext cx="50292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D21A-DCB3-4733-A93E-D212A8AC0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2EB3-DE74-41A1-94AB-508AFD1D9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6D12F6-13DF-4EF3-97BB-BE8A46CE2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590FE6-6491-4AF0-A27F-A2BBCF891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8471B0-8513-4CAD-A22E-B88296742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0FAAA1-7E56-4FF7-85AD-F6D8F5126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ED3C25-2C9C-47FF-B32F-811DB6484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0FBA93-95C7-4B1B-9502-52746825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435D7C-7187-4877-8D70-84C4FB6D0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9E825C-F44C-4315-A871-1629089E9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97B174-A080-433D-92F0-20910D674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F67807-52F1-4344-92F9-461C4C913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1E7E-1DE1-4426-B11A-E6CFEC6F8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46E4D5-E0DE-491E-9374-B57BE830F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0072B7-A526-428C-A2E5-48709185B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86E574-6F22-4515-8DFB-71BC73E55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2C2E37-A0AE-4773-AC7B-97FF057EF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4B9399-05AD-4B3E-9C1B-3D8F8DE47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76423B-BF65-4522-98D0-E206C94AD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744401-26C7-4013-A816-90CC83A75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CDAF87-5390-4706-8B8E-E5897759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3A52EF-8AF1-464E-B054-2C5ED60BE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A450EA-F3F0-4D69-A28D-F7816F04F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1CAB-9C84-40E4-9C43-6F543C77E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DBBFD4-D025-499F-90F1-51FBAD5A3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35AA3C-0352-4F7B-8C31-6E14CE469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2F2560-86FD-4143-91CA-040C400A0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F9A4FD-A8D7-46D6-82BD-D7902D53A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F85B7B-C63F-484F-9588-4957C334B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7DAC3B-9343-44B3-9FC4-C1A95D997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8A1359-499E-4418-8B54-C9533144C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6CC3EB-FC54-4F03-A851-A85FC561A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B82668-76D3-4FB8-9201-63885D62B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ECA2F7-F4C1-445C-AC0E-5C90C7CB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9A372-8D94-46E6-A172-BCAAB88FA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9C764F-571D-4DD9-9D23-8A079C954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01FD3D-8FA4-4547-AADD-6AD8DC081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8C4B9A-9DBF-4549-90F8-D69D2FE38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887354-F4B1-4EBE-82E3-E62852068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315D78-38A5-4C91-9AE8-84226F40E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4F876A-EEBB-4F8D-B917-5925D6D50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7627E2-EFDA-489A-9A52-706509D44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FA90B3-98D8-4806-A352-AF14AC46F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042FC7-7308-40CF-8E44-0AEA187B1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DC843A-11BD-4BE7-9B5D-C7C517CBF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B2EEF-89CC-4553-A49D-75F654C35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36A826-0BB8-4048-9308-2E39F8622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9A9CB4-C028-4B7D-9E9E-1E8DF38D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856C0E-6E9C-4D7F-9A14-A04E09957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796137-0F08-427F-91DA-5D49488E1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2C27C4-19A9-42BB-8379-B11EA09A7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439563-B99C-4A88-A232-898A6BB01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0EB5CF-401E-4639-9A86-BEA24A5CD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44DBF5-E5D0-448E-AC23-84B8C5027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CE356D-82D5-4B49-A936-3BAE969AF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5A2CE3-1D57-4542-8F8B-F8F9D2A67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F9733-7CD8-4048-BA31-C1058D07B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5638EE-6117-4480-95A1-839DFF4C2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009D24-AD8B-4395-AC0B-1DE6976B2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D6BF94-4450-4A5D-849E-9A8822D1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883E94-D313-4ED6-8838-33C4D6255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55534A-C548-4A26-ABF6-25ED81AEB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2A3917-21E8-417D-A6D8-132802197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0F4FC9-FDEE-4FA7-9F4E-91C07F15D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7DC978-5510-491E-80A9-BAF0281BA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0BC006-E079-4040-8767-68EABE066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45B9B0-C6EA-4270-A98A-181F96672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CFC8F-7ABE-45CC-8B10-D5AC039EC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6DFD03-5791-4D0B-95EC-52D5935B9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9C4144-B0DB-4678-AF08-B7FA14958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A6214C-99B9-47DA-A805-433F45CA5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E1F786-97D9-4B0D-AC0C-3871C43A7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97F53B-CCAE-4FE0-88F0-B73E38FA3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62F83F-037B-4332-9870-6974D529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C3BF21-A3E4-4311-9C05-6EA2DB935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15308B-D4D0-4705-A613-5129AE508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AF6D98-6FFF-4161-B99A-52C6519CC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E80B4D-3090-479B-983D-C734F0E09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0008C-1A77-4583-9EE0-7031CE417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4A3EEA-9B3E-4685-BE8A-7D7D85C21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1935B9-C53E-49B3-B947-B8111E08B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21785E-2456-4888-9023-1B4B7FB9D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0B44E6-87BC-4D28-BB58-C65412885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578CDA-5ED0-4B37-BD0F-0BCCE71BB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F317D5-2DEB-4594-A514-9B500497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38BDF8-853A-4A57-AD83-E5C5E65E3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C491D2-9411-4E1F-BE44-45E287CA5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CA65A7-02E6-472E-BA3C-08899E955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8ED61F-C2F0-42EA-B743-FDF3133EB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07E15-3681-4F09-BB20-E2A3FEE81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EAB0A2-BC53-4E95-B708-21B3D41EB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B52AAD-E0CF-46DD-AA99-AE0F3AA3B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10381E-E204-49DD-9034-CC47AF39F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C00777-0F76-4AE1-B283-626CAFE47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C1B5D1-C6B7-47DE-BC9C-89F53D394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86DF06-D983-4C3D-9C86-9DC2B66BE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0F5EFC-13C4-432F-8549-894C398AE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DAE9D5-1D87-4343-A47A-3D5AF700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C9179F-5469-466E-8F06-730F33AD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CEAEC0-E258-46C4-B63D-7607F549E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91933-A274-4218-86B7-F87AEB0CB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6628A8-392B-4A2A-8989-5DD12FA0E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D5DD36-2897-49CE-BABD-0EA1691CF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69902C-5EDC-4029-B21F-F2ED972B8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406E3B-5A87-4895-858E-2BB99A8CC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8BF9EC-BD31-4A8C-8975-C31FB2964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78BDE4-10FF-4C32-9AC8-759C9AFB2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CB695E-2FDA-40EA-B666-8ECC03262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A4095A-6F95-460C-9BEA-4902D9829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34CE94-654B-45D1-90A7-0E17FCBD1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B19856-4E7B-428C-9D6B-1A095650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E210-4EEC-4A8A-BF05-F5DA80001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19EE7-AE70-4A8E-9B76-2A582AFA4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9CB2F2-52C1-4096-AFFD-D5F48C51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A07230-C6B5-4BA5-A50F-8AE4C7C4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6C398D-85E7-4DE4-B931-7D5109D03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26DE0B-E85E-4A2F-9FAC-4EADC55C5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95CA7B-FCA5-4FF1-BE85-D67899CE9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E173D-8CCB-4636-8377-95370A09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BB22F-DE29-4EF7-A781-541A94EB0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69ED5-5448-4405-96D2-8D9DEC77D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476B7-D6A3-4DA5-9BF0-4C98E2F1E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A1257-2DB0-42CE-95A7-ED6C0D1C8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698DC-FD0E-4CBD-BD1B-9840B71DC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494FC-932A-4C6E-90B8-E8676FB14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E824C-B50D-412A-893D-23C6F5677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A0796-451F-4B21-8084-6FC02877D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5595-2989-4FFD-B3EB-3EB26AC95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24AE0-BEF3-41C0-8A32-BDAFB7335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C4C32-8E67-498F-A470-5200E6BEE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948E5-F1B8-4D6B-BCFC-5683AC946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D14FB-4B52-4CB9-B3A3-E9B7189B2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F3CF2-E890-430E-B2C6-373F713C1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F7B3A-04E2-4389-9D1A-ACB7171D0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CAE32-C0F5-4411-BEF8-1449568F2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BD415-F094-4422-94E0-56287515D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BC6DB-A91E-4853-9CC6-EBCE35996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7CBA6-DB79-4727-AA4A-24A12B0F3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8B9E-CC45-4B35-A595-A124F0D94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38CA3-9B4C-4C34-9CBE-796937D8A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5C4C9-5E3C-4ECB-B37F-FE1ACC4D3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D4D31-351C-4D1D-84D6-F81874468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05593-99F3-4C43-856E-C0BF92E2D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1154C-C79E-4919-979A-88F7FAE6F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79D59-4BA3-45E1-AC92-7A58E574A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D66FE-9BD2-463F-99CD-CFCD6008D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FE756-A0B8-47C1-BE87-00E83F38F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CE4CE-51AD-4F3A-B5E3-07C211202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B9D800-3D4A-4002-AC9F-A370C3F1C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5469-A3B5-474C-9F82-78071B6FC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E607DD-79D9-4B86-ACFB-DE153C848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07626F-2534-4606-8840-97EFB59BF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46F7B-7FAF-459A-971D-19ABAD708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0D0BBA-86D3-4636-8255-F9B18159F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676A4-6016-47A2-9820-69BA7DFFE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DFB636-50FC-4089-AC77-1697C1B4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F62041-49E5-4D2D-82EC-CEF754B92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71D89-FFED-4EDF-ABBA-F7865A3E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016DE7-1814-47A3-B915-D4738911B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229639-10BA-4627-A84F-F5FFEB3B2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2FB7-91D9-4235-B59D-A9E56068E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EEA43-D4A2-4524-8EFB-BCF55EA5F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30794F-A993-4315-8383-6AFEED630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D04C87-FC43-4384-B636-560FE7968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A8D400-5916-4E7D-AA0A-1057B91EF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77303-049B-4914-9B37-CD8A2461C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ED0537-1B68-42FA-AE23-23B30E366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102363-0177-4ABC-8C9D-88B24FB28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931147-3EA1-4393-8C8C-6C83E92E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83419A-2B0A-4DD1-8B75-97608CA5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AC4AE9-F38A-4567-8E15-B21A3276A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B5DC-254E-492E-A1B5-1CD11544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E89119-0774-41F3-AC2B-B820DC0BF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159695-70F8-413A-A195-854806474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CBD1CA-38B0-41BF-BFD0-1D71A3245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6F6135-3E70-4265-BBD7-BB9836411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9A2F8E-7552-49B0-9DAC-B4B173FD9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7B1AE0-9A89-4FD6-B6A5-58AE51F6C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67DF1E-63B6-47AA-B544-32C8DDE34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DFAEE2-EB48-4004-A7FE-D92990404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9B61AA-4DA2-4E5D-BC08-32FB09DCD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44D1DF-E007-4CDC-BDE4-C201E73E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82CE-2932-4A8C-9F00-F5D1E758C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61DB71-BCFD-42AC-B018-B02EBC08D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3B7C02-C4EB-4A66-80BD-1536135AB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66EFBF-AA06-4611-8A54-0FD052C82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76CA17-5468-4878-8F25-1F31FC8E7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D77A4D-F3F5-49E8-A3EA-9D7E17FB2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225425-87A5-46A7-8774-9BCA6B6B1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1F74D0-8965-4B4F-A434-2EA5E0ED9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BB1634-30D9-40E0-A982-B7E6564CF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510049-EC6E-4E9F-9C6C-3B2C1FDFA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BCFC60-E173-4027-B6AC-FD102DF48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C70D-4FED-4B2E-8C7F-5ED9F8C0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5D8C30-8957-49FB-9F77-9C7094AC1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B550CE-1EAA-4A9D-8C34-3CFAD901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8F8B0E-0DAB-457E-AD21-254987DD7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E6681F-1178-441C-A0CE-AFA517AD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A3D3B9-C5B1-47B3-BDBA-314E5C782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4846F0-16AD-4380-8D4C-41BE091EB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026B6B-2161-406F-9D86-2B237674A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B8C495-F232-4A8C-BFED-6D363D9A3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55D15B-AADC-4A99-93AF-1016F30DC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430380-E1F4-47FB-9667-15BA926ED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144281-82EE-4552-8790-8874995EB5E8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CA52FA-A1D2-4D3A-AE4F-5C689A41DD52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0986BD-6ACE-40FB-BC9C-F4ED6349529A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6" name="TextBox 13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7" name="TextBox 14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3334C9-E619-4AB3-8EA0-0BC698555EE8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06B5D2-38D1-42D5-A2B1-3D489BE7F696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6" name="TextBox 10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7" name="TextBox 11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32FCF7-F779-407C-A702-5D9C0DD0F061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2B8EE5-ADC4-418D-9101-EF0CD32DA042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815400-6078-4257-9A20-32DBCFCD579D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AA7A52-14A3-4DBA-961E-BAFDA1605CC9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A9EE42-CFA1-45D9-A9BD-2E7891831DD8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A7FC01-654E-4309-BA66-687EE62F95C4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764A49-4848-44A0-9741-DCEA6A4FA31B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9E8B34-38BA-424F-A310-5672D7F5A43C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E5C9FC-BE81-4824-98D4-4EBC08EED44B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4EBE1A-054E-420B-90AF-B4A2945B8CDB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8D9519-2E0E-4F43-80FA-5853D5E01641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E3E94A-8002-4DC5-A713-4AE10C6516A2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1547640" y="184464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56643e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262626"/>
                </a:solidFill>
                <a:latin typeface="Century Gothic"/>
              </a:rPr>
              <a:t>UNITED NATIONS </a:t>
            </a:r>
            <a:br>
              <a:rPr sz="2000"/>
            </a:br>
            <a:r>
              <a:rPr b="0" lang="en-US" sz="2000" spc="-1" strike="noStrike">
                <a:solidFill>
                  <a:srgbClr val="262626"/>
                </a:solidFill>
                <a:latin typeface="Century Gothic"/>
              </a:rPr>
              <a:t>COMMITTEE ON THE RIGHTS OF PERSONS WITH DISABILITIES</a:t>
            </a:r>
            <a:br>
              <a:rPr sz="2000"/>
            </a:br>
            <a:r>
              <a:rPr b="0" lang="en-US" sz="2000" spc="-1" strike="noStrike">
                <a:solidFill>
                  <a:srgbClr val="262626"/>
                </a:solidFill>
                <a:latin typeface="Century Gothic"/>
              </a:rPr>
              <a:t>(CRPD COMMITTEE)</a:t>
            </a:r>
            <a:br>
              <a:rPr sz="2000"/>
            </a:br>
            <a:r>
              <a:rPr b="0" lang="en-US" sz="2000" spc="-1" strike="noStrike">
                <a:solidFill>
                  <a:srgbClr val="262626"/>
                </a:solidFill>
                <a:latin typeface="Century Gothic"/>
              </a:rPr>
              <a:t>DAY OF GENERAL DISCUSSION ON THE RIGHT TO EQUALITY AND</a:t>
            </a:r>
            <a:br>
              <a:rPr sz="2000"/>
            </a:br>
            <a:r>
              <a:rPr b="0" lang="fr-FR" sz="2000" spc="-1" strike="noStrike">
                <a:solidFill>
                  <a:srgbClr val="262626"/>
                </a:solidFill>
                <a:latin typeface="Century Gothic"/>
              </a:rPr>
              <a:t>NON-DISCRIMINATION (ARTICLE 5)</a:t>
            </a:r>
            <a:br>
              <a:rPr sz="2000"/>
            </a:br>
            <a:r>
              <a:rPr b="0" lang="fr-FR" sz="2000" spc="-1" strike="noStrike">
                <a:solidFill>
                  <a:srgbClr val="262626"/>
                </a:solidFill>
                <a:latin typeface="Century Gothic"/>
              </a:rPr>
              <a:t>Room XVII</a:t>
            </a:r>
            <a:br>
              <a:rPr sz="2000"/>
            </a:br>
            <a:r>
              <a:rPr b="0" i="1" lang="fr-FR" sz="2000" spc="-1" strike="noStrike">
                <a:solidFill>
                  <a:srgbClr val="262626"/>
                </a:solidFill>
                <a:latin typeface="Century Gothic"/>
              </a:rPr>
              <a:t>Palais des Nations</a:t>
            </a:r>
            <a:r>
              <a:rPr b="0" lang="fr-FR" sz="2000" spc="-1" strike="noStrike">
                <a:solidFill>
                  <a:srgbClr val="262626"/>
                </a:solidFill>
                <a:latin typeface="Century Gothic"/>
              </a:rPr>
              <a:t>, Geneva</a:t>
            </a:r>
            <a:br>
              <a:rPr sz="2000"/>
            </a:br>
            <a:r>
              <a:rPr b="0" lang="en-US" sz="2000" spc="-1" strike="noStrike">
                <a:solidFill>
                  <a:srgbClr val="262626"/>
                </a:solidFill>
                <a:latin typeface="Century Gothic"/>
              </a:rPr>
              <a:t>25 August 2017</a:t>
            </a:r>
            <a:br>
              <a:rPr sz="2000"/>
            </a:br>
            <a:endParaRPr b="0" lang="en-US" sz="2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 type="subTitle"/>
          </p:nvPr>
        </p:nvSpPr>
        <p:spPr>
          <a:xfrm>
            <a:off x="900000" y="4508640"/>
            <a:ext cx="7407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404040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Century Gothic"/>
              </a:rPr>
              <a:t>SUPPORT SYSTEMS IN THE CONTEXT OF ACCESSIBILITY AND 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Century Gothic"/>
              </a:rPr>
              <a:t>REASONABLE ACCOMMODATION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595959"/>
                </a:solidFill>
                <a:latin typeface="Century Gothic"/>
              </a:rPr>
              <a:t>LOS SISTEMAS DE APOYOS EN EL CONTEXTO DE LA ACCESIBILIDAD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400" spc="-1" strike="noStrike">
                <a:solidFill>
                  <a:srgbClr val="595959"/>
                </a:solidFill>
                <a:latin typeface="Century Gothic"/>
              </a:rPr>
              <a:t> </a:t>
            </a:r>
            <a:r>
              <a:rPr b="1" lang="es-ES" sz="1400" spc="-1" strike="noStrike">
                <a:solidFill>
                  <a:srgbClr val="595959"/>
                </a:solidFill>
                <a:latin typeface="Century Gothic"/>
              </a:rPr>
              <a:t>Y LOS AJUSTES RAZONABLES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400" spc="-1" strike="noStrike">
                <a:solidFill>
                  <a:srgbClr val="595959"/>
                </a:solidFill>
                <a:latin typeface="Century Gothic"/>
              </a:rPr>
              <a:t>Agustina Palacios, CONICET, Center of Human Rights, University of Mar del Plata (Argentina)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" spc="-1" strike="noStrike">
              <a:solidFill>
                <a:srgbClr val="404040"/>
              </a:solidFill>
              <a:latin typeface="Century Gothic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AR" sz="500" spc="-1" strike="noStrike">
                <a:solidFill>
                  <a:srgbClr val="56643e"/>
                </a:solidFill>
                <a:latin typeface="Century Gothic"/>
              </a:rPr>
              <a:t>.</a:t>
            </a:r>
            <a:endParaRPr b="0" lang="en-US" sz="5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AR" sz="2400" spc="-1" strike="noStrike">
                <a:solidFill>
                  <a:srgbClr val="262626"/>
                </a:solidFill>
                <a:latin typeface="Century Gothic"/>
              </a:rPr>
              <a:t>LOS SISTEMAS DE APOYOS EN EL CONTEXTO DE LA ACCESIBILIDAD Y LOS AJUSTES RAZONABLES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6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>
                <a:solidFill>
                  <a:srgbClr val="404040"/>
                </a:solidFill>
                <a:latin typeface="Century Gothic"/>
              </a:rPr>
              <a:t>1. LAS DIFERENTES DIMENSIONES DE LA ACCESIBILIDAD Y SU CONFIGURACION JURÍDICA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>
                <a:solidFill>
                  <a:srgbClr val="404040"/>
                </a:solidFill>
                <a:latin typeface="Century Gothic"/>
              </a:rPr>
              <a:t>2. DIFERENCIAS ENTRE CONDICIONES DE ACCESIBILIDAD, MEDIDAS PARA LA ACCESIBILIDAD Y AJUSTES RAZONABLES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>
                <a:solidFill>
                  <a:srgbClr val="404040"/>
                </a:solidFill>
                <a:latin typeface="Century Gothic"/>
              </a:rPr>
              <a:t>3. LOS SISTEMAS DE APOYOS EN EL CONTEXTO DE LA ACCESIBILIDAD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>
                <a:solidFill>
                  <a:srgbClr val="262626"/>
                </a:solidFill>
                <a:latin typeface="Century Gothic"/>
              </a:rPr>
              <a:t>1. LAS DIFERENTES DIMENSIONES DE LA ACCESIBILIDAD Y SU CONFIGURACION JURÍDICA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8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a53010"/>
              </a:buClr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buClr>
                <a:srgbClr val="a53010"/>
              </a:buClr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600" spc="-1" strike="noStrike">
                <a:solidFill>
                  <a:srgbClr val="56643e"/>
                </a:solidFill>
                <a:latin typeface="Century Gothic"/>
              </a:rPr>
              <a:t>-La accesibilidad como principio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buClr>
                <a:srgbClr val="a53010"/>
              </a:buClr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600" spc="-1" strike="noStrike">
                <a:solidFill>
                  <a:srgbClr val="56643e"/>
                </a:solidFill>
                <a:latin typeface="Century Gothic"/>
              </a:rPr>
              <a:t>La accesibilidad como parte del “contenido esencial de los derechos”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buClr>
                <a:srgbClr val="a53010"/>
              </a:buClr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600" spc="-1" strike="noStrike">
                <a:solidFill>
                  <a:srgbClr val="56643e"/>
                </a:solidFill>
                <a:latin typeface="Century Gothic"/>
              </a:rPr>
              <a:t>La accesibilidad como derecho autónomo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buClr>
                <a:srgbClr val="a53010"/>
              </a:buClr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600" spc="-1" strike="noStrike">
                <a:solidFill>
                  <a:srgbClr val="56643e"/>
                </a:solidFill>
                <a:latin typeface="Century Gothic"/>
              </a:rPr>
              <a:t>El derecho a no ser discriminado/a por ausencia de accesibilidad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1618920" y="62028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262626"/>
                </a:solidFill>
                <a:latin typeface="Century Gothic"/>
              </a:rPr>
              <a:t>2. DIFERENCIAS ENTRE CONDICIONES DE ACCESIBILIDAD, MEDIDAS PARA LA ACCESIBILIDAD Y AJUSTES RAZONABLES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190" name="Marcador de contenido 1" descr=""/>
          <p:cNvPicPr/>
          <p:nvPr/>
        </p:nvPicPr>
        <p:blipFill>
          <a:blip r:embed="rId1"/>
          <a:stretch/>
        </p:blipFill>
        <p:spPr>
          <a:xfrm>
            <a:off x="1944720" y="2133720"/>
            <a:ext cx="6589800" cy="37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262626"/>
                </a:solidFill>
                <a:latin typeface="Century Gothic"/>
              </a:rPr>
              <a:t>3. LOS SISTEMAS DE APOYOS EN EL CONTEXTO DE LA ACCESIBILIDAD Y LOS AJUSTES RAZONABLES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2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500" spc="-1" strike="noStrike" u="sng">
                <a:solidFill>
                  <a:srgbClr val="404040"/>
                </a:solidFill>
                <a:uFillTx/>
                <a:latin typeface="Century Gothic"/>
              </a:rPr>
              <a:t>APOYOS PARA LA VIDA INDEPENDIENTE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8244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500" spc="-1" strike="noStrike">
                <a:solidFill>
                  <a:srgbClr val="404040"/>
                </a:solidFill>
                <a:latin typeface="Century Gothic"/>
              </a:rPr>
              <a:t>-Los apoyos como condiciones de accesibilidad-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400" spc="-1" strike="noStrike">
                <a:solidFill>
                  <a:srgbClr val="404040"/>
                </a:solidFill>
                <a:latin typeface="Century Gothic"/>
              </a:rPr>
              <a:t>Los apoyos como condición de accesibilidad deben preverse desde los parámetros de UNIVERSALIDAD, y por ende desde una instancia previa.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marL="8244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500" spc="-1" strike="noStrike">
                <a:solidFill>
                  <a:srgbClr val="404040"/>
                </a:solidFill>
                <a:latin typeface="Century Gothic"/>
              </a:rPr>
              <a:t>-Los apoyos como medidas para garantizar la accesibilidad-</a:t>
            </a:r>
            <a:r>
              <a:rPr b="0" lang="es-ES" sz="1500" spc="-1" strike="noStrike">
                <a:solidFill>
                  <a:srgbClr val="404040"/>
                </a:solidFill>
                <a:latin typeface="Century Gothic"/>
              </a:rPr>
              <a:t>)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400" spc="-1" strike="noStrike">
                <a:solidFill>
                  <a:srgbClr val="404040"/>
                </a:solidFill>
                <a:latin typeface="Century Gothic"/>
              </a:rPr>
              <a:t>Podrían ser caracterizados también desde una visión de diseño universal, pero que se concreta en materia prestacional. O como dice el Informe de la Relatora , desde los sistemas de protección social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marL="8244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700" spc="-1" strike="noStrike">
                <a:solidFill>
                  <a:srgbClr val="404040"/>
                </a:solidFill>
                <a:latin typeface="Century Gothic"/>
              </a:rPr>
              <a:t>-Los apoyos como ajustes razonables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400" spc="-1" strike="noStrike">
                <a:solidFill>
                  <a:srgbClr val="404040"/>
                </a:solidFill>
                <a:latin typeface="Century Gothic"/>
              </a:rPr>
              <a:t>El apoyo como ajuste razonable deberá adoptarse cuando desde el diseño universal y las medidas pertinentes no haya podido garantizarse la accesibilidad universal para un caso concreto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marL="8244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8244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600" spc="-1" strike="noStrike">
                <a:solidFill>
                  <a:srgbClr val="56643e"/>
                </a:solidFill>
                <a:latin typeface="Century Gothic"/>
              </a:rPr>
              <a:t>Consecuencia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4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700" spc="-1" strike="noStrike">
                <a:solidFill>
                  <a:srgbClr val="404040"/>
                </a:solidFill>
                <a:latin typeface="Century Gothic"/>
              </a:rPr>
              <a:t>Como </a:t>
            </a:r>
            <a:r>
              <a:rPr b="1" lang="es-ES" sz="1700" spc="-1" strike="noStrike">
                <a:solidFill>
                  <a:srgbClr val="404040"/>
                </a:solidFill>
                <a:latin typeface="Century Gothic"/>
              </a:rPr>
              <a:t>condición de accesibilidad- </a:t>
            </a:r>
            <a:r>
              <a:rPr b="0" lang="es-ES" sz="1700" spc="-1" strike="noStrike">
                <a:solidFill>
                  <a:srgbClr val="404040"/>
                </a:solidFill>
                <a:latin typeface="Century Gothic"/>
              </a:rPr>
              <a:t>la prestación de servicio de apoyo es parte del contenido esencial del derecho.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700" spc="-1" strike="noStrike">
                <a:solidFill>
                  <a:srgbClr val="404040"/>
                </a:solidFill>
                <a:latin typeface="Century Gothic"/>
              </a:rPr>
              <a:t>Como </a:t>
            </a:r>
            <a:r>
              <a:rPr b="1" lang="es-ES" sz="1700" spc="-1" strike="noStrike">
                <a:solidFill>
                  <a:srgbClr val="404040"/>
                </a:solidFill>
                <a:latin typeface="Century Gothic"/>
              </a:rPr>
              <a:t>medida de accesibilidad- </a:t>
            </a:r>
            <a:r>
              <a:rPr b="0" lang="es-ES" sz="1700" spc="-1" strike="noStrike">
                <a:solidFill>
                  <a:srgbClr val="404040"/>
                </a:solidFill>
                <a:latin typeface="Century Gothic"/>
              </a:rPr>
              <a:t>la prestación del apoyo requiere de una regulación mediante una legislación específica (de tipo prestacional o de protección social).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700" spc="-1" strike="noStrike">
                <a:solidFill>
                  <a:srgbClr val="404040"/>
                </a:solidFill>
                <a:latin typeface="Century Gothic"/>
              </a:rPr>
              <a:t>Como </a:t>
            </a:r>
            <a:r>
              <a:rPr b="1" lang="es-ES" sz="1700" spc="-1" strike="noStrike">
                <a:solidFill>
                  <a:srgbClr val="404040"/>
                </a:solidFill>
                <a:latin typeface="Century Gothic"/>
              </a:rPr>
              <a:t>ajuste razonable-</a:t>
            </a:r>
            <a:r>
              <a:rPr b="0" lang="es-ES" sz="1700" spc="-1" strike="noStrike">
                <a:solidFill>
                  <a:srgbClr val="404040"/>
                </a:solidFill>
                <a:latin typeface="Century Gothic"/>
              </a:rPr>
              <a:t>, la adopción será obligatoria siempre que la carga no resulte desproporcionada o indebida.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500" spc="-1" strike="noStrike">
                <a:solidFill>
                  <a:srgbClr val="404040"/>
                </a:solidFill>
                <a:latin typeface="Century Gothic"/>
              </a:rPr>
              <a:t>La importancia de estas distinciones, categorización y configuración tienen efectos a la hora de la garantía del derecho. Por ello se considera necesario un mayor debate sobre esta posibilidad.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800" spc="-1" strike="noStrike" u="sng">
                <a:solidFill>
                  <a:srgbClr val="262626"/>
                </a:solidFill>
                <a:uFillTx/>
                <a:latin typeface="Century Gothic"/>
              </a:rPr>
              <a:t>LOS APOYOS PARA EL EJERCICIO DE LA CAPACIDAD JURÍDICA (art. 12)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6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500" spc="-1" strike="noStrike">
                <a:solidFill>
                  <a:srgbClr val="404040"/>
                </a:solidFill>
                <a:latin typeface="Century Gothic"/>
              </a:rPr>
              <a:t>Por el modo en que se encuentran previstos en el art. 12, los apoyos para el ejercicio de la capacidad jurídica son parte del contenido esencial de dicho derecho, y son asimismo una medida para garantizar la accesibilidad (reconocida por la norma como condición de accesibilidad, CON INDEPENDENCIA DE CUANDO SE ADOPTEN).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500" spc="-1" strike="noStrike">
                <a:solidFill>
                  <a:srgbClr val="404040"/>
                </a:solidFill>
                <a:latin typeface="Century Gothic"/>
              </a:rPr>
              <a:t>Ello porque asimismo los apoyos del 12 están reforzados como obligación específica (la obligación de adoptarlos cuando sean necesarios). 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500" spc="-1" strike="noStrike">
                <a:solidFill>
                  <a:srgbClr val="404040"/>
                </a:solidFill>
                <a:latin typeface="Century Gothic"/>
              </a:rPr>
              <a:t>Si la norma no lo dijera, de todos modos formarían parte del contenido esencial del ejercicio de la capacidad jurídica, pero están reconocidos de manera especifica.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500" spc="-1" strike="noStrike">
                <a:solidFill>
                  <a:srgbClr val="404040"/>
                </a:solidFill>
                <a:latin typeface="Century Gothic"/>
              </a:rPr>
              <a:t>Es por ello que los apoyos del 12 no pueden ser considerados como ajustes razonables. Y en este sentido esto es muy importante</a:t>
            </a:r>
            <a:r>
              <a:rPr b="1" lang="es-ES" sz="1500" spc="-1" strike="noStrike">
                <a:solidFill>
                  <a:srgbClr val="404040"/>
                </a:solidFill>
                <a:latin typeface="Century Gothic"/>
              </a:rPr>
              <a:t>, porque no es posible debatir ni sobre su inmediatez ni sobre la carga desproporcionada o indebida</a:t>
            </a:r>
            <a:r>
              <a:rPr b="0" lang="es-ES" sz="1500" spc="-1" strike="noStrike">
                <a:solidFill>
                  <a:srgbClr val="404040"/>
                </a:solidFill>
                <a:latin typeface="Century Gothic"/>
              </a:rPr>
              <a:t>.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971280" y="2781000"/>
            <a:ext cx="817236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7030a0"/>
                </a:solidFill>
                <a:latin typeface="Century Gothic"/>
              </a:rPr>
              <a:t>Agustina Palacios</a:t>
            </a:r>
            <a:br>
              <a:rPr sz="3200"/>
            </a:br>
            <a:r>
              <a:rPr b="0" lang="es-ES" sz="3200" spc="-1" strike="noStrike">
                <a:solidFill>
                  <a:srgbClr val="7030a0"/>
                </a:solidFill>
                <a:latin typeface="Century Gothic"/>
              </a:rPr>
              <a:t>Centro de Investigación y Docencia en Derechos Humanos “Alicia Moreau”, Facultad de Derecho, Universidad Nacional de Mar del Plata (Argentina)</a:t>
            </a:r>
            <a:br>
              <a:rPr sz="3200"/>
            </a:br>
            <a:r>
              <a:rPr b="0" lang="es-ES" sz="3200" spc="-1" strike="noStrike">
                <a:solidFill>
                  <a:srgbClr val="7030a0"/>
                </a:solidFill>
                <a:latin typeface="Century Gothic"/>
              </a:rPr>
              <a:t>aguspalacios@hotmail.com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8" name="Rectangle 4"/>
          <p:cNvSpPr/>
          <p:nvPr/>
        </p:nvSpPr>
        <p:spPr>
          <a:xfrm>
            <a:off x="250920" y="260280"/>
            <a:ext cx="8748720" cy="7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99" name="Imagen 4" descr="CONICET-logo"/>
          <p:cNvPicPr/>
          <p:nvPr/>
        </p:nvPicPr>
        <p:blipFill>
          <a:blip r:embed="rId1"/>
          <a:stretch/>
        </p:blipFill>
        <p:spPr>
          <a:xfrm>
            <a:off x="3564000" y="260280"/>
            <a:ext cx="2555640" cy="15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7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7T14:22:13Z</dcterms:created>
  <dc:creator>aprizzo</dc:creator>
  <dc:description/>
  <dc:language>en-US</dc:language>
  <cp:lastModifiedBy>federica palacios</cp:lastModifiedBy>
  <dcterms:modified xsi:type="dcterms:W3CDTF">2017-08-24T02:27:36Z</dcterms:modified>
  <cp:revision>401</cp:revision>
  <dc:subject/>
  <dc:title>Diapositiva 1</dc:title>
</cp:coreProperties>
</file>