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560" y="40546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8600" y="40546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4400" y="190512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600" y="190512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560" y="40546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4400" y="40546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600" y="40546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8600" y="190512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90512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8600" y="40546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560" y="40546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860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8600" y="40546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4400" y="190512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600" y="190512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560" y="40546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4400" y="40546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600" y="40546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8600" y="190512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458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8600" y="190512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8600" y="40546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90512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4" marL="1981080" indent="-228600">
              <a:spcBef>
                <a:spcPts val="799"/>
              </a:spcBef>
              <a:buClr>
                <a:srgbClr val="001c3d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317520" y="6222960"/>
            <a:ext cx="624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aculty of Law</a:t>
            </a:r>
            <a:endParaRPr b="0" lang="en-US" sz="14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2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1c3d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3" marL="1562040" indent="-228600">
              <a:spcBef>
                <a:spcPts val="799"/>
              </a:spcBef>
              <a:buClr>
                <a:srgbClr val="001c3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4" marL="1981080" indent="-228600">
              <a:spcBef>
                <a:spcPts val="799"/>
              </a:spcBef>
              <a:buClr>
                <a:srgbClr val="001c3d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5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  <a:p>
            <a:pPr lvl="6" marL="198108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c3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50920" y="1700280"/>
            <a:ext cx="8407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A Denial of a Reasonable Accommodation: 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Direct Discrimination, 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Indirect Discrimination, 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or a Third Form of Discrimination?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Lisa Waddington, 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EDF Chair in European Disability Law</a:t>
            </a:r>
            <a:endParaRPr b="0" lang="en-US" sz="28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1c3d"/>
              </a:solidFill>
              <a:latin typeface="Verdana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3. Different Justifications</a:t>
            </a:r>
            <a:br>
              <a:rPr sz="2800"/>
            </a:b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5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The justification for what would otherwise be an indirectly discriminatory act </a:t>
            </a:r>
            <a:r>
              <a:rPr b="0" i="1" lang="en-US" sz="2200" spc="-1" strike="noStrike">
                <a:solidFill>
                  <a:srgbClr val="001c3d"/>
                </a:solidFill>
                <a:latin typeface="Verdana"/>
              </a:rPr>
              <a:t>(legitimate aim, and means chosen to fulfil legitimate aim are appropriate and necessary)</a:t>
            </a: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 is different from the justification for a denial of a reasonable accommodation </a:t>
            </a:r>
            <a:r>
              <a:rPr b="0" i="1" lang="en-US" sz="2200" spc="-1" strike="noStrike">
                <a:solidFill>
                  <a:srgbClr val="001c3d"/>
                </a:solidFill>
                <a:latin typeface="Verdana"/>
              </a:rPr>
              <a:t>(disproportionate or undue burden)</a:t>
            </a: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Are these justifications the same or different in practice? Not clear … 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4. Conclusion: A denial of a reasonable accommodation can be regarded as a form of indirect discrimination but there are problems:</a:t>
            </a: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560" y="2781360"/>
            <a:ext cx="84582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This approach fits uneasily with the group-based assessment inherent to indirect discrimin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The justification tests for denial of reasonable accommodation and indirect discrimination are worded differently.</a:t>
            </a:r>
            <a:r>
              <a:rPr b="0" lang="en-GB" sz="2200" spc="-1" strike="noStrike">
                <a:solidFill>
                  <a:srgbClr val="001c3d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c3d"/>
                </a:solidFill>
                <a:latin typeface="Verdana"/>
              </a:rPr>
              <a:t>What is the overall conclusion? 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1557360"/>
            <a:ext cx="8458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A denial of a reasonable accommodation could potentially be classified as a form of direct discrimination or as a form of indirect discrimin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In both cases it would need to be defined as a special non-typical form of such discrimination.  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These two approaches would be in accordance with the CRPD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1c3d"/>
                </a:solidFill>
                <a:latin typeface="Verdana"/>
              </a:rPr>
              <a:t>Denial of a reasonable accommodation as a third form of discrimination</a:t>
            </a: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1988640"/>
            <a:ext cx="84582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However, the favoured approach is to define a denial of a reasonable accommodation as a third and separate form of discrimination: 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Emphasizes the difference between discrimination in the form of a denial of a reasonable accommodation and other forms of discrimin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Helps to heighten awareness of the existence of discrimination in the form of a denial of a reasonable accommod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Does not create additional confusion with regard to the concepts of direct and indirect discrimin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8816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c3d"/>
                </a:solidFill>
                <a:latin typeface="Verdana"/>
              </a:rPr>
              <a:t>How to classify a denial of a reasonable accommodation? What kind of discrimination is it?</a:t>
            </a: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2565000"/>
            <a:ext cx="8458200" cy="30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The reasonable accommodation duty is a complex and often misunderstood concept - any approach should seek to add clarity and not create more confusion. 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91454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c3d"/>
                </a:solidFill>
                <a:latin typeface="Verdana"/>
              </a:rPr>
              <a:t>Should a Denial of a Reasonable Accommodation be classified as Direct Discrimination?</a:t>
            </a: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840" y="2276280"/>
            <a:ext cx="845820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Definition of direct discrimination: where one person is treated less favourably than another is, has been, or would be treated, in a comparable situation on the ground of disability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A denial of a reasonable accommodation could be classified as direct discrimination, but there are problems with this approach: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c3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c3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4582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1. Comparator Issue</a:t>
            </a: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560" y="1412640"/>
            <a:ext cx="84582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In general a comparator is required to establish direct discrimination. 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Identifying a comparator can be difficult in a case of a denial of a reasonable accommod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The comparator requirement sits rather uneasily with the reality of the way the reasonable accommodation duty works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Possible solution:  Remove the comparator requirement for reasonable accommodation claims, and say that direct discrimination includes the failure to create equal opportunities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However, this is a complicated approach. 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80416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2. Justification Issue</a:t>
            </a: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1347840" y="2233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560" y="1557360"/>
            <a:ext cx="86598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Direct discrimination is generally prohibited outright and there are no possible justifications. Cost is never accepted as a legitimate justification or reason for direct discrimin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However cost (disproportionate or undue burden) can be a justification for a denial of a reasonable accommod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Recognising cost as a legitimate reason for a denial of a reasonable accommodation (as direct discrimination), could undermine the strict prohibition of direct discrimination that exists elsewhere, and imply that cost could be a reason to justify other forms of direct discrimin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914040"/>
            <a:ext cx="90723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3. Conclusion: A denial of a reasonable accommodation can be regarded as a form</a:t>
            </a:r>
            <a:br>
              <a:rPr sz="2800"/>
            </a:b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of direct discrimination but there are problems: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2636640"/>
            <a:ext cx="845820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This approach fits uneasily with the requirement to have a comparator to establish direct discrimin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This could undermine the strict prohibition of direct discrimination which otherwise does not permit cost as a justific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This could result in confusion concerning the concepts of direct discrimination and reasonable accommod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3534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c3d"/>
                </a:solidFill>
                <a:latin typeface="Verdana"/>
              </a:rPr>
              <a:t>Should a denial of a Reasonable Accommodation be classified as Indirect Discrimination?</a:t>
            </a: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2133360"/>
            <a:ext cx="8588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Definition of indirect discrimination: An apparently neutral provision, criterion or practice which would put persons having a particular disability at a disadvantage,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unless the apparently neutral provision, criterion or practice is justified by a legitimate aim, and the means chosen for achieving that aim are appropriate and necessary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A denial of a reasonable accommodation could be classified as indirect discrimination, but there are problems with this approach: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914040"/>
            <a:ext cx="849780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1. Indirect Discrimination is a form of discrimination directed at groups not individuals</a:t>
            </a: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4560" y="2349360"/>
            <a:ext cx="8515080" cy="36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Indirect discrimination is assessed in terms of groups – one group of people e.g. wheelchair users must be disadvantaged in comparison with another group – e.g. people who can walk upstairs with little effort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In some cases this comparison would identify a denial of a reasonable accommodation as a form of discrimination – but not in all cases. 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3d"/>
                </a:solidFill>
                <a:latin typeface="Verdana"/>
              </a:rPr>
              <a:t>2. A Reasonable Accommodation is an Individualised Measure</a:t>
            </a:r>
            <a:endParaRPr b="1" lang="en-US" sz="2800" spc="-1" strike="noStrike">
              <a:solidFill>
                <a:srgbClr val="001c3d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560" y="1844640"/>
            <a:ext cx="865980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A reasonable accommodation is an individualised measure, and does not require that the absence of the accommodation disadvantage anyone other than the claimant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Where a specific individualised reasonable accommodation is at issue, it might be impossible to establish the group based disadvantage required for indirect discrimination – meaning that no indirect discrimination could be identified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Possible solution: Classify any unjustified failure to make a reasonable accommodation as an act of indirect discrimination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c3d"/>
                </a:solidFill>
                <a:latin typeface="Verdana"/>
              </a:rPr>
              <a:t>However, this is a complicated approach.</a:t>
            </a:r>
            <a:endParaRPr b="0" lang="en-US" sz="22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1c3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c3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c3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9:02:05Z</dcterms:created>
  <dc:creator>Vormgeversassociatie / Sjoerd Kulsdom</dc:creator>
  <dc:description/>
  <dc:language>en-US</dc:language>
  <cp:lastModifiedBy>AthenaDesktop</cp:lastModifiedBy>
  <dcterms:modified xsi:type="dcterms:W3CDTF">2017-08-21T08:44:53Z</dcterms:modified>
  <cp:revision>178</cp:revision>
  <dc:subject/>
  <dc:title>PowerPoint Presentation</dc:title>
</cp:coreProperties>
</file>