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0833-10FD-48A7-AFC1-2C17335FFD1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anto a conversa com ela, acho que uma apresentação pequena para dar um panorâma das desigualdades raciais no Brasil seria legal para contextualizar a discussão e depois uma discussão sobre indicadores raciais nas estatísticas brasileiras e finalmente as desigualdades na graduação.   acho que poderíamos manter aquela apresentação no que tange aos indicadores educacionais, mercado de trabalho, violência e representação no Congresso N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04D4-0A42-4020-A8AF-C9B857D00E80}" type="slidenum">
              <a:rPr b="0" lang="pt-BR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0AF9-8F80-4DE5-A050-ED1538D92F02}" type="slidenum">
              <a:rPr b="0" lang="pt-BR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o bra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623E-0328-4963-BB56-5F8B39397100}" type="slidenum">
              <a:rPr b="0" lang="pt-BR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4F4F-B50B-4747-947F-FC97316B3383}" type="slidenum">
              <a:rPr b="0" lang="pt-BR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EA77-8C90-421B-9A41-85B3918BC665}" type="slidenum">
              <a:rPr b="0" lang="pt-BR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26C6-5F62-410B-B952-158B11013940}" type="slidenum">
              <a:rPr b="0" lang="pt-BR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CEC8-9630-456C-9F1A-BD71BE2EA687}" type="slidenum">
              <a:rPr b="0" lang="pt-BR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A305-F482-48F8-8162-CB2EA97F7BCB}" type="slidenum">
              <a:rPr b="0" lang="pt-BR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ADE3-CB40-4337-8E8B-634680947200}" type="slidenum">
              <a:rPr b="0" lang="pt-BR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18C0-FB66-4C13-8DEA-B10E628CC8FE}" type="slidenum">
              <a:rPr b="0" lang="pt-BR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EE3C-5F00-4D89-AB12-961DC4BA10E9}" type="slidenum">
              <a:rPr b="0" lang="pt-BR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EDD6-162D-40EC-A193-286077173FE9}" type="slidenum">
              <a:rPr b="0" lang="pt-BR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9822-3A56-4592-AF15-BF2814C4933D}" type="slidenum">
              <a:rPr b="0" lang="pt-BR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348C-C173-4E3B-BEF7-4D0A4E738DFB}" type="slidenum">
              <a:rPr b="0" lang="pt-BR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61A37-F3E0-47B9-8A20-8C3FEB0BA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5FC66-5D45-424D-B3C3-2DFDDD84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FF50E-5C7D-4295-9C40-9D448C660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E83D1-A090-4112-9AE9-64422591B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ECDE0-2299-48B2-A821-06561D15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B39D0-D503-414E-9557-BBD3BA5D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3376D-8B4D-4221-9248-654FFFC1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BEF64-B7D5-459F-9DEF-28112C49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2BDE5-E737-4150-A246-8E24D25C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A64E4-A4BB-4EA2-AA80-B77B260A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7BCE9-F149-4B60-946D-A6D3AAF9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2AE2D-470E-498C-8B21-32AB4C88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7FFB-28E0-4030-8795-6D1521712118}" type="slidenum"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5e47"/>
                </a:solidFill>
                <a:latin typeface="Cambria"/>
              </a:rPr>
              <a:t>Race Relations and Development:</a:t>
            </a:r>
            <a:endParaRPr b="0" lang="en-US" sz="4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5e47"/>
                </a:solidFill>
                <a:latin typeface="Cambria"/>
              </a:rPr>
              <a:t>Permanent Monitoring through social indicator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3992400" cy="1189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4570560" y="422280"/>
            <a:ext cx="3860640" cy="124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75e47"/>
                </a:solidFill>
                <a:latin typeface="Cambria"/>
              </a:rPr>
              <a:t>White families* receiving </a:t>
            </a:r>
            <a:r>
              <a:rPr b="1" i="1" lang="en-US" sz="1800" spc="-1" strike="noStrike">
                <a:solidFill>
                  <a:srgbClr val="675e47"/>
                </a:solidFill>
                <a:latin typeface="Cambria"/>
              </a:rPr>
              <a:t>Bolsa Família</a:t>
            </a:r>
            <a:r>
              <a:rPr b="1" lang="en-US" sz="1800" spc="-1" strike="noStrike">
                <a:solidFill>
                  <a:srgbClr val="675e47"/>
                </a:solidFill>
                <a:latin typeface="Cambria"/>
              </a:rPr>
              <a:t>, Brazil, February 2009</a:t>
            </a:r>
            <a:endParaRPr b="0" lang="en-US" sz="1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536840"/>
            <a:ext cx="440208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932360" y="549000"/>
            <a:ext cx="34560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mbria"/>
              </a:rPr>
              <a:t>The Program is part of the Brazilian governmental welfare program </a:t>
            </a:r>
            <a:r>
              <a:rPr b="0" i="1" lang="en-US" sz="2400" spc="-1" strike="noStrike">
                <a:solidFill>
                  <a:srgbClr val="2f2b20"/>
                </a:solidFill>
                <a:latin typeface="Cambria"/>
              </a:rPr>
              <a:t>Fome Zero</a:t>
            </a:r>
            <a:r>
              <a:rPr b="0" lang="en-US" sz="2400" spc="-1" strike="noStrike">
                <a:solidFill>
                  <a:srgbClr val="2f2b20"/>
                </a:solidFill>
                <a:latin typeface="Cambria"/>
              </a:rPr>
              <a:t> (Zero Hunge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mbria"/>
              </a:rPr>
              <a:t>It provides financial aid to poor and indigent Brazilian families on condition that their children attend school and are vaccinat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6" name="Picture 2" descr="C:\LAESER\Relatório_Anual_2008-2009\Versão_Edição\Cap_4\Mapas\BRANCOS-PBF.jpg"/>
          <p:cNvPicPr/>
          <p:nvPr/>
        </p:nvPicPr>
        <p:blipFill>
          <a:blip r:embed="rId1"/>
          <a:stretch/>
        </p:blipFill>
        <p:spPr>
          <a:xfrm>
            <a:off x="108000" y="1214280"/>
            <a:ext cx="5246640" cy="3621240"/>
          </a:xfrm>
          <a:prstGeom prst="rect">
            <a:avLst/>
          </a:prstGeom>
          <a:ln w="0">
            <a:noFill/>
          </a:ln>
        </p:spPr>
      </p:pic>
      <p:sp>
        <p:nvSpPr>
          <p:cNvPr id="87" name="CaixaDeTexto 4"/>
          <p:cNvSpPr/>
          <p:nvPr/>
        </p:nvSpPr>
        <p:spPr>
          <a:xfrm>
            <a:off x="324000" y="6000840"/>
            <a:ext cx="51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Calibri"/>
              </a:rPr>
              <a:t>* </a:t>
            </a:r>
            <a:r>
              <a:rPr b="0" lang="en-US" sz="1600" spc="-1" strike="noStrike">
                <a:solidFill>
                  <a:srgbClr val="2f2b20"/>
                </a:solidFill>
                <a:latin typeface="Cambria"/>
              </a:rPr>
              <a:t>The chief of the family is White</a:t>
            </a:r>
            <a:endParaRPr b="0" lang="en-US" sz="16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88" name="CaixaDeTexto 5"/>
          <p:cNvSpPr/>
          <p:nvPr/>
        </p:nvSpPr>
        <p:spPr>
          <a:xfrm>
            <a:off x="500040" y="51436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f2b20"/>
                </a:solidFill>
                <a:latin typeface="Calibri"/>
              </a:rPr>
              <a:t>Source: prepared by LAESER on data from MDS, CADUNICO microdata</a:t>
            </a:r>
            <a:endParaRPr b="0" lang="en-US" sz="9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600" spc="-1" strike="noStrike">
                <a:solidFill>
                  <a:srgbClr val="675e47"/>
                </a:solidFill>
                <a:latin typeface="Cambria"/>
              </a:rPr>
              <a:t>The Color of the National Congres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95280" y="4076640"/>
            <a:ext cx="7129440" cy="20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2f2b20"/>
                </a:solidFill>
                <a:latin typeface="Cambria"/>
              </a:rPr>
              <a:t>Of the elected Deputies in 2006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2f2b20"/>
                </a:solidFill>
                <a:latin typeface="Cambria"/>
              </a:rPr>
              <a:t>79,5% are White Men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2f2b20"/>
                </a:solidFill>
                <a:latin typeface="Cambria"/>
              </a:rPr>
              <a:t>7,4% White Wom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2f2b20"/>
                </a:solidFill>
                <a:latin typeface="Cambria"/>
              </a:rPr>
              <a:t>8,4% Black and Brown M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2f2b20"/>
                </a:solidFill>
                <a:latin typeface="Cambria"/>
              </a:rPr>
              <a:t>0,6% Black and Brown Wom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7620120" cy="237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62012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5e47"/>
                </a:solidFill>
                <a:latin typeface="Cambria"/>
              </a:rPr>
              <a:t>EDUCATION</a:t>
            </a:r>
            <a:br>
              <a:rPr sz="2800"/>
            </a:br>
            <a:r>
              <a:rPr b="0" lang="en-US" sz="2800" spc="-1" strike="noStrike">
                <a:solidFill>
                  <a:srgbClr val="675e47"/>
                </a:solidFill>
                <a:latin typeface="Cambria"/>
              </a:rPr>
              <a:t>Throughout the 20th century, Brazil’s overall literacy rate climbed steadily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5589360"/>
            <a:ext cx="771516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mbria"/>
              </a:rPr>
              <a:t>The relative disparity between rates for Whites and Afrodescendants has grown from 74% in 1950 to 125% in 2000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4" name="CaixaDeTexto 1"/>
          <p:cNvSpPr/>
          <p:nvPr/>
        </p:nvSpPr>
        <p:spPr>
          <a:xfrm>
            <a:off x="6012000" y="1341360"/>
            <a:ext cx="194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mbria"/>
              </a:rPr>
              <a:t>However, the comparative rates of illiteracy for Afrodescendants and whites remain highly unequal over time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41972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250920" y="1943280"/>
            <a:ext cx="5761080" cy="3552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e47"/>
                </a:solidFill>
                <a:latin typeface="Cambria"/>
              </a:rPr>
              <a:t>In recent decades, there has been a pronounced increase in enrollment rates and  average years of education, particularly among the young 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724360" y="1773000"/>
            <a:ext cx="23529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ese improved indicators apply to both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Afrodescendants and Whit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Despite these gains, significant racial disparities remained essentially constan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5318280" cy="4537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ACESS TO UNIVERSITY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469800" y="1700280"/>
            <a:ext cx="7488360" cy="3673440"/>
          </a:xfrm>
          <a:prstGeom prst="rect">
            <a:avLst/>
          </a:prstGeom>
          <a:ln w="0">
            <a:noFill/>
          </a:ln>
        </p:spPr>
      </p:pic>
      <p:sp>
        <p:nvSpPr>
          <p:cNvPr id="102" name="CaixaDeTexto 7"/>
          <p:cNvSpPr/>
          <p:nvPr/>
        </p:nvSpPr>
        <p:spPr>
          <a:xfrm>
            <a:off x="649440" y="5718240"/>
            <a:ext cx="712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f2b20"/>
                </a:solidFill>
                <a:latin typeface="Cambria"/>
              </a:rPr>
              <a:t>The </a:t>
            </a:r>
            <a:r>
              <a:rPr b="0" i="1" lang="en-US" sz="1600" spc="-1" strike="noStrike">
                <a:solidFill>
                  <a:srgbClr val="2f2b20"/>
                </a:solidFill>
                <a:latin typeface="Cambria"/>
              </a:rPr>
              <a:t>gross enrollment rate </a:t>
            </a:r>
            <a:r>
              <a:rPr b="0" lang="en-US" sz="1600" spc="-1" strike="noStrike">
                <a:solidFill>
                  <a:srgbClr val="2f2b20"/>
                </a:solidFill>
                <a:latin typeface="Cambria"/>
              </a:rPr>
              <a:t>is the number of students enrolled at university as a percentage of the population in the theoretical correct age group (18 to 24 years old).</a:t>
            </a:r>
            <a:endParaRPr b="0" lang="en-US" sz="16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600" spc="-1" strike="noStrike">
                <a:solidFill>
                  <a:srgbClr val="675e47"/>
                </a:solidFill>
                <a:latin typeface="Cambria"/>
              </a:rPr>
              <a:t>Despite Affirmative Actions in university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50920" y="1536480"/>
            <a:ext cx="244944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2f2b20"/>
                </a:solidFill>
                <a:latin typeface="Cambria"/>
              </a:rPr>
              <a:t>In 2008, still 92.3% of young Afrodescendants (18-24 yo) were out of university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2f2b20"/>
                </a:solidFill>
                <a:latin typeface="Cambria"/>
              </a:rPr>
              <a:t>In that year, </a:t>
            </a:r>
            <a:r>
              <a:rPr b="0" lang="en-US" sz="2100" spc="-1" strike="noStrike">
                <a:solidFill>
                  <a:srgbClr val="2f2b20"/>
                </a:solidFill>
                <a:latin typeface="Cambria"/>
              </a:rPr>
              <a:t>the relative disparity between rates for Whites and Afrodescendants </a:t>
            </a:r>
            <a:r>
              <a:rPr b="0" lang="it-IT" sz="2100" spc="-1" strike="noStrike">
                <a:solidFill>
                  <a:srgbClr val="2f2b20"/>
                </a:solidFill>
                <a:latin typeface="Cambria"/>
              </a:rPr>
              <a:t>was 167%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5" name="CaixaDeTexto 5"/>
          <p:cNvSpPr/>
          <p:nvPr/>
        </p:nvSpPr>
        <p:spPr>
          <a:xfrm>
            <a:off x="2928960" y="5661000"/>
            <a:ext cx="557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Cambria"/>
              </a:rPr>
              <a:t>The </a:t>
            </a:r>
            <a:r>
              <a:rPr b="0" i="1" lang="en-US" sz="1600" spc="-1" strike="noStrike">
                <a:solidFill>
                  <a:srgbClr val="2f2b20"/>
                </a:solidFill>
                <a:latin typeface="Cambria"/>
              </a:rPr>
              <a:t>net enrollment rate </a:t>
            </a:r>
            <a:r>
              <a:rPr b="0" lang="en-US" sz="1600" spc="-1" strike="noStrike">
                <a:solidFill>
                  <a:srgbClr val="2f2b20"/>
                </a:solidFill>
                <a:latin typeface="Cambria"/>
              </a:rPr>
              <a:t>is the number of students between 18 and 24 years old enrolled at university, expressed as a percentage of the population in that age group</a:t>
            </a:r>
            <a:endParaRPr b="0" lang="en-US" sz="16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2933640" y="1606680"/>
            <a:ext cx="5016600" cy="403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679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600" spc="-1" strike="noStrike">
                <a:solidFill>
                  <a:srgbClr val="675e47"/>
                </a:solidFill>
                <a:latin typeface="Cambria"/>
              </a:rPr>
              <a:t>Affirmative Act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6711840" cy="4886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600" spc="-1" strike="noStrike">
                <a:solidFill>
                  <a:srgbClr val="675e47"/>
                </a:solidFill>
                <a:latin typeface="Cambria"/>
              </a:rPr>
              <a:t>Affirmative Act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57200" y="1484280"/>
            <a:ext cx="7620120" cy="4849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600" spc="-1" strike="noStrike">
                <a:solidFill>
                  <a:srgbClr val="675e47"/>
                </a:solidFill>
                <a:latin typeface="Cambria"/>
              </a:rPr>
              <a:t>ACESS TO POSTGRADUATE EDUCAT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2276640"/>
            <a:ext cx="7620120" cy="41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f2b20"/>
                </a:solidFill>
                <a:latin typeface="Cambria"/>
              </a:rPr>
              <a:t>In 2008,  the Afrodescendants were only 20% (about  65 000)</a:t>
            </a:r>
            <a:r>
              <a:rPr b="0" lang="en-US" sz="2800" spc="-1" strike="noStrike">
                <a:solidFill>
                  <a:srgbClr val="2f2b20"/>
                </a:solidFill>
                <a:latin typeface="Cambria"/>
              </a:rPr>
              <a:t> of the almost 326 000 students attending a master's or doctorate program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f2b20"/>
                </a:solidFill>
                <a:latin typeface="Cambria"/>
              </a:rPr>
              <a:t>White population: 79% (about 259 thousand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600" spc="-1" strike="noStrike">
                <a:solidFill>
                  <a:srgbClr val="675e47"/>
                </a:solidFill>
                <a:latin typeface="Cambria"/>
              </a:rPr>
              <a:t>LABOR MARKE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651640" y="1536480"/>
            <a:ext cx="242568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2f2b20"/>
                </a:solidFill>
                <a:latin typeface="Cambria"/>
              </a:rPr>
              <a:t>Earnings of White employed labor force are 89% higher than Afrodescendant ones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2f2b20"/>
                </a:solidFill>
                <a:latin typeface="Cambria"/>
              </a:rPr>
              <a:t>The difference is 94% comparing White and Afrodescendant Men, and 85% comparing White and Afrodescendant Women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5805000"/>
            <a:ext cx="83170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75e47"/>
                </a:solidFill>
                <a:latin typeface="Cambria"/>
              </a:rPr>
              <a:t>Racial and gender disparities in earnings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457200" y="1484280"/>
            <a:ext cx="5267160" cy="417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600" spc="-1" strike="noStrike">
                <a:solidFill>
                  <a:srgbClr val="675e47"/>
                </a:solidFill>
                <a:latin typeface="Cambria"/>
              </a:rPr>
              <a:t>...and in the unemployment rat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292360" y="1536840"/>
            <a:ext cx="278460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mbria"/>
              </a:rPr>
              <a:t>The unemployment rate of Afrodescendant Women is 142% higher than the rate of White Men, 51% higher of White Women, and 73% higher than Afrodescendant M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457200" y="1700280"/>
            <a:ext cx="4835520" cy="4608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5e47"/>
                </a:solidFill>
                <a:latin typeface="Cambria"/>
              </a:rPr>
              <a:t>HEALTHCARE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In 2008, 67% of the health care services and 79% of the hospitalizations provided to Afrodescendants were covered by the National Health System (Sistema Único de Saúde  - SU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10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mbria"/>
              </a:rPr>
              <a:t>White population: 47% of the health care services and 58% of the hospitalization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Only 17% of Afrodescendant population was covered by a health insurance pla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10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mbria"/>
              </a:rPr>
              <a:t>White population: 35% had a health insurance pla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600" spc="-1" strike="noStrike">
                <a:solidFill>
                  <a:srgbClr val="675e47"/>
                </a:solidFill>
                <a:latin typeface="Cambria"/>
              </a:rPr>
              <a:t>Dental Car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50920" y="5013360"/>
            <a:ext cx="78264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f2b20"/>
                </a:solidFill>
                <a:latin typeface="Cambria"/>
              </a:rPr>
              <a:t>In 2008, the relative proportion of Afrodescendants who have never been to a dentist was the same proportion of White 10 years earli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6572160" cy="3527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VIOLENCE: </a:t>
            </a:r>
            <a:br>
              <a:rPr sz="4600"/>
            </a:br>
            <a:r>
              <a:rPr b="0" lang="en-US" sz="2800" spc="-1" strike="noStrike">
                <a:solidFill>
                  <a:srgbClr val="675e47"/>
                </a:solidFill>
                <a:latin typeface="Cambria"/>
              </a:rPr>
              <a:t>The number of homicides increased from 13,910 in 1980, to 47,707 in 2007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457200" y="2290680"/>
            <a:ext cx="7620120" cy="3419640"/>
          </a:xfrm>
          <a:prstGeom prst="rect">
            <a:avLst/>
          </a:prstGeom>
          <a:ln w="0">
            <a:noFill/>
          </a:ln>
        </p:spPr>
      </p:pic>
      <p:sp>
        <p:nvSpPr>
          <p:cNvPr id="68" name="CaixaDeTexto 8"/>
          <p:cNvSpPr/>
          <p:nvPr/>
        </p:nvSpPr>
        <p:spPr>
          <a:xfrm>
            <a:off x="2556000" y="5877000"/>
            <a:ext cx="38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mbria"/>
              </a:rPr>
              <a:t>Yearly increase of 145%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5e47"/>
                </a:solidFill>
                <a:latin typeface="Cambria"/>
              </a:rPr>
              <a:t>In 2007, the probability of a Afrodescendant Man to be murdered was 105% higher than of  a White Man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5732640"/>
            <a:ext cx="76201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6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mbria"/>
              </a:rPr>
              <a:t>In 2001, the homicide mortality rate of the Afrodescendants was 54% higher than Whit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777080" cy="396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600" spc="-1" strike="noStrike">
                <a:solidFill>
                  <a:srgbClr val="675e47"/>
                </a:solidFill>
                <a:latin typeface="Cambria"/>
              </a:rPr>
              <a:t>Homicides among young Brazilia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50920" y="5661000"/>
            <a:ext cx="79214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mbria"/>
              </a:rPr>
              <a:t>In 2007, half of the deaths of young Afrodescendants aged 15-24 were murders. 30% in case of young Whit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7777080" cy="3835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8" descr=""/>
          <p:cNvPicPr/>
          <p:nvPr/>
        </p:nvPicPr>
        <p:blipFill>
          <a:blip r:embed="rId1"/>
          <a:stretch/>
        </p:blipFill>
        <p:spPr>
          <a:xfrm>
            <a:off x="163440" y="2522520"/>
            <a:ext cx="5316480" cy="3676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76201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5e47"/>
                </a:solidFill>
                <a:latin typeface="Cambria"/>
              </a:rPr>
              <a:t>MINIMUM INCOME PROGRAMS </a:t>
            </a:r>
            <a:endParaRPr b="0" lang="en-US" sz="4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3657600" cy="90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75e47"/>
                </a:solidFill>
                <a:latin typeface="Cambria"/>
              </a:rPr>
              <a:t>Afrodescendant families* receiving Bolsa Família, Brazil, February 2009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19720" y="1534680"/>
            <a:ext cx="3657600" cy="110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5e47"/>
                </a:solidFill>
                <a:latin typeface="Cambria"/>
              </a:rPr>
              <a:t>In February 2009, almost 11 million families received Bolsa Famíli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858920" y="3141360"/>
            <a:ext cx="321804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mbria"/>
              </a:rPr>
              <a:t>The Afrodescendant families receiving </a:t>
            </a:r>
            <a:r>
              <a:rPr b="0" i="1" lang="en-US" sz="2400" spc="-1" strike="noStrike">
                <a:solidFill>
                  <a:srgbClr val="2f2b20"/>
                </a:solidFill>
                <a:latin typeface="Cambria"/>
              </a:rPr>
              <a:t>Bolsa Fam</a:t>
            </a:r>
            <a:r>
              <a:rPr b="0" i="1" lang="en-US" sz="2400" spc="-1" strike="noStrike">
                <a:solidFill>
                  <a:srgbClr val="2f2b20"/>
                </a:solidFill>
                <a:latin typeface="Cambria"/>
                <a:ea typeface="Arial"/>
              </a:rPr>
              <a:t>ília </a:t>
            </a:r>
            <a:r>
              <a:rPr b="0" lang="en-US" sz="2400" spc="-1" strike="noStrike">
                <a:solidFill>
                  <a:srgbClr val="2f2b20"/>
                </a:solidFill>
                <a:latin typeface="Cambria"/>
                <a:ea typeface="Arial"/>
              </a:rPr>
              <a:t>are about 7,3 milli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mbria"/>
                <a:ea typeface="Arial"/>
              </a:rPr>
              <a:t>66.4% of all the beneficiari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0" name="CaixaDeTexto 4"/>
          <p:cNvSpPr/>
          <p:nvPr/>
        </p:nvSpPr>
        <p:spPr>
          <a:xfrm>
            <a:off x="428760" y="6338880"/>
            <a:ext cx="47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Calibri"/>
              </a:rPr>
              <a:t>* </a:t>
            </a:r>
            <a:r>
              <a:rPr b="0" lang="en-US" sz="1600" spc="-1" strike="noStrike">
                <a:solidFill>
                  <a:srgbClr val="2f2b20"/>
                </a:solidFill>
                <a:latin typeface="Cambria"/>
              </a:rPr>
              <a:t>The chief of the family is Afrodescendant</a:t>
            </a:r>
            <a:endParaRPr b="0" lang="en-US" sz="16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81" name="CaixaDeTexto 5"/>
          <p:cNvSpPr/>
          <p:nvPr/>
        </p:nvSpPr>
        <p:spPr>
          <a:xfrm>
            <a:off x="433440" y="501336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f2b20"/>
                </a:solidFill>
                <a:latin typeface="Calibri"/>
              </a:rPr>
              <a:t>Source: prepared by LAESER on data from MDS, CADUNICO microdata</a:t>
            </a:r>
            <a:endParaRPr b="0" lang="en-US" sz="9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174760"/>
            <a:ext cx="3657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13:53:51Z</dcterms:created>
  <dc:creator>CARVANO</dc:creator>
  <dc:description/>
  <dc:language>en-US</dc:language>
  <cp:lastModifiedBy>Marcelo Paixao</cp:lastModifiedBy>
  <dcterms:modified xsi:type="dcterms:W3CDTF">2010-12-09T11:02:13Z</dcterms:modified>
  <cp:revision>284</cp:revision>
  <dc:subject/>
  <dc:title>Apresentação do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3059500.00000000</vt:lpwstr>
  </property>
  <property fmtid="{D5CDD505-2E9C-101B-9397-08002B2CF9AE}" pid="3" name="TemplateUrl">
    <vt:lpwstr/>
  </property>
  <property fmtid="{D5CDD505-2E9C-101B-9397-08002B2CF9AE}" pid="4" name="_SharedFileIndex">
    <vt:lpwstr/>
  </property>
  <property fmtid="{D5CDD505-2E9C-101B-9397-08002B2CF9AE}" pid="5" name="_SourceUrl">
    <vt:lpwstr/>
  </property>
  <property fmtid="{D5CDD505-2E9C-101B-9397-08002B2CF9AE}" pid="6" name="display_urn:schemas-microsoft-com:office:office#Author">
    <vt:lpwstr>Valerie MYTNIK</vt:lpwstr>
  </property>
  <property fmtid="{D5CDD505-2E9C-101B-9397-08002B2CF9AE}" pid="7" name="display_urn:schemas-microsoft-com:office:office#Editor">
    <vt:lpwstr>Valerie MYTNIK</vt:lpwstr>
  </property>
  <property fmtid="{D5CDD505-2E9C-101B-9397-08002B2CF9AE}" pid="8" name="xd_ProgID">
    <vt:lpwstr/>
  </property>
</Properties>
</file>