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2A6-D9CF-4183-89FF-1A5464ECDC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nto a conversa com ela, acho que uma apresentação pequena para dar um panorâma das desigualdades raciais no Brasil seria legal para contextualizar a discussão e depois uma discussão sobre indicadores raciais nas estatísticas brasileiras e finalmente as desigualdades na graduação.   acho que poderíamos manter aquela apresentação no que tange aos indicadores educacionais, mercado de trabalho, violência e representação no Congres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3099-4D0C-413F-858C-897FAF5AA2D6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76D9-17ED-41D4-A9B0-A2A8634727B4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 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446B-0F32-49ED-9A43-F7D792A05539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CB02-80E2-4398-86BA-2132D84EE355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3173-8324-46BF-9F26-3005E558DAAB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C28-1FC0-49A1-AD73-535A1A9AB076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0BE5-8F1F-4BEF-90AA-67DECF148491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015-2C70-4895-A5B2-6BBE8EE3EDBC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8BF-BCDA-4B66-B042-A9450CD8F494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00E1-94D5-4B1D-BA5D-871726094DC3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DD2-49D1-49CD-8A58-475C92F73516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89D0-217E-4705-A1B1-474F5DE59E5B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9C25-4013-4463-A230-3D478265D179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E0B-587C-4758-B85F-7DE952A75CBB}" type="slidenum">
              <a:rPr b="0" lang="pt-BR" sz="1200" spc="-1" strike="noStrike">
                <a:solidFill>
                  <a:srgbClr val="2f2b2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F470-8480-4640-B23A-144499D5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0ED5-10FC-496E-986F-D12DC4F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5785-59B2-496A-8AC1-591FB0AF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712C-4ABE-4207-9413-DC3DCCF4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2428-DEDC-43F8-8946-AC9AB2B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4061-EF18-4E2D-80AE-F8AFF75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486E-E172-4FDE-B091-CE0D390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34EF-4730-4D9C-B717-CE84A546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9ED9-D8BA-4F90-AFDD-51990AA0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4B07-3966-4022-A154-7C71D03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BDB8-7674-44EA-8378-53D42BA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AA95-9CEC-4FC3-A78C-6F9EEF1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BCD-BD0B-4435-96DA-D988FF16284C}" type="slidenum"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Race Relations and Development: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Cambria"/>
              </a:rPr>
              <a:t>Permanent Monitoring through social indicato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9240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0560" y="422280"/>
            <a:ext cx="3860640" cy="12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White families* receiving </a:t>
            </a:r>
            <a:r>
              <a:rPr b="1" i="1" lang="en-US" sz="1800" spc="-1" strike="noStrike">
                <a:solidFill>
                  <a:srgbClr val="675e47"/>
                </a:solidFill>
                <a:latin typeface="Cambria"/>
              </a:rPr>
              <a:t>Bolsa Família</a:t>
            </a: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, Brazil, February 2009</a:t>
            </a:r>
            <a:endParaRPr b="0" lang="en-US" sz="1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36840"/>
            <a:ext cx="44020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32360" y="549000"/>
            <a:ext cx="3456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Program is part of the Brazilian governmental welfare program 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</a:rPr>
              <a:t>Fome Zero</a:t>
            </a: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 (Zero Hung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It provides financial aid to poor and indigent Brazilian families on condition that their children attend school and are vaccina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6" name="Picture 2" descr="C:\LAESER\Relatório_Anual_2008-2009\Versão_Edição\Cap_4\Mapas\BRANCOS-PBF.jpg"/>
          <p:cNvPicPr/>
          <p:nvPr/>
        </p:nvPicPr>
        <p:blipFill>
          <a:blip r:embed="rId1"/>
          <a:stretch/>
        </p:blipFill>
        <p:spPr>
          <a:xfrm>
            <a:off x="108000" y="1214280"/>
            <a:ext cx="5246640" cy="362124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4"/>
          <p:cNvSpPr/>
          <p:nvPr/>
        </p:nvSpPr>
        <p:spPr>
          <a:xfrm>
            <a:off x="324000" y="6000840"/>
            <a:ext cx="51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*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chief of the family is White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8" name="CaixaDeTexto 5"/>
          <p:cNvSpPr/>
          <p:nvPr/>
        </p:nvSpPr>
        <p:spPr>
          <a:xfrm>
            <a:off x="500040" y="5143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Source: prepared by LAESER on data from MDS, CADUNICO microdata</a:t>
            </a: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The Color of the National Congres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4076640"/>
            <a:ext cx="71294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Of the elected Deputies in 2006,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79,5% are White M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7,4% White W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8,4% Black and Brown 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2f2b20"/>
                </a:solidFill>
                <a:latin typeface="Cambria"/>
              </a:rPr>
              <a:t>0,6% Black and Brown W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620120" cy="23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EDUCATION</a:t>
            </a:r>
            <a:br>
              <a:rPr sz="2800"/>
            </a:b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Throughout the 20th century, Brazil’s overall literacy rate climbed steadily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5589360"/>
            <a:ext cx="77151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The relative disparity between rates for Whites and Afrodescendants has grown from 74% in 1950 to 125% in 2000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CaixaDeTexto 1"/>
          <p:cNvSpPr/>
          <p:nvPr/>
        </p:nvSpPr>
        <p:spPr>
          <a:xfrm>
            <a:off x="6012000" y="1341360"/>
            <a:ext cx="194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However, the comparative rates of illiteracy for Afrodescendants and whites remain highly unequal over time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43280"/>
            <a:ext cx="5761080" cy="35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In recent decades, there has been a pronounced increase in enrollment rates and  average years of education, particularly among the young 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24360" y="1773000"/>
            <a:ext cx="23529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These improved indicators apply to both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Afrodescendants and Whi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Despite these gains, significant racial disparities remained essentially consta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3182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CESS TO UNIVERSIT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69800" y="1700280"/>
            <a:ext cx="7488360" cy="367344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7"/>
          <p:cNvSpPr/>
          <p:nvPr/>
        </p:nvSpPr>
        <p:spPr>
          <a:xfrm>
            <a:off x="649440" y="5718240"/>
            <a:ext cx="712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f2b20"/>
                </a:solidFill>
                <a:latin typeface="Cambria"/>
              </a:rPr>
              <a:t>The </a:t>
            </a:r>
            <a:r>
              <a:rPr b="0" i="1" lang="en-US" sz="1600" spc="-1" strike="noStrike">
                <a:solidFill>
                  <a:srgbClr val="2f2b20"/>
                </a:solidFill>
                <a:latin typeface="Cambria"/>
              </a:rPr>
              <a:t>gross enrollment rate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is the number of students enrolled at university as a percentage of the population in the theoretical correct age group (18 to 24 years old).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Despite Affirmative Actions in universit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536480"/>
            <a:ext cx="244944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In 2008, still 92.3% of young Afrodescendants (18-24 yo) were out of university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In that year, </a:t>
            </a:r>
            <a:r>
              <a:rPr b="0" lang="en-US" sz="2100" spc="-1" strike="noStrike">
                <a:solidFill>
                  <a:srgbClr val="2f2b20"/>
                </a:solidFill>
                <a:latin typeface="Cambria"/>
              </a:rPr>
              <a:t>the relative disparity between rates for Whites and Afrodescendants </a:t>
            </a:r>
            <a:r>
              <a:rPr b="0" lang="it-IT" sz="2100" spc="-1" strike="noStrike">
                <a:solidFill>
                  <a:srgbClr val="2f2b20"/>
                </a:solidFill>
                <a:latin typeface="Cambria"/>
              </a:rPr>
              <a:t>was 167%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CaixaDeTexto 5"/>
          <p:cNvSpPr/>
          <p:nvPr/>
        </p:nvSpPr>
        <p:spPr>
          <a:xfrm>
            <a:off x="2928960" y="566100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</a:t>
            </a:r>
            <a:r>
              <a:rPr b="0" i="1" lang="en-US" sz="1600" spc="-1" strike="noStrike">
                <a:solidFill>
                  <a:srgbClr val="2f2b20"/>
                </a:solidFill>
                <a:latin typeface="Cambria"/>
              </a:rPr>
              <a:t>net enrollment rate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is the number of students between 18 and 24 years old enrolled at university, expressed as a percentage of the population in that age group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933640" y="1606680"/>
            <a:ext cx="501660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679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Affirmative A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711840" cy="4886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Affirmative A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7620120" cy="484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ACESS TO POSTGRADUATE EDUC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276640"/>
            <a:ext cx="76201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2b20"/>
                </a:solidFill>
                <a:latin typeface="Cambria"/>
              </a:rPr>
              <a:t>In 2008,  the Afrodescendants were only 20% (about  65 000)</a:t>
            </a:r>
            <a:r>
              <a:rPr b="0" lang="en-US" sz="2800" spc="-1" strike="noStrike">
                <a:solidFill>
                  <a:srgbClr val="2f2b20"/>
                </a:solidFill>
                <a:latin typeface="Cambria"/>
              </a:rPr>
              <a:t> of the almost 326 000 students attending a master's or doctorate progra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2b20"/>
                </a:solidFill>
                <a:latin typeface="Cambria"/>
              </a:rPr>
              <a:t>White population: 79% (about 259 thousan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675e47"/>
                </a:solidFill>
                <a:latin typeface="Cambria"/>
              </a:rPr>
              <a:t>LABOR MARK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51640" y="1536480"/>
            <a:ext cx="24256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2b20"/>
                </a:solidFill>
                <a:latin typeface="Cambria"/>
              </a:rPr>
              <a:t>Earnings of White employed labor force are 89% higher than Afrodescendant on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2f2b20"/>
                </a:solidFill>
                <a:latin typeface="Cambria"/>
              </a:rPr>
              <a:t>The difference is 94% comparing White and Afrodescendant Men, and 85% comparing White and Afrodescendant Women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805000"/>
            <a:ext cx="83170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75e47"/>
                </a:solidFill>
                <a:latin typeface="Cambria"/>
              </a:rPr>
              <a:t>Racial and gender disparities in earning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526716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...and in the unemployment rat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292360" y="1536840"/>
            <a:ext cx="2784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unemployment rate of Afrodescendant Women is 142% higher than the rate of White Men, 51% higher of White Women, and 73% higher than Afrodescendant 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83552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HEALTHCAR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In 2008, 67% of the health care services and 79% of the hospitalizations provided to Afrodescendants were covered by the National Health System (Sistema Único de Saúde  - SU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White population: 47% of the health care services and 58% of the hospitaliz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mbria"/>
              </a:rPr>
              <a:t>Only 17% of Afrodescendant population was covered by a health insurance pl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White population: 35% had a health insurance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Dental Car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5013360"/>
            <a:ext cx="7826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f2b20"/>
                </a:solidFill>
                <a:latin typeface="Cambria"/>
              </a:rPr>
              <a:t>In 2008, the relative proportion of Afrodescendants who have never been to a dentist was the same proportion of White 10 years earli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572160" cy="352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IOLENCE: </a:t>
            </a:r>
            <a:br>
              <a:rPr sz="4600"/>
            </a:br>
            <a:r>
              <a:rPr b="0" lang="en-US" sz="2800" spc="-1" strike="noStrike">
                <a:solidFill>
                  <a:srgbClr val="675e47"/>
                </a:solidFill>
                <a:latin typeface="Cambria"/>
              </a:rPr>
              <a:t>The number of homicides increased from 13,910 in 1980, to 47,707 in 2007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57200" y="2290680"/>
            <a:ext cx="7620120" cy="3419640"/>
          </a:xfrm>
          <a:prstGeom prst="rect">
            <a:avLst/>
          </a:prstGeom>
          <a:ln w="0">
            <a:noFill/>
          </a:ln>
        </p:spPr>
      </p:pic>
      <p:sp>
        <p:nvSpPr>
          <p:cNvPr id="68" name="CaixaDeTexto 8"/>
          <p:cNvSpPr/>
          <p:nvPr/>
        </p:nvSpPr>
        <p:spPr>
          <a:xfrm>
            <a:off x="2556000" y="5877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Yearly increase of 145%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5e47"/>
                </a:solidFill>
                <a:latin typeface="Cambria"/>
              </a:rPr>
              <a:t>In 2007, the probability of a Afrodescendant Man to be murdered was 105% higher than of  a White Man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573264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mbria"/>
              </a:rPr>
              <a:t>In 2001, the homicide mortality rate of the Afrodescendants was 54% higher than Wh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77708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600" spc="-1" strike="noStrike">
                <a:solidFill>
                  <a:srgbClr val="675e47"/>
                </a:solidFill>
                <a:latin typeface="Cambria"/>
              </a:rPr>
              <a:t>Homicides among young Brazilia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5661000"/>
            <a:ext cx="7921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In 2007, half of the deaths of young Afrodescendants aged 15-24 were murders. 30% in case of young Whit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777080" cy="383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163440" y="2522520"/>
            <a:ext cx="5316480" cy="367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620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MINIMUM INCOME PROGRAMS 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65760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5e47"/>
                </a:solidFill>
                <a:latin typeface="Cambria"/>
              </a:rPr>
              <a:t>Afrodescendant families* receiving Bolsa Família, Brazil, February 2009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19720" y="1534680"/>
            <a:ext cx="3657600" cy="11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5e47"/>
                </a:solidFill>
                <a:latin typeface="Cambria"/>
              </a:rPr>
              <a:t>In February 2009, almost 11 million families received Bolsa Famíl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858920" y="3141360"/>
            <a:ext cx="321804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</a:rPr>
              <a:t>The Afrodescendant families receiving 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</a:rPr>
              <a:t>Bolsa Fam</a:t>
            </a:r>
            <a:r>
              <a:rPr b="0" i="1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ília </a:t>
            </a:r>
            <a:r>
              <a:rPr b="0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are about 7,3 mill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mbria"/>
                <a:ea typeface="Arial"/>
              </a:rPr>
              <a:t>66.4% of all the beneficiar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CaixaDeTexto 4"/>
          <p:cNvSpPr/>
          <p:nvPr/>
        </p:nvSpPr>
        <p:spPr>
          <a:xfrm>
            <a:off x="428760" y="633888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* </a:t>
            </a:r>
            <a:r>
              <a:rPr b="0" lang="en-US" sz="1600" spc="-1" strike="noStrike">
                <a:solidFill>
                  <a:srgbClr val="2f2b20"/>
                </a:solidFill>
                <a:latin typeface="Cambria"/>
              </a:rPr>
              <a:t>The chief of the family is Afrodescendant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1" name="CaixaDeTexto 5"/>
          <p:cNvSpPr/>
          <p:nvPr/>
        </p:nvSpPr>
        <p:spPr>
          <a:xfrm>
            <a:off x="433440" y="50133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2b20"/>
                </a:solidFill>
                <a:latin typeface="Calibri"/>
              </a:rPr>
              <a:t>Source: prepared by LAESER on data from MDS, CADUNICO microdata</a:t>
            </a: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174760"/>
            <a:ext cx="36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53:51Z</dcterms:created>
  <dc:creator>CARVANO</dc:creator>
  <dc:description/>
  <dc:language>en-US</dc:language>
  <cp:lastModifiedBy>Marcelo Paixao</cp:lastModifiedBy>
  <dcterms:modified xsi:type="dcterms:W3CDTF">2010-12-09T11:02:13Z</dcterms:modified>
  <cp:revision>284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0595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