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94A-1AC0-4981-AA08-E9E6C544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E36-5F74-4D24-B395-41417DE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DD9-0742-410A-98FD-FF5E3EF7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567-E71B-4F6E-AA24-77F904AF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CAA-9321-4C19-8733-F9246B73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F617-E385-4D85-A362-968C904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1B22-1701-4C29-B10C-351F39E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0AFD-EF13-4EA0-8859-16822B3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71A-A328-4494-B130-2E02633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7A1D-F1FB-4C95-B7A4-11492574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BD61-D5C8-4962-AF92-FE54A5E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E21-17B2-4ACE-BF85-DEE3099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4EA8-105F-4326-97C8-A5E130A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DE4E-9F83-4B2E-89A7-0763599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9E0-B2DC-4F51-99BA-67AE488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82B9-9BD2-4BC9-902A-9AB311E3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EE5A-5D1C-4F75-A971-E1742ACA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0B8-BF3B-44E0-8AF8-B2446148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96C-126F-45A4-8581-6B6CEF7F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C6D-9EAD-4F09-A407-222CA708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A54-BBCF-47B8-BA82-56C8CB9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64A-84B9-4CB8-8CE7-AC92F5F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A74-1C7D-496E-A324-D8A1CD8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244-5722-4E4B-B9A8-96BB6A8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40D-EA7E-4E1F-8A4E-33D13F1C5509}" type="slidenum"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451B-C44D-4163-909E-341539CBC3A2}" type="slidenum"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irst UN Forum on Minority Issu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inorities</a:t>
            </a: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 and the Right to Education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5b781"/>
                </a:solidFill>
                <a:latin typeface="Arial"/>
              </a:rPr>
              <a:t>Legal </a:t>
            </a:r>
            <a:r>
              <a:rPr b="0" lang="en-US" sz="2000" spc="-1" strike="noStrike">
                <a:solidFill>
                  <a:srgbClr val="d5b781"/>
                </a:solidFill>
                <a:latin typeface="Arial"/>
              </a:rPr>
              <a:t>Framewor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by Kishore Singh,   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    UNESC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5b781"/>
                </a:solidFill>
                <a:latin typeface="Arial"/>
              </a:rPr>
              <a:t>15 December 200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NESCO Instru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b781"/>
                </a:solidFill>
                <a:latin typeface="Arial"/>
                <a:ea typeface="宋体"/>
              </a:rPr>
              <a:t>UNESCO Convention against Discrimination in Education – (Art. 5 c)</a:t>
            </a:r>
            <a:r>
              <a:rPr b="1" lang="fr-FR" sz="2800" spc="-1" strike="noStrike">
                <a:solidFill>
                  <a:srgbClr val="d5b781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&gt; Right of national minorities to carry on their own educational activit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&gt; Understanding the culture and language of the community as a who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5b781"/>
                </a:solidFill>
                <a:latin typeface="Arial"/>
              </a:rPr>
              <a:t>Other Instruemts adopted by UNES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5b781"/>
                </a:solidFill>
                <a:latin typeface="Arial"/>
              </a:rPr>
              <a:t>Dakar Framework for Ac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5b781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d5b781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d5b781"/>
                </a:solidFill>
                <a:latin typeface="Arial"/>
              </a:rPr>
              <a:t>Collective commitment for right to education of minority childr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Experience in Monitoring the implementation of the right to education of Minorit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Results of the Seventh Consultation </a:t>
            </a:r>
            <a:r>
              <a:rPr b="0" lang="en-GB" sz="3200" spc="-1" strike="noStrike">
                <a:solidFill>
                  <a:srgbClr val="d5b781"/>
                </a:solidFill>
                <a:latin typeface="Arial"/>
                <a:ea typeface="宋体"/>
              </a:rPr>
              <a:t>of Member States on the measures taken for the implementation of 1960 Convention (covering the period 2000-2005)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clusive dimensions of the right to education and rights of minorit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Ethnic, cultural and linguistic minorities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Disadvantaged, marginalized groups and minoritie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Universal right to education, without discrimination or excl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in challen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b781"/>
                </a:solidFill>
                <a:latin typeface="Arial"/>
              </a:rPr>
              <a:t>De facto</a:t>
            </a: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 equality of opportunity: positive measures, etc. and consideration pertaining to equ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Right to education and mother tongue – based multilingual edu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Respect for cultural and linguistic diversit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Social cohesio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9:25:27Z</dcterms:created>
  <dc:creator>r_moumne</dc:creator>
  <dc:description/>
  <dc:language>en-US</dc:language>
  <cp:lastModifiedBy>u_peppler</cp:lastModifiedBy>
  <dcterms:modified xsi:type="dcterms:W3CDTF">2008-12-12T14:10:26Z</dcterms:modified>
  <cp:revision>11</cp:revision>
  <dc:subject/>
  <dc:title>Minorities and the right to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371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