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486-1DD2-4687-9650-BFD00E2C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06D-FD9E-48B6-A978-F11B64AE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53E-9FAD-4297-BD04-66709E2D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C67-CC7A-4D35-BA13-4097C692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5B4-01F2-4E7F-9F70-5F450D2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8EB-8F51-45BA-8F68-B3B6D29A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823-1969-4AD2-9E3D-C44AAA6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802-A59B-4016-A5E5-61B16F4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D6A-B19C-437D-BF52-9B162AEE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944-D147-49B6-80F7-0FCABAE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9B9-1385-403F-BBFD-167E250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549-1837-40BC-B217-4577391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142D-8C1E-48E7-B70D-32884CEF4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taba@romaeducationfund.org" TargetMode="External"/><Relationship Id="rId2" Type="http://schemas.openxmlformats.org/officeDocument/2006/relationships/hyperlink" Target="http://www.romaeducationfund.hu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ies in Education and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Roma Education Fund can recommend  for an Effective  Education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ius Tab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taba@romaeducationfun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omaeducationfund.h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va December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 of the Roma Education F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ing the education outcome gap between Roma and Non-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institutional changes in education systems and policy reforms for Roma i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Roma participation (II core principles (9)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 inclu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and disseminate best practices on both policy reforms and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discrimination hap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iscrimination is not the most frequent occurrence in case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discrimination and systemic discrimination is still very strong and is the most difficult to combat 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discrimination legislation is a necessary condition but largely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es and discrimi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understand the impact of education policies on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o understand how polices for minorities could have discriminatory 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ies can facilitate Discr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decentralization (without narrowing the  school inspection) III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tracking of children;  Psychological testing – as a barrie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lition of t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V 25;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school (existence of special schools for learning disabilities in the vicinity of Roma communities) IV 31 Free choice of school without clear rules of the game (white flight; segregation) VI 46  REF-lott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pita income financing of school (in case higher amounts go to special schools or smaller/ ghetto sch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of compulsory pre-school education (without looking at availability and distribution of pre-school fac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geted Polices could have discriminatory  effec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incentives-CCT (without   clear mechanisms might lead to segregation) III 16;17;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 education ( preparation and training of school staff; lack of mechanisms for real  parents involvement V 36; 37; 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a specific curriculum for minorities (in the case it encourages separate education; role of inspection  monitoring  integration of minorities) VI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discrimination/affirmative actions  (without adequate support to the students)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meas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 consolidation-”magnet school” (leads to segr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between antidiscrimination legislation and actual discrimination is very weak according to RE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include clear mechanisms for recourse and informatio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based on a good analysis and understanding of how the education syste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remember that good education policies fostering equity might be more efficient than an antidiscrimination legislation with bad education poli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ps  in developing polices for Rom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minority cultural rights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milating into other minority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poverty” tr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ing discrimination, providing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vulnerable group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recognizing resiliency, compensating for handicap instead of building on 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inclusion” tr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sion with special needs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school-based-approach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Roma-magnet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parent involvement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ing the role of school above  realistic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“quality education” 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noring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F financ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garia: working with political parties on integrate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bia: training school inspection on anti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ary: disseminating information on enrolmrnt in the primary school  -“lottery syst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edonia: providing information to parents on how to enroll thei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ia: Helping Roma NGOs comment on the new Education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notes  for Decad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29:11Z</dcterms:created>
  <dc:creator>Mtaba</dc:creator>
  <dc:description/>
  <dc:language>en-US</dc:language>
  <cp:lastModifiedBy>Marius Taba</cp:lastModifiedBy>
  <dcterms:modified xsi:type="dcterms:W3CDTF">2008-12-17T14:11:05Z</dcterms:modified>
  <cp:revision>17</cp:revision>
  <dc:subject/>
  <dc:title> genev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207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