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47F-062C-4700-8C92-60B689D4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AA6-C80D-43E3-AD52-2BCB6E8D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89C-19EE-4E99-A5B8-43B0C62E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181-18C5-4009-9D82-3784EF4B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507-147A-4A95-AA3B-8C06D8CA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C86-22EA-4341-88A3-96FCE927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7AB-781D-4C15-B8E8-6B3165C4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959-1A24-49FD-8591-A99F921F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39E-69FA-4504-9F08-21E41ABF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E78-8D37-4269-AA44-61D9680B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08F-67C6-4A35-82EC-1DD81CFE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1C5-053A-4FFE-8E2E-CB414884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2F43-5EA6-4A60-AD13-D3AE2D2F3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taba@romaeducationfund.org" TargetMode="External"/><Relationship Id="rId2" Type="http://schemas.openxmlformats.org/officeDocument/2006/relationships/hyperlink" Target="http://www.romaeducationfund.hu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ies in Education and Discr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Roma Education Fund can recommend  for an Effective  Education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ius Tab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taba@romaeducationfund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omaeducationfund.h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va December 20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 of the Roma Education F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ing the education outcome gap between Roma and Non-R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 institutional changes in education systems and policy reforms for Roma i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Roma participation (II core principles (9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uld be  inclu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and disseminate best practices on both policy reforms and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discrimination happ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discrimination is not the most frequent occurrence in case of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den discrimination and systemic discrimination is still very strong and is the most difficult to combat 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 discrimination legislation is a necessary condition but largely in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es and discrimin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understand the impact of education policies on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understand how polices for minorities could have discriminatory 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ies can facilitate Discri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decentralization (without narrowing the  school inspection) III 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tracking of children;  Psychological testing – as a barrier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lition of t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V 25;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school (existence of special schools for learning disabilities in the vicinity of Roma communities) IV 31 Free choice of school without clear rules of the game (white flight; segregation) VI 46  REF-lott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capita income financing of school (in case higher amounts go to special schools or smaller/ ghetto scho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of compulsory pre-school education (without looking at availability and distribution of pre-school fac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rgeted Polices could have discriminatory  effect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incentives-CCT (without   clear mechanisms might lead to segregation) III 16;17;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 education ( preparation and training of school staff; lack of mechanisms for real  parents involvement V 36; 37; 3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a specific curriculum for minorities (in the case it encourages separate education; role of inspection  monitoring  integration of minorities) VI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discrimination/affirmative actions  (without adequate support to the students)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y meas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consolidation-”magnet school” (leads to segr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between antidiscrimination legislation and actual discrimination is very weak according to RE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include clear mechanisms for recourse and information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based on a good analysis and understanding of how the education syste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remember that good education policies fostering equity might be more efficient than an antidiscrimination legislation with bad education poli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ps  in developing polices for Rom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minority cultural rights” t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milating into other minority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poverty” tr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noring discrimination, providing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vulnerable group” t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recognizing resiliency, compensating for handicap instead of building on 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inclusion” tr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sion with special needs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school-based-approach” t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Roma-magnet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parent involvement” t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ing the role of school above  realistic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quality education” t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noring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F financ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garia: working with political parties on integrate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bia: training school inspection on antidis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ary: disseminating information on enrolmrnt in the primary school  -“lottery syst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edonia: providing information to parents on how to enroll their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ia: Helping Roma NGOs comment on the new Educati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notes  for Decad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2:29:11Z</dcterms:created>
  <dc:creator>Mtaba</dc:creator>
  <dc:description/>
  <dc:language>en-US</dc:language>
  <cp:lastModifiedBy>Marius Taba</cp:lastModifiedBy>
  <dcterms:modified xsi:type="dcterms:W3CDTF">2008-12-17T14:11:05Z</dcterms:modified>
  <cp:revision>17</cp:revision>
  <dc:subject/>
  <dc:title> genev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020700.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Valerie MYTNIK</vt:lpwstr>
  </property>
  <property fmtid="{D5CDD505-2E9C-101B-9397-08002B2CF9AE}" pid="7" name="display_urn:schemas-microsoft-com:office:office#Editor">
    <vt:lpwstr>Valerie MYTNIK</vt:lpwstr>
  </property>
  <property fmtid="{D5CDD505-2E9C-101B-9397-08002B2CF9AE}" pid="8" name="xd_ProgID">
    <vt:lpwstr/>
  </property>
</Properties>
</file>