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4CBAF-B2A4-4E8F-AE4E-E18FE5B1B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6E37-D6CF-4463-9D61-CF4FBB99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9306A-A65B-45AA-AA14-82610B3E3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AF7B0-EC7F-4E8F-98D8-EFE3A3EC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AD5D5-0EE5-41E7-AEA8-3DED112B8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DC2E0-025C-4619-BC3A-E27361B29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DED5-FDDF-44A8-9BA4-04C8E08B2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25AD2-3849-4363-A5C1-3C5E95256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5698-C772-41EF-9B99-094746FDC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CAD99-EE93-45E1-8270-853CE1BC5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E235F-BC8F-4742-A77B-7F58E14C8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08A9-39F0-4D5D-A6BB-1310052F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34C9-5928-4F05-8315-40D7F7C1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0C201-B61A-4195-B294-66855668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18447-748F-4E1D-A056-D53394FFF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7C3A0-2E39-4B5E-87CB-5884B8D1E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8D88C-CF77-42C1-956D-F80ECC6A4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AA1F0-9210-4FF8-B052-931A8E169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F87DC-58FF-40DF-8994-848849FFC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E4582-9573-44A7-B609-B18B97C93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2DF9D-8C57-46C7-B320-CEF689AE9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4A6BF-56DF-4849-80B1-CC93F1CE8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EF96-2018-47A0-B367-060CC6E2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0F0A9-C77C-4EAD-992C-3350B253B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C10DC-78F0-479F-BD36-53F8A013C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87405-AC1D-45D1-A69B-57DF2CDB6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3CAF6-1721-4344-8B7A-BBAB68FD6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D6EDE-4ED7-4689-8C4E-34E2B5744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DABBB-10CC-4B80-BAE2-C453BB415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83BCC-7254-488F-8C66-95523B713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4CD2B7-C01C-4B69-816F-DEF2B24873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61CF3-82C6-444F-A194-6D2E69411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2FB72-DA53-4426-8D03-58F2D1BBA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49EE9-8FEA-4725-B050-B413763FD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A6931-6A5C-4DD7-9F71-25B7714D0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012C8-763B-4B4C-80D5-5E4854E4A1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67626-7791-4EC3-9265-1888FD1B7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29C44-6C0E-4147-97BA-8A3BCC46F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ABFC4-F056-4C92-AF77-12F60A30E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61C0A-4350-4590-B3E1-4D4FF1252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343E1-443A-4C11-98EC-DB2A3F5A5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470E3-E18C-4B11-B9AB-4F8C455A0D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AB3E09-C2D6-42FA-83C4-750A80F8A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200294-0BA9-4722-A1F9-77506FA20A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4CB38-91CC-4E9B-851A-353AACFA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572DAC-D1D6-4A64-AD6C-43EBEF577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1F777-4CFB-4B7A-AA07-B7DC1A879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D5E28-BFED-4AE4-BF8E-16C76FEBB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1BF46-F039-4046-AA0B-1556CF84C3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AE3F0-EE3F-4132-97F1-997CD005C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D03FF-D503-4EC4-9121-1EC031413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29E66-0580-4A81-93FD-F02218714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62EFA-533B-475C-9710-90E6091C0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3DFCFF-2F42-43EF-8432-3E6EF5832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2F51E4-24C0-4F92-9748-79EE9661A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67D20-AF87-451B-8F2F-7919FFDC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B338EE-30D9-427A-BDF2-9E46526524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8C7A7-589A-4F56-A759-7C64DDFC1C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22E90-6F45-4AE9-97EA-23FEF4FEA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ED719-CB7B-46CF-BD34-F2A4EC5B0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87500-8BD7-4354-844B-905CA0A71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F98CD-946F-4B8E-A915-8E9771A14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C8A34-B1BE-4919-97B8-EDD7D4241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E4401-F559-49CD-8B16-42EFB5839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BAC6F-6EC6-4A7A-BAD1-28D2D6E39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4DCD2-A3AE-4DAE-961C-D841E726A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752B-71A3-49ED-802C-8C4C81EA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FB94C-E7FC-49F1-891A-BA199E13C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5672F-494D-4E96-9C94-9E5EDCAA09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A4DB6B-4767-4C34-9A03-9EC0B2345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F02C5E-A2B3-44D9-838F-6C2031C504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FCF612-9757-4CCB-9D37-68B628DC7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B7C97-799B-4A31-8160-04B4B8AB8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A1ECB-47A8-44D9-A5FD-F4AEC52E0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E34D0-FA81-4569-A2D6-29F9739B6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913E2-2C21-46E0-A3AA-B2A5BBD31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44CF32-C09E-4F8D-875E-655EC16E0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949C-C02B-44AF-AAFA-6FD2C783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97FDD-0F02-4DA4-8D43-11E49BFE8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084EE-13A6-4980-92AD-479E0FD98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D6F3C-03A4-4B09-AC4F-248DC00C5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1B81E-735B-49E9-BF26-1EF326A4DE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533359-283C-4259-99BD-BF2442F16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AEBE-D632-435A-8CAF-74EC8D621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5136-4D19-4706-978F-3C3243EC8CD4}"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3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4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9B3D-DA1F-40F9-A9A0-55C240C99682}"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3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4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4D86-D604-4490-AB7B-39CCE6F3F2A5}"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54DD-C0D6-48C0-A831-F1E4F3F3F57C}"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E086-4D81-4940-A97B-4B9C5C9819B4}"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4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5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AADD-7583-40BE-8304-02FCF003BA1C}"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3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FE14-6186-4847-910B-214D829D44FF}"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500040" y="5187960"/>
            <a:ext cx="8077320" cy="1670040"/>
          </a:xfrm>
          <a:prstGeom prst="rect">
            <a:avLst/>
          </a:prstGeom>
          <a:ln w="0">
            <a:noFill/>
          </a:ln>
        </p:spPr>
      </p:pic>
      <p:sp>
        <p:nvSpPr>
          <p:cNvPr id="304" name="PlaceHolder 1"/>
          <p:cNvSpPr>
            <a:spLocks noGrp="1"/>
          </p:cNvSpPr>
          <p:nvPr>
            <p:ph type="subTitle"/>
          </p:nvPr>
        </p:nvSpPr>
        <p:spPr>
          <a:xfrm>
            <a:off x="685440" y="1285920"/>
            <a:ext cx="8077320" cy="3000240"/>
          </a:xfrm>
          <a:prstGeom prst="rect">
            <a:avLst/>
          </a:prstGeom>
          <a:noFill/>
          <a:ln w="0">
            <a:noFill/>
          </a:ln>
        </p:spPr>
        <p:txBody>
          <a:bodyPr lIns="118800" rIns="4572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rst session of the open- ended intergovernmental working group mandated to considerer the possibility of elaborating an international regulatory framework on the regulation, monitoring and oversight or the activities of private military and security companies  </a:t>
            </a:r>
            <a:r>
              <a:rPr b="0" lang="en-US" sz="2400" spc="-1" strike="noStrike">
                <a:solidFill>
                  <a:srgbClr val="ffffff"/>
                </a:solidFill>
                <a:latin typeface="Corbel"/>
              </a:rPr>
              <a:t> </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23 –27 May 2011</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Geneva</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Palais des Nations, Room XX</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457200" y="152280"/>
            <a:ext cx="8229600" cy="124956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MSC's presence in control of geostrategic zones (mining, water, forest)</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rth American contractors operating in the control of military Latin-American bases</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acting personnel of Latin-American countries to be employed at scenes of armed conflict (Iraq, Afghanistan) and other scenarios (Saudi Arabia)</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s-ES_tradnl" sz="3200" spc="-1" strike="noStrike">
                <a:solidFill>
                  <a:srgbClr val="000000"/>
                </a:solidFill>
                <a:latin typeface="Corbel"/>
              </a:rPr>
              <a:t>Privatization of the citizen secur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7200" y="152280"/>
            <a:ext cx="8229600" cy="124956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kind of security services that security companies can off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Establish competences of PSC in relation the national Poli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sure that PSC in the exercise of the functions respect human righ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Vetting and training of </a:t>
            </a:r>
            <a:r>
              <a:rPr b="0" lang="en-US" sz="3200" spc="-1" strike="noStrike">
                <a:solidFill>
                  <a:srgbClr val="000000"/>
                </a:solidFill>
                <a:latin typeface="Corbel"/>
              </a:rPr>
              <a:t>private guards including respect to HR and IHL and the appropriate use of force</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57200" y="152280"/>
            <a:ext cx="8229600" cy="124956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tablish or design a national authority to oversee the activities carried out by PSC Implement and appropriate and effective licensing system including  the use of arm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tablish a system of accountability for sanction prohibited activities and provide adequate penalties, including juridical person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7200" y="152280"/>
            <a:ext cx="8229600" cy="1249560"/>
          </a:xfrm>
          <a:prstGeom prst="rect">
            <a:avLst/>
          </a:prstGeom>
          <a:ln w="0">
            <a:noFill/>
          </a:ln>
        </p:spPr>
      </p:pic>
      <p:pic>
        <p:nvPicPr>
          <p:cNvPr id="329" name="Picture 4" descr="ImgArticulo_T2_90185_2011521_233052"/>
          <p:cNvPicPr/>
          <p:nvPr/>
        </p:nvPicPr>
        <p:blipFill>
          <a:blip r:embed="rId2"/>
          <a:stretch/>
        </p:blipFill>
        <p:spPr>
          <a:xfrm>
            <a:off x="1187280" y="1677960"/>
            <a:ext cx="6905880" cy="518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457200" y="152280"/>
            <a:ext cx="8229600" cy="12495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mpact that its actions on the civil society when they act in war zones, conflict or post-conflict zon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ts interference and intervention in civil actions, principally in the control of natural resources, natural disasters or humanitarian crises, an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olations to the labor law of its employe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457200" y="152280"/>
            <a:ext cx="8229600" cy="1249560"/>
          </a:xfrm>
          <a:prstGeom prst="rect">
            <a:avLst/>
          </a:prstGeom>
          <a:ln w="0">
            <a:noFill/>
          </a:ln>
        </p:spPr>
      </p:pic>
      <p:sp>
        <p:nvSpPr>
          <p:cNvPr id="33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transnational operations of PMC and PSC and the difficulty to establish proper jurisdiction (National legislations in not sufficient)</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overnment’s agreements that confer immunity to contractors</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7200" y="152280"/>
            <a:ext cx="8229600" cy="1249560"/>
          </a:xfrm>
          <a:prstGeom prst="rect">
            <a:avLst/>
          </a:prstGeom>
          <a:ln w="0">
            <a:noFill/>
          </a:ln>
        </p:spPr>
      </p:pic>
      <p:sp>
        <p:nvSpPr>
          <p:cNvPr id="335" name="PlaceHolder 1"/>
          <p:cNvSpPr>
            <a:spLocks noGrp="1"/>
          </p:cNvSpPr>
          <p:nvPr>
            <p:ph/>
          </p:nvPr>
        </p:nvSpPr>
        <p:spPr>
          <a:xfrm>
            <a:off x="539640" y="148428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egally binding instrument with obligations for the States and IO parties</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aborated in the framework of the United Nations and part of the IHRL</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mmittee on the Regulation, Oversight and Monitoring of PMSCs with possibility of receiving allegations, establishing justice and repairing victims</a:t>
            </a:r>
            <a:endParaRPr b="0" lang="en-US" sz="2800" spc="-1" strike="noStrike">
              <a:solidFill>
                <a:srgbClr val="000000"/>
              </a:solidFill>
              <a:latin typeface="Corbel"/>
            </a:endParaRPr>
          </a:p>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Define clearly PMC and PSC</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457200" y="152280"/>
            <a:ext cx="8229600" cy="1249560"/>
          </a:xfrm>
          <a:prstGeom prst="rect">
            <a:avLst/>
          </a:prstGeom>
          <a:ln w="0">
            <a:noFill/>
          </a:ln>
        </p:spPr>
      </p:pic>
      <p:sp>
        <p:nvSpPr>
          <p:cNvPr id="33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896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Main international instrument,  complementary with:</a:t>
            </a:r>
            <a:endParaRPr b="0" lang="en-US" sz="3200" spc="-1" strike="noStrike">
              <a:solidFill>
                <a:srgbClr val="000000"/>
              </a:solidFill>
              <a:latin typeface="Corbe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National legislation</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Regional instruments</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oft Law: Montreux Document</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Code of Conducts</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457200" y="152280"/>
            <a:ext cx="8229600" cy="1249560"/>
          </a:xfrm>
          <a:prstGeom prst="rect">
            <a:avLst/>
          </a:prstGeom>
          <a:ln w="0">
            <a:noFill/>
          </a:ln>
        </p:spPr>
      </p:pic>
      <p:sp>
        <p:nvSpPr>
          <p:cNvPr id="339"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Refers to specialized services related to military actions including strategic planning, intelligence, investigation, land, sea or air reconnaissance, flight operations of any type, manned or unmanned, satellite surveillance, any kind of knowledge transfer with military applications, material and technical support to armed forces and other related activ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7200" y="152280"/>
            <a:ext cx="8229600" cy="1249560"/>
          </a:xfrm>
          <a:prstGeom prst="rect">
            <a:avLst/>
          </a:prstGeom>
          <a:ln w="0">
            <a:noFill/>
          </a:ln>
        </p:spPr>
      </p:pic>
      <p:sp>
        <p:nvSpPr>
          <p:cNvPr id="34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Refers to armed guarding or protection of buildings, installations, property and people, any kind of knowledge transfer with security and policing applications, development and implementation of informational security measures and other related activ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1 Título" descr=""/>
          <p:cNvPicPr/>
          <p:nvPr/>
        </p:nvPicPr>
        <p:blipFill>
          <a:blip r:embed="rId1"/>
          <a:stretch/>
        </p:blipFill>
        <p:spPr>
          <a:xfrm>
            <a:off x="457200" y="158760"/>
            <a:ext cx="8229600" cy="12492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001 - 2005  worldwide rates ranged 8 %and  9 %, which implies an increase twice more rapid than total of the world economy</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Latin America, the PMSC growth 11 % in the last fifteen years</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4S the second largest employer around the world </a:t>
            </a:r>
            <a:endParaRPr b="0" lang="en-US" sz="3200" spc="-1" strike="noStrike">
              <a:solidFill>
                <a:srgbClr val="000000"/>
              </a:solidFill>
              <a:latin typeface="Corbel"/>
            </a:endParaRPr>
          </a:p>
          <a:p>
            <a:pPr marL="394200" indent="-28692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Small Arms Survey research notes</a:t>
            </a:r>
            <a:endParaRPr b="0" lang="en-US" sz="1800" spc="-1" strike="noStrike">
              <a:solidFill>
                <a:srgbClr val="000000"/>
              </a:solidFill>
              <a:latin typeface="Corbel"/>
            </a:endParaRPr>
          </a:p>
          <a:p>
            <a:pPr marL="394200" indent="-286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March 2011</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457200" y="152280"/>
            <a:ext cx="8229600" cy="1249560"/>
          </a:xfrm>
          <a:prstGeom prst="rect">
            <a:avLst/>
          </a:prstGeom>
          <a:ln w="0">
            <a:noFill/>
          </a:ln>
        </p:spPr>
      </p:pic>
      <p:sp>
        <p:nvSpPr>
          <p:cNvPr id="308"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SCs in Latin America appear to be more armed than in other regions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survey of the industry in Europe reveals that the proportion of PSC personnel that is authorized to be armed: </a:t>
            </a:r>
            <a:endParaRPr b="0" lang="en-US" sz="32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40 % in Bulgaria,</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25 % in Slovenia, Spain and Turkey,</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low 10 % in Croatia, Germany and Sweden*</a:t>
            </a:r>
            <a:endParaRPr b="0" lang="en-US" sz="2800" spc="-1" strike="noStrike">
              <a:solidFill>
                <a:srgbClr val="000000"/>
              </a:solidFill>
              <a:latin typeface="Corbel"/>
            </a:endParaRPr>
          </a:p>
          <a:p>
            <a:pPr lvl="1" marL="693360" indent="-259200" algn="r">
              <a:spcBef>
                <a:spcPts val="3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1200" spc="-1" strike="noStrike">
                <a:solidFill>
                  <a:srgbClr val="000000"/>
                </a:solidFill>
                <a:latin typeface="Corbel"/>
              </a:rPr>
              <a:t>Smalls Arms Survey</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1 Título" descr=""/>
          <p:cNvPicPr/>
          <p:nvPr/>
        </p:nvPicPr>
        <p:blipFill>
          <a:blip r:embed="rId1"/>
          <a:stretch/>
        </p:blipFill>
        <p:spPr>
          <a:xfrm>
            <a:off x="457200" y="158760"/>
            <a:ext cx="8229600" cy="1249200"/>
          </a:xfrm>
          <a:prstGeom prst="rect">
            <a:avLst/>
          </a:prstGeom>
          <a:ln w="0">
            <a:noFill/>
          </a:ln>
        </p:spPr>
      </p:pic>
      <p:graphicFrame>
        <p:nvGraphicFramePr>
          <p:cNvPr id="310" name=""/>
          <p:cNvGraphicFramePr/>
          <p:nvPr/>
        </p:nvGraphicFramePr>
        <p:xfrm>
          <a:off x="755640" y="1773360"/>
          <a:ext cx="8064360" cy="4084560"/>
        </p:xfrm>
        <a:graphic>
          <a:graphicData uri="http://schemas.openxmlformats.org/drawingml/2006/table">
            <a:tbl>
              <a:tblPr/>
              <a:tblGrid>
                <a:gridCol w="2014560"/>
                <a:gridCol w="2017800"/>
                <a:gridCol w="2014560"/>
                <a:gridCol w="2017440"/>
              </a:tblGrid>
              <a:tr h="610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Locatio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or company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Total PSC</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personnel</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PSC</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Firearm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Firearms per PSC personnel</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Russian Federation</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80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16,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1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Brazil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57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01,52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5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South Afric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248,02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58,981</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Colomb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2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82,28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6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Angol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35,71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2,087</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3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Serb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8,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39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0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El Salvador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1,14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8,12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8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Nicaragu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9,71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6,79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3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Costa Ric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9,55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8,88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4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Bosnia and Herzegovina</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207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07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Alban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09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93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5 PSCs in Afghanistan</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431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96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47</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1 Título" descr=""/>
          <p:cNvPicPr/>
          <p:nvPr/>
        </p:nvPicPr>
        <p:blipFill>
          <a:blip r:embed="rId1"/>
          <a:stretch/>
        </p:blipFill>
        <p:spPr>
          <a:xfrm>
            <a:off x="457200" y="158760"/>
            <a:ext cx="8229600" cy="1249200"/>
          </a:xfrm>
          <a:prstGeom prst="rect">
            <a:avLst/>
          </a:prstGeom>
          <a:ln w="0">
            <a:noFill/>
          </a:ln>
        </p:spPr>
      </p:pic>
      <p:sp>
        <p:nvSpPr>
          <p:cNvPr id="312" name=""/>
          <p:cNvSpPr txBox="1"/>
          <p:nvPr/>
        </p:nvSpPr>
        <p:spPr>
          <a:xfrm>
            <a:off x="428760" y="1428480"/>
            <a:ext cx="8229600" cy="484020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orbel"/>
              </a:rPr>
              <a:t>2005: </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Security  </a:t>
            </a:r>
            <a:r>
              <a:rPr b="0" lang="en-US" sz="2800" spc="-1" strike="noStrike">
                <a:solidFill>
                  <a:srgbClr val="000000"/>
                </a:solidFill>
                <a:latin typeface="Corbel"/>
              </a:rPr>
              <a:t>guards</a:t>
            </a:r>
            <a:r>
              <a:rPr b="0" lang="es-CO" sz="2800" spc="-1" strike="noStrike">
                <a:solidFill>
                  <a:srgbClr val="000000"/>
                </a:solidFill>
                <a:latin typeface="Corbel"/>
              </a:rPr>
              <a:t> (official </a:t>
            </a:r>
            <a:r>
              <a:rPr b="0" lang="en-US" sz="2800" spc="-1" strike="noStrike">
                <a:solidFill>
                  <a:srgbClr val="000000"/>
                </a:solidFill>
                <a:latin typeface="Corbel"/>
              </a:rPr>
              <a:t>register</a:t>
            </a:r>
            <a:r>
              <a:rPr b="0" lang="es-CO" sz="2800" spc="-1" strike="noStrike">
                <a:solidFill>
                  <a:srgbClr val="000000"/>
                </a:solidFill>
                <a:latin typeface="Corbel"/>
              </a:rPr>
              <a:t>): 40.368</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National Police: 42. 610</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rowth rate of PSC (Superintendence of Companies)</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1990: 54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1995: 163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2006: </a:t>
            </a:r>
            <a:r>
              <a:rPr b="0" lang="en-US" sz="2800" spc="-1" strike="noStrike">
                <a:solidFill>
                  <a:srgbClr val="000000"/>
                </a:solidFill>
                <a:latin typeface="Corbel"/>
              </a:rPr>
              <a:t>849</a:t>
            </a:r>
            <a:endParaRPr b="0" lang="en-US" sz="2800" spc="-1" strike="noStrike">
              <a:solidFill>
                <a:srgbClr val="000000"/>
              </a:solidFill>
              <a:latin typeface="Corbel"/>
            </a:endParaRPr>
          </a:p>
          <a:p>
            <a:pPr lvl="1" marL="649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40%  </a:t>
            </a:r>
            <a:r>
              <a:rPr b="0" lang="en-US" sz="2800" spc="-1" strike="noStrike">
                <a:solidFill>
                  <a:srgbClr val="000000"/>
                </a:solidFill>
                <a:latin typeface="Corbel"/>
              </a:rPr>
              <a:t>without</a:t>
            </a:r>
            <a:r>
              <a:rPr b="0" lang="es-CO" sz="2800" spc="-1" strike="noStrike">
                <a:solidFill>
                  <a:srgbClr val="000000"/>
                </a:solidFill>
                <a:latin typeface="Corbel"/>
              </a:rPr>
              <a:t> </a:t>
            </a:r>
            <a:r>
              <a:rPr b="0" lang="en-US" sz="2800" spc="-1" strike="noStrike">
                <a:solidFill>
                  <a:srgbClr val="000000"/>
                </a:solidFill>
                <a:latin typeface="Corbel"/>
              </a:rPr>
              <a:t>register</a:t>
            </a:r>
            <a:endParaRPr b="0" lang="en-US" sz="2800" spc="-1" strike="noStrike">
              <a:solidFill>
                <a:srgbClr val="000000"/>
              </a:solidFill>
              <a:latin typeface="Corbel"/>
            </a:endParaRPr>
          </a:p>
          <a:p>
            <a:pPr lvl="1" marL="649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9880" indent="-2836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rbel"/>
              </a:rPr>
              <a:t>LUCIA DAMMERT, Marzo, 2008, OEA</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457200" y="189000"/>
            <a:ext cx="8229600" cy="1311120"/>
          </a:xfrm>
          <a:prstGeom prst="rect">
            <a:avLst/>
          </a:prstGeom>
          <a:ln w="0">
            <a:noFill/>
          </a:ln>
        </p:spPr>
      </p:pic>
      <p:sp>
        <p:nvSpPr>
          <p:cNvPr id="314" name=""/>
          <p:cNvSpPr txBox="1"/>
          <p:nvPr/>
        </p:nvSpPr>
        <p:spPr>
          <a:xfrm>
            <a:off x="457200" y="1643040"/>
            <a:ext cx="8229600" cy="4757760"/>
          </a:xfrm>
          <a:prstGeom prst="rect">
            <a:avLst/>
          </a:prstGeom>
          <a:noFill/>
          <a:ln w="0">
            <a:noFill/>
          </a:ln>
        </p:spPr>
        <p:txBody>
          <a:bodyPr lIns="54720" tIns="91440" anchor="t">
            <a:normAutofit fontScale="93000"/>
          </a:bodyPr>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razil</a:t>
            </a:r>
            <a:r>
              <a:rPr b="0" lang="en-US" sz="3200" spc="-1" strike="noStrike">
                <a:solidFill>
                  <a:srgbClr val="000000"/>
                </a:solidFill>
                <a:latin typeface="Corbel"/>
              </a:rPr>
              <a:t>: </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431,600 Private Security guard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411.900 Police force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number of PSC is 35% more than Brazilian Army </a:t>
            </a:r>
            <a:r>
              <a:rPr b="0" lang="es-CO" sz="3200" spc="-1" strike="noStrike">
                <a:solidFill>
                  <a:srgbClr val="000000"/>
                </a:solidFill>
                <a:latin typeface="Corbel"/>
              </a:rPr>
              <a:t>(320.400)</a:t>
            </a:r>
            <a:endParaRPr b="0" lang="en-US" sz="3200" spc="-1" strike="noStrike">
              <a:solidFill>
                <a:srgbClr val="000000"/>
              </a:solidFill>
              <a:latin typeface="Corbel"/>
            </a:endParaRPr>
          </a:p>
          <a:p>
            <a:pPr marL="407160" indent="-2962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rbel"/>
              </a:rPr>
              <a:t>LUCIA DAMMERT, Marzo, 2008, OEA</a:t>
            </a:r>
            <a:endParaRPr b="0" lang="en-US" sz="1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Corbel"/>
              </a:rPr>
              <a:t>Peru</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1.932 Companie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50.000 Private Security guard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90.093 Police forces</a:t>
            </a:r>
            <a:endParaRPr b="0" lang="en-US" sz="3200" spc="-1" strike="noStrike">
              <a:solidFill>
                <a:srgbClr val="000000"/>
              </a:solidFill>
              <a:latin typeface="Corbel"/>
            </a:endParaRPr>
          </a:p>
          <a:p>
            <a:pPr marL="407160" indent="-2962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rbel"/>
              </a:rPr>
              <a:t>Control and Regulation of Private Security Companies in Latin America and The Caribbean: </a:t>
            </a:r>
            <a:endParaRPr b="0" lang="en-US" sz="1200" spc="-1" strike="noStrike">
              <a:solidFill>
                <a:srgbClr val="000000"/>
              </a:solidFill>
              <a:latin typeface="Corbel"/>
            </a:endParaRPr>
          </a:p>
          <a:p>
            <a:pPr marL="407160" indent="-296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rbel"/>
              </a:rPr>
              <a:t>a comparative analysis. UN-LIREC</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1 Título" descr=""/>
          <p:cNvPicPr/>
          <p:nvPr/>
        </p:nvPicPr>
        <p:blipFill>
          <a:blip r:embed="rId1"/>
          <a:stretch/>
        </p:blipFill>
        <p:spPr>
          <a:xfrm>
            <a:off x="457200" y="158760"/>
            <a:ext cx="8229600" cy="124920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une 2009: </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3392 PSC</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507  PSC waiting for registration</a:t>
            </a:r>
            <a:endParaRPr b="0" lang="en-US" sz="28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994 - 2007: Industry growth 360% </a:t>
            </a:r>
            <a:endParaRPr b="0" lang="en-US" sz="3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 per year)</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earnings of the sector:</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ree times more than hotel industry</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wice superior than banana and </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1.2 than flowers industry</a:t>
            </a:r>
            <a:endParaRPr b="0" lang="en-US" sz="2800" spc="-1" strike="noStrike">
              <a:solidFill>
                <a:srgbClr val="000000"/>
              </a:solidFill>
              <a:latin typeface="Corbel"/>
            </a:endParaRPr>
          </a:p>
          <a:p>
            <a:pPr lvl="1" marL="664200" indent="-248040" algn="r">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Colombian Bill of Law on PSC, 2009</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7200" y="152280"/>
            <a:ext cx="8229600" cy="1249560"/>
          </a:xfrm>
          <a:prstGeom prst="rect">
            <a:avLst/>
          </a:prstGeom>
          <a:ln w="0">
            <a:noFill/>
          </a:ln>
        </p:spPr>
      </p:pic>
      <p:sp>
        <p:nvSpPr>
          <p:cNvPr id="31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lace the national police force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ontiers control</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and managing of jail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of social protest</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of natural resource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ervention in environmental disasters</a:t>
            </a:r>
            <a:endParaRPr b="0" lang="en-US" sz="3200" spc="-1" strike="noStrike">
              <a:solidFill>
                <a:srgbClr val="000000"/>
              </a:solidFill>
              <a:latin typeface="Corbel"/>
            </a:endParaRPr>
          </a:p>
        </p:txBody>
      </p:sp>
      <p:pic>
        <p:nvPicPr>
          <p:cNvPr id="319" name="3 Imagen" descr="Imagen 1.bmp"/>
          <p:cNvPicPr/>
          <p:nvPr/>
        </p:nvPicPr>
        <p:blipFill>
          <a:blip r:embed="rId2"/>
          <a:stretch/>
        </p:blipFill>
        <p:spPr>
          <a:xfrm>
            <a:off x="6948360" y="55440"/>
            <a:ext cx="191448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1" name="PlaceHolder 2"/>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MSP's use in UN humanitarian operations, other intergovernmental organisms and NGO’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manitarian scenes: Presence like humanitarian actors in zones of natural catastrophes and scenes of humanitarian action</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ghts to sea piracy</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03:41:51Z</dcterms:created>
  <dc:creator>PRO</dc:creator>
  <dc:description/>
  <dc:language>en-US</dc:language>
  <cp:lastModifiedBy>Zapata</cp:lastModifiedBy>
  <dcterms:modified xsi:type="dcterms:W3CDTF">2011-06-07T07:28:10Z</dcterms:modified>
  <cp:revision>173</cp:revision>
  <dc:subject/>
  <dc:title>ESTRUCTURA DE LAS NACIONES UNID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78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