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C50-57F0-4801-898C-4B0F68E1D06B}" type="slidenum">
              <a:rPr b="0" lang="es-ES_trad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07D8-6293-4BA4-A26B-3EF585B323B2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243E-CABB-4D72-B686-EF0FC4873B27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risdiction through its domestic law over the offenses set out in article 19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The offense is committed in the territory of that Stat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offence is committed on board a vessel flying the flag of that State or an aircraft registered under the laws of that State at the time the offence is committe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) The offense is committed by a national of that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 State party may also establish its jurisdiction over any of the offenses set out in article 19 wh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The offense is committed against a national of that State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The offense is committed by a stateless person who has his or her habitual residence in the territory of that S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8358-BB61-4D74-8EBF-61120B5A39FB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95E6-2734-4005-B312-A5C7CEBB0787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5F36-9EC1-46AB-9C05-20AA2DD96E41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267F-BCD2-4F02-8BF7-D6F590F80114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D59-FF0F-4CC4-86BB-D26F6836FB73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E2F9-C4C8-4B93-B1A1-9436DAD8EA9F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C39-627A-434A-9723-1E043D1DB2C2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F0FE-DC38-40B8-BD46-2061C5B3453C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E028-79B6-484F-B3E9-03B35FD0DEBD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8160-BAE0-48A7-BF45-E90503DD89B6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Rule of Law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PMSC’s activities consistent with IHRL and IH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mpliance with legislation  territorial S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51264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Agreements with the legislation of home, territorial and national S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68B0-ECBB-46F6-B0D4-90743ECC8F6A}" type="slidenum">
              <a:rPr b="0" lang="es-ES_tradnl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72D6-ECD7-4BA8-984A-E40EE056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663-85C7-497B-89E7-4701BD1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3E5-4254-44AD-895F-3601AD0EE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04F-4479-4155-B1B1-D9757382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1BB8-1D80-43C5-99E1-C6060EC4A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0DC2-AEB2-4FBA-BC0C-0DF3A9D4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E93B-E96D-4307-8E4D-8D052762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DA6A-5AE7-409C-B968-1F7DAD8E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613F-E2CE-4DA6-94D2-FB36A70A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F5B9-7A43-497C-829E-AEB2BDD8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129D8-9549-41DD-95A9-033F440C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010-91BA-4DCC-9B96-CDFDC1F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68CF-DA2A-4431-98D8-74501CB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BF27-4644-448A-904F-84D44F3A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F5DD-FDF9-4D95-92ED-F6D39FE3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A0E3-D4A5-4358-9F63-CE385151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7D65-C8AA-4234-8037-9B28BE14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DD4F8-E2BE-4262-A824-6BBB556B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3CA67-873A-4421-9AD8-6A73B4AA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E2CF1-D363-4ECC-8A51-16B0A67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F68BD-5158-4089-8B25-B21F869E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BADFF-C1A5-4980-A41D-0C75FB03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4C1-0F22-4910-9307-AE40CE9E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B935-00EC-468F-AE84-AB7B16C7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3281-BED7-4FD7-8CD8-332B5FA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1A9A-A1CB-4423-B66E-03EF8A7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80B24-4FDF-4FD2-8E8C-EEDFCF88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786A7-D51A-479E-9EDF-74AC5F13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0C40-AC9D-4E60-A88A-018178F5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8B91-BB67-4B71-86CB-E375B095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4876A-FCCE-48C1-8BA1-0179A2D6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F9CAB-5EDD-4DA7-94B4-394E43B2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3E17-5D57-4523-A3A4-C605AD87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F5F-0255-4727-A045-F896EB0B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6D2C6-4991-4EE5-9CCD-8F63ECF7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ED1A-6334-421C-BE28-BFA8AC4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D3006-EAE1-475A-92FB-DF665B35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BBA5-CD4B-48F7-AA02-60CA121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97DB-2FE1-4568-ACCC-E3A4914F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14D5-A89D-4253-A20F-0AFC3224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BE67A-8A21-41D1-B6B9-810CAA2C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52AC-37A0-4974-8698-72A9A802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E86F-E312-496D-889D-1F1AF319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918EA-25AA-48A8-91AB-008757B3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ACF-0C0B-4FE3-B054-8179277A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86E42-99D8-4D4B-922E-A118B621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5321-13CE-442C-81C3-F379795D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151B5-DCB1-49C1-967D-94726376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84CD1-D363-4CB6-8E31-F26D2E4E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C9D2C-CB1B-4278-8437-08E61D7C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F789-9E11-490C-9340-2E3D9C58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F3255-2FC8-4B7F-96BB-B91EEC5B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9D32-13E2-47A3-A1F3-786A4EE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6EC21-9EA1-4580-8974-A3F544D8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1E26-B4FD-442E-BC32-AAD29681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6311-ACBE-459C-9F68-A9818C13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798C8-02B3-477B-A907-523C8EA7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4B99E-B266-497C-9E9D-8CCC0C3C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D6654-7DFD-4A4E-86FD-D4A537FE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786DC-A07F-4F26-AB77-55C45CCA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8B264-AACF-425B-B7DD-4C6FC624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4BD66-F7DD-49B1-86F6-7C3FC448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B8061-FC73-4590-BC4E-ADEA98F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0D9E7-E838-4D09-8F2B-363007ED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223D-8D8C-49FE-9A66-F6F912B5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A04B7-E8BA-43E3-B2DA-DCBA77A1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DB7-7F3B-45E9-B167-B0DE84C0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7C86C-F673-4F5C-A9AD-DCE328D8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65E5-7A8E-4FF4-A823-83A960DC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0F86C-C74C-49F2-B1DD-10BAF56A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99F2-EAB6-4EB4-9585-3CE5FE5A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FF78-EC65-4C6C-BF63-3D745AEA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6620B-29F3-4032-95E7-0A591BC7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C31C-60DF-4F05-A1A0-F46D1571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4902E-A6C6-4722-80A6-6048BB7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D2BF9-C796-4324-943E-19B91BB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DBE7D-FD81-418D-9D47-11C1989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D90-AC97-43FE-BDC1-C4D2177E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B31DE-DF50-4C40-B37E-7012BE3D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61474-FCBD-44C2-93E0-7136BA1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23915-C73D-4C59-8F66-A8D8F60A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4A41E-2819-4BD2-A9CF-6924B3B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4468D-FA51-4CC0-AC73-9FE18512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A9E-5B61-48FA-81A1-7375532A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A8D-F9BE-44C0-87FB-42C3AFFF2A22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DF41-C7D6-4CAD-8A42-3ACC826A45BC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orme libre 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orme libre 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orme libre 5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orme libre 6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orme libre 7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orme libre 8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rme libre 9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orme libre 10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orme libre 11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rme libre 12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orme libre 13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orme libre 14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rme libre 15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orme libre 16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orme libre 17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6696-F267-46C4-9CF5-9DE4736722F5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9210-B7D9-47D7-A623-2439684ECFD1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77F-CF76-416F-8EA1-FC3B77079643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384C-7541-4977-AA8E-5425011109D7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Connecteur droit 5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e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Connecteur droit 7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Connecteur droit 8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Connecteur droit 9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e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Connecteur droit 11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Connecteur droit 12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Connecteur droit 13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e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Connecteur droit 15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Connecteur droit 16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Connecteur droit 17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6A0-B62A-46AD-A3C1-AC2009BB9D3B}" type="slidenum">
              <a:rPr b="0" lang="es-ES_tradnl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1eeff"/>
                </a:solidFill>
                <a:latin typeface="Consolas"/>
              </a:rPr>
              <a:t>ELEMENTS OF A PROPOSED DRAFT CONVENTION ON PMSC</a:t>
            </a:r>
            <a:endParaRPr b="0" lang="en-US" sz="4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3492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Corbel"/>
              </a:rPr>
              <a:t>OPEN-ENDED INTERGOVERNMENTAL WORKING GROUP TO 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rbel"/>
              </a:rPr>
              <a:t>CONSIDER  THE POSSIBILITY OF ELABORATING AN INTERNATIONAL REGULATORY FRAMEWORK ON THE REGULATION, MONITORING AND OVERSIGHT OF THE ACTIVITIES OF PRIVATE MILITARY AND SECURITY COMPAN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Espace réservé du contenu 4" descr="Human Rights Council.jpg"/>
          <p:cNvPicPr/>
          <p:nvPr/>
        </p:nvPicPr>
        <p:blipFill>
          <a:blip r:embed="rId1"/>
          <a:stretch/>
        </p:blipFill>
        <p:spPr>
          <a:xfrm>
            <a:off x="3325680" y="1773360"/>
            <a:ext cx="5818320" cy="4438440"/>
          </a:xfrm>
          <a:prstGeom prst="rect">
            <a:avLst/>
          </a:prstGeom>
          <a:ln w="0">
            <a:noFill/>
          </a:ln>
        </p:spPr>
      </p:pic>
      <p:sp>
        <p:nvSpPr>
          <p:cNvPr id="378" name="ZoneTexte 5"/>
          <p:cNvSpPr/>
          <p:nvPr/>
        </p:nvSpPr>
        <p:spPr>
          <a:xfrm>
            <a:off x="4859280" y="6237360"/>
            <a:ext cx="32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Corbel"/>
              </a:rPr>
              <a:t>GENEVA. 23-27 MAY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3" descr=""/>
          <p:cNvPicPr/>
          <p:nvPr/>
        </p:nvPicPr>
        <p:blipFill>
          <a:blip r:embed="rId1"/>
          <a:stretch/>
        </p:blipFill>
        <p:spPr>
          <a:xfrm>
            <a:off x="493560" y="0"/>
            <a:ext cx="8742600" cy="6645240"/>
          </a:xfrm>
          <a:prstGeom prst="rect">
            <a:avLst/>
          </a:prstGeom>
          <a:ln w="0">
            <a:noFill/>
          </a:ln>
        </p:spPr>
      </p:pic>
      <p:sp>
        <p:nvSpPr>
          <p:cNvPr id="393" name="ZoneTexte 4"/>
          <p:cNvSpPr/>
          <p:nvPr/>
        </p:nvSpPr>
        <p:spPr>
          <a:xfrm>
            <a:off x="1214280" y="1357200"/>
            <a:ext cx="216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A 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REG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OF            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      </a:t>
            </a: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Corbel"/>
              </a:rPr>
              <a:t>OVERS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ZoneTexte 5"/>
          <p:cNvSpPr/>
          <p:nvPr/>
        </p:nvSpPr>
        <p:spPr>
          <a:xfrm>
            <a:off x="2071800" y="4000680"/>
            <a:ext cx="13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      </a:t>
            </a: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     </a:t>
            </a:r>
            <a:r>
              <a:rPr b="1" lang="es-ES_tradnl" sz="1800" spc="-1" strike="noStrike">
                <a:solidFill>
                  <a:srgbClr val="c00000"/>
                </a:solidFill>
                <a:latin typeface="Corbel"/>
              </a:rPr>
              <a:t>PA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ZoneTexte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IV. Legislative regulation, oversight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1eeff"/>
                </a:solidFill>
                <a:latin typeface="Consolas"/>
              </a:rPr>
              <a:t>V. STATE RESPONSIBILITY TO IMPOSE CRIMINAL, CIVIL AND/OR ADMINISTRATIVE SANCTIONS ON OFFENDERS AND PROVIDE REMEDIES TO VICTIMS 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7" name="Espace réservé du contenu 3" descr=""/>
          <p:cNvPicPr/>
          <p:nvPr/>
        </p:nvPicPr>
        <p:blipFill>
          <a:blip r:embed="rId1"/>
          <a:stretch/>
        </p:blipFill>
        <p:spPr>
          <a:xfrm>
            <a:off x="0" y="1341360"/>
            <a:ext cx="8942400" cy="5649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Espace réservé du contenu 3" descr=""/>
          <p:cNvPicPr/>
          <p:nvPr/>
        </p:nvPicPr>
        <p:blipFill>
          <a:blip r:embed="rId1"/>
          <a:stretch/>
        </p:blipFill>
        <p:spPr>
          <a:xfrm>
            <a:off x="225360" y="378000"/>
            <a:ext cx="8699400" cy="6181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8532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c1eeff"/>
                </a:solidFill>
                <a:latin typeface="Consolas"/>
              </a:rPr>
              <a:t>VII.FINAL </a:t>
            </a:r>
            <a:br>
              <a:rPr sz="7200"/>
            </a:br>
            <a:r>
              <a:rPr b="0" lang="es-ES_tradnl" sz="7200" spc="-1" strike="noStrike">
                <a:solidFill>
                  <a:srgbClr val="c1eeff"/>
                </a:solidFill>
                <a:latin typeface="Consolas"/>
              </a:rPr>
              <a:t>PROVISIONS</a:t>
            </a:r>
            <a:endParaRPr b="0" lang="en-US" sz="72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ZoneTexte 2"/>
          <p:cNvSpPr/>
          <p:nvPr/>
        </p:nvSpPr>
        <p:spPr>
          <a:xfrm>
            <a:off x="0" y="3716280"/>
            <a:ext cx="9201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GNATURE, ENTRY INTO FORCE,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DENUNCIATION, RESERVATIONS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TERGOVERNMENTAL ORGANIZ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Espace réservé du contenu 3" descr=""/>
          <p:cNvPicPr/>
          <p:nvPr/>
        </p:nvPicPr>
        <p:blipFill>
          <a:blip r:embed="rId1"/>
          <a:stretch/>
        </p:blipFill>
        <p:spPr>
          <a:xfrm>
            <a:off x="281160" y="353880"/>
            <a:ext cx="8661240" cy="6375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1eeff"/>
                </a:solidFill>
                <a:latin typeface="Consolas"/>
              </a:rPr>
              <a:t>I.THE PREAMBLE</a:t>
            </a:r>
            <a:br>
              <a:rPr sz="4800"/>
            </a:b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MAKES REFERENCE TO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Diagramme 2" descr=""/>
          <p:cNvPicPr/>
          <p:nvPr/>
        </p:nvPicPr>
        <p:blipFill>
          <a:blip r:embed="rId1"/>
          <a:stretch/>
        </p:blipFill>
        <p:spPr>
          <a:xfrm>
            <a:off x="-115920" y="1322280"/>
            <a:ext cx="9272520" cy="5548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c1eeff"/>
                </a:solidFill>
                <a:latin typeface="Consolas"/>
              </a:rPr>
              <a:t>II.GENERAL PROVISIONS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ZoneTexte 3"/>
          <p:cNvSpPr/>
          <p:nvPr/>
        </p:nvSpPr>
        <p:spPr>
          <a:xfrm>
            <a:off x="468360" y="2133720"/>
            <a:ext cx="79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URPOSES OF DRAFT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ONVEN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SCOPE OF APP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Espace réservé du contenu 3" descr=""/>
          <p:cNvPicPr/>
          <p:nvPr/>
        </p:nvPicPr>
        <p:blipFill>
          <a:blip r:embed="rId1"/>
          <a:stretch/>
        </p:blipFill>
        <p:spPr>
          <a:xfrm>
            <a:off x="158760" y="122400"/>
            <a:ext cx="8809200" cy="6522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Diagramme 1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7420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560" y="142560"/>
            <a:ext cx="854388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Consolas"/>
              </a:rPr>
              <a:t>INHERENTLY STATE FUNCTIONS WHICH CANNOT BE OUTSOURCED: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1557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direct participation in hostiliti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waging war and/or combat operatio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taking prisoners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law-makin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espionag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intelligen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use of and other activities related to weapons of                  mass destruction 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1ce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 </a:t>
            </a:r>
            <a:r>
              <a:rPr b="1" lang="en-US" sz="3200" spc="-1" strike="noStrike">
                <a:solidFill>
                  <a:srgbClr val="fff1ce"/>
                </a:solidFill>
                <a:latin typeface="Corbel"/>
              </a:rPr>
              <a:t>police powers, especially the powers of arrest or detention including the interrogation of detaine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572320" cy="7189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1eeff"/>
                </a:solidFill>
                <a:latin typeface="Consolas"/>
              </a:rPr>
              <a:t>SCOPE OF APPLICATION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9" name="Espace réservé du contenu 3" descr=""/>
          <p:cNvPicPr/>
          <p:nvPr/>
        </p:nvPicPr>
        <p:blipFill>
          <a:blip r:embed="rId1"/>
          <a:stretch/>
        </p:blipFill>
        <p:spPr>
          <a:xfrm>
            <a:off x="139680" y="1047600"/>
            <a:ext cx="8864640" cy="5608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Consolas"/>
              </a:rPr>
              <a:t>III.GENERAL PRINCIPLES</a:t>
            </a:r>
            <a:br>
              <a:rPr sz="36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50920" y="1125360"/>
            <a:ext cx="86421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State responsibility for the legitimate use of for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State sovereignty. Principles of sovereignty, equality and territorial integrit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ohibition of  outsourcing inherent State functions to PMSC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ohibition of outsourcing the use of certain fire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Respect for IHRL and IHL and accountability for violation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Liability of superior of PMSCs personnel for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  <a:ea typeface="宋体"/>
              </a:rPr>
              <a:t>crimes under international law committed by PMSC personnel under their effective authority and control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Prevent PMSCs from trafficking and illicitly manufacturing firear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rbel"/>
              </a:rPr>
              <a:t>Rule of Law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39240" indent="-498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39240" indent="-4989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9:51:30Z</dcterms:created>
  <dc:creator>José Luis</dc:creator>
  <dc:description/>
  <dc:language>en-US</dc:language>
  <cp:lastModifiedBy>Zapata</cp:lastModifiedBy>
  <dcterms:modified xsi:type="dcterms:W3CDTF">2011-06-07T07:31:08Z</dcterms:modified>
  <cp:revision>23</cp:revision>
  <dc:subject/>
  <dc:title>GAPS IN HUMAN RIGHTS AND INTERNATIONAL HUMANITARIAN LA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678400.0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