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3944-5820-4883-B2D9-B2DF509140D3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D1F7-A447-4DF3-987B-25A20FBBD71A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299A-EC98-4FE5-88B1-2FC448E1DC9E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risdiction through its domestic law over the offenses set out in article 19 wh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The offense is committed in the territory of that Stat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offence is committed on board a vessel flying the flag of that State or an aircraft registered under the laws of that State at the time the offence is committ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) The offense is committed by a national of that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 State party may also establish its jurisdiction over any of the offenses set out in article 19 wh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The offense is committed against a national of that State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) The offense is committed by a stateless person who has his or her habitual residence in the territory of that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2234-DE6C-4525-A818-A47927E6CDD3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BEEC-57FE-43FD-8635-C9D1CDEBDE3C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C57B-56EF-49E4-A7F3-1EBB37C803DD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5D16-9F17-4534-920A-F578A012EED2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939F-2A86-4F44-977F-3B9E03EC5E13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E4D2-276E-4190-9EC7-F1CAF3563124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5A36-10B3-4E66-9AC6-CA84B197905C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AB59-16C2-4FCD-B818-F7488FEAB2A9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D69D-9D8A-4736-99CD-7AC0FDC647ED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BF13-9B2D-4643-B268-BAB7ABA8C4EB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Rule of Law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1264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PMSC’s activities consistent with IHRL and IH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1264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Compliance with legislation  territorial St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1264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Agreements with the legislation of home, territorial and national St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125F-2472-43E7-82CB-9F34D397055D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B00-830B-4173-8D3D-6EEE71AE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E85-9123-4CE7-A69F-E7E410CC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0F7-2C71-4CC1-8C6D-8588B76E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807-0CFB-4AD6-BECF-93E42155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057F-EA01-4A3E-912D-05D6CAD5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4BC2-8DA9-4CB8-A1B9-9E33223E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09AC-AF9B-46A2-AE1C-2B3F5008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6259-AF67-49C0-A71C-A8EB5977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56AB-59A4-4767-8CED-E3F545D7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85BA-AB8F-4907-86AB-C232388A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56F2-B4B7-45B7-9181-5CFB3972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678-D246-48AD-9484-B678969B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AFCC-E0FD-4F42-9059-D71924A5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8409-232B-4CC9-BA85-2044A428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89C0-DFC7-4C48-9010-CB5E5B78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0712-D145-4B20-9C3A-F7E7971E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0198-903E-4FB4-AD77-C393CD34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B122-85B6-4684-A62D-1FB88EA6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E96C-9A16-4429-AF6D-9D886A68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C0CEF-F05E-42A4-94B0-9E591C55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EB870-76A1-4DF2-A159-8F2EA631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6A86A-80E1-4ECA-B7A1-4A89F2F0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FF0-E080-4006-ABA3-15878946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E7884-548C-4017-B618-BD86BC51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E27C-3386-4367-9195-B8DFC0AB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7F4A5-E49A-4CCB-9464-F10C34B5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84B4-D0B2-49EA-BA73-D3B041B7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B901C-F761-4C0A-A08B-5470D915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32BA1-1291-4590-8F6B-EDCD939B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49AFF-87B5-491E-9861-2C63CA3E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6B7A4-DEC2-4324-9C59-4063611F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0551C-70DF-4611-B282-611B07B5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6564B-A246-4B97-86EF-BC017D69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26C-0A23-465B-A358-07B42B6E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91444-1B21-4C11-8CE9-F6C4A3FD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806B8-8F01-498D-927B-B07F4381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BF945-E9C8-4104-A367-7AD73305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36BB0-1AB9-42B2-99C2-ED668ACB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4F9BE-DE7C-40F7-A5E8-0ADCC60C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B98C5-0341-4990-B910-8D98F3FC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E31AD-5467-424F-A729-9C401B81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4BC6C-3AA1-4BE0-986D-0346079E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2594C-1107-4B44-847A-47039994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6300E-D5CD-4695-81DD-20BC922C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23B-F3B8-47DD-AF0A-79851F9D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89DF2-6BD4-4A66-9F80-FC259B89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2D98B-B220-43EA-AB34-65EDBB8D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72D14-FAE7-4643-87F7-DA9E8559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FF359-7ABC-4FBE-957B-2C14395B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57E98-E43E-47DA-AB8D-351F609F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D9D49-1C9C-44E5-97D4-F72AEEA0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DA6E5-DF32-4DC9-809D-129541BF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0D1D3-4FD6-4B01-997B-C7E1E8F2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D71DC-0878-471A-932A-09971610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3A4E2-D515-45B9-A5CC-AECF55F1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31C-639D-49C3-8A3F-BACC6BA8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883E2-28A0-4365-8888-CA17C54E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5501E-76BB-4BF6-AE57-002D7458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2F702-5E5D-47B2-AC76-F8A12C24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FA162-477C-4538-B0BD-362EB1B1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3EDB0-3DCF-4AE4-B56E-6F43F800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57092-FC4C-436D-B123-C6E3CAA8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3B283-1F60-4D3B-B2A2-0B81F3AD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59F2C-38FD-46BB-B984-2827A4DB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C35F3-42A7-448C-8662-485E463B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76732-792F-4FC2-B824-2470AC85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3A2-E06C-4C00-8D78-B91B918F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6917A-B2C2-45E0-AC3C-EE3ADB9E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FE61B-D796-4CB1-A998-3660EEF8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30D8A-BBAA-4B00-BB3E-47E32793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22F03-7055-47CF-8AAC-FEAD8255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C7426-36C7-4D09-AD6C-4BAEDF3B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1399F-DA63-4E58-9B47-4643CBF1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F4BB1-67F9-4539-86D7-5701B0C5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F202B-378B-4874-86A1-E819045D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F0674-CD30-4DF2-AB64-4F207D7F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22442-4037-4AD2-B0E0-1A919D49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DAC-5A60-42A7-9066-6D375623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FE351-2DA0-42B8-A80C-C78C9E67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E8D43-A8BF-484D-9F8C-347ED847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66ED3-421B-44A8-A95E-80F2CA89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06D7B-3D8B-4C50-8983-8232D4D5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95FA3-EFA4-4E63-8E39-3532C724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C8D-772E-47E9-906D-87E342F9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8B09-159B-4E70-9D88-43C07D8C0771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0AC2-CD51-4957-8251-A1FE907429A5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orme libre 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orme libre 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orme libre 5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orme libre 6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orme libre 7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orme libre 8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orme libre 9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rme libre 10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orme libre 11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orme libre 12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rme libre 13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orme libre 14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orme libre 15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orme libre 16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orme libre 17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01D1-4B35-4D51-A43C-AF92052B0F13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1BE6-4B2F-4C9A-958F-638192D686E0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4484-FE5E-40A1-966D-270A6A3C1A17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2F2D-51DA-45FB-A28E-5C8CE461502E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Connecteur droit 5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e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Connecteur droit 7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Connecteur droit 8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Connecteur droit 9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e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Connecteur droit 11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Connecteur droit 12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Connecteur droit 13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e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Connecteur droit 15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Connecteur droit 16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Connecteur droit 17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BBFD-A587-42E8-930F-30AD6302F7EC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1eeff"/>
                </a:solidFill>
                <a:latin typeface="Consolas"/>
              </a:rPr>
              <a:t>ELEMENTS OF A PROPOSED DRAFT CONVENTION ON PMSC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34923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rbel"/>
              </a:rPr>
              <a:t>OPEN-ENDED INTERGOVERNMENTAL WORKING GROUP TO 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rbel"/>
              </a:rPr>
              <a:t>CONSIDER  THE POSSIBILITY OF ELABORATING AN INTERNATIONAL REGULATORY FRAMEWORK ON THE REGULATION, MONITORING AND OVERSIGHT OF THE ACTIVITIES OF PRIVATE MILITARY AND SECURITY COMPAN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Espace réservé du contenu 4" descr="Human Rights Council.jpg"/>
          <p:cNvPicPr/>
          <p:nvPr/>
        </p:nvPicPr>
        <p:blipFill>
          <a:blip r:embed="rId1"/>
          <a:stretch/>
        </p:blipFill>
        <p:spPr>
          <a:xfrm>
            <a:off x="3325680" y="1773360"/>
            <a:ext cx="5818320" cy="4438440"/>
          </a:xfrm>
          <a:prstGeom prst="rect">
            <a:avLst/>
          </a:prstGeom>
          <a:ln w="0">
            <a:noFill/>
          </a:ln>
        </p:spPr>
      </p:pic>
      <p:sp>
        <p:nvSpPr>
          <p:cNvPr id="378" name="ZoneTexte 5"/>
          <p:cNvSpPr/>
          <p:nvPr/>
        </p:nvSpPr>
        <p:spPr>
          <a:xfrm>
            <a:off x="4859280" y="6237360"/>
            <a:ext cx="32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rbel"/>
              </a:rPr>
              <a:t>GENEVA. 23-27 MAY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Espace réservé du contenu 3" descr=""/>
          <p:cNvPicPr/>
          <p:nvPr/>
        </p:nvPicPr>
        <p:blipFill>
          <a:blip r:embed="rId1"/>
          <a:stretch/>
        </p:blipFill>
        <p:spPr>
          <a:xfrm>
            <a:off x="493560" y="0"/>
            <a:ext cx="8742600" cy="6645240"/>
          </a:xfrm>
          <a:prstGeom prst="rect">
            <a:avLst/>
          </a:prstGeom>
          <a:ln w="0">
            <a:noFill/>
          </a:ln>
        </p:spPr>
      </p:pic>
      <p:sp>
        <p:nvSpPr>
          <p:cNvPr id="393" name="ZoneTexte 4"/>
          <p:cNvSpPr/>
          <p:nvPr/>
        </p:nvSpPr>
        <p:spPr>
          <a:xfrm>
            <a:off x="1214280" y="1357200"/>
            <a:ext cx="216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          </a:t>
            </a: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A N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REG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        </a:t>
            </a: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OF            REG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      </a:t>
            </a: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OVERS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ZoneTexte 5"/>
          <p:cNvSpPr/>
          <p:nvPr/>
        </p:nvSpPr>
        <p:spPr>
          <a:xfrm>
            <a:off x="2071800" y="4000680"/>
            <a:ext cx="136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rbel"/>
              </a:rPr>
              <a:t>      </a:t>
            </a:r>
            <a:r>
              <a:rPr b="1" lang="es-ES_tradnl" sz="1800" spc="-1" strike="noStrike">
                <a:solidFill>
                  <a:srgbClr val="c00000"/>
                </a:solidFill>
                <a:latin typeface="Corbel"/>
              </a:rPr>
              <a:t>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rbel"/>
              </a:rPr>
              <a:t>     </a:t>
            </a:r>
            <a:r>
              <a:rPr b="1" lang="es-ES_tradnl" sz="1800" spc="-1" strike="noStrike">
                <a:solidFill>
                  <a:srgbClr val="c00000"/>
                </a:solidFill>
                <a:latin typeface="Corbel"/>
              </a:rPr>
              <a:t>PA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ZoneTexte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V. Legislative regulation, oversight and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1eeff"/>
                </a:solidFill>
                <a:latin typeface="Consolas"/>
              </a:rPr>
              <a:t>V. STATE RESPONSIBILITY TO IMPOSE CRIMINAL, CIVIL AND/OR ADMINISTRATIVE SANCTIONS ON OFFENDERS AND PROVIDE REMEDIES TO VICTIMS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7" name="Espace réservé du contenu 3" descr=""/>
          <p:cNvPicPr/>
          <p:nvPr/>
        </p:nvPicPr>
        <p:blipFill>
          <a:blip r:embed="rId1"/>
          <a:stretch/>
        </p:blipFill>
        <p:spPr>
          <a:xfrm>
            <a:off x="0" y="1341360"/>
            <a:ext cx="8942400" cy="5649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Espace réservé du contenu 3" descr=""/>
          <p:cNvPicPr/>
          <p:nvPr/>
        </p:nvPicPr>
        <p:blipFill>
          <a:blip r:embed="rId1"/>
          <a:stretch/>
        </p:blipFill>
        <p:spPr>
          <a:xfrm>
            <a:off x="225360" y="378000"/>
            <a:ext cx="8699400" cy="6181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85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c1eeff"/>
                </a:solidFill>
                <a:latin typeface="Consolas"/>
              </a:rPr>
              <a:t>VII.FINAL </a:t>
            </a:r>
            <a:br>
              <a:rPr sz="7200"/>
            </a:br>
            <a:r>
              <a:rPr b="0" lang="es-ES_tradnl" sz="7200" spc="-1" strike="noStrike">
                <a:solidFill>
                  <a:srgbClr val="c1eeff"/>
                </a:solidFill>
                <a:latin typeface="Consolas"/>
              </a:rPr>
              <a:t>PROVISIONS</a:t>
            </a:r>
            <a:endParaRPr b="0" lang="en-US" sz="7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ZoneTexte 2"/>
          <p:cNvSpPr/>
          <p:nvPr/>
        </p:nvSpPr>
        <p:spPr>
          <a:xfrm>
            <a:off x="0" y="3716280"/>
            <a:ext cx="9201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GNATURE, ENTRY INTO FORCE,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NUNCIATION, RESERVATIONS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TERGOVERNMENTAL ORGAN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Espace réservé du contenu 3" descr=""/>
          <p:cNvPicPr/>
          <p:nvPr/>
        </p:nvPicPr>
        <p:blipFill>
          <a:blip r:embed="rId1"/>
          <a:stretch/>
        </p:blipFill>
        <p:spPr>
          <a:xfrm>
            <a:off x="281160" y="353880"/>
            <a:ext cx="8661240" cy="6375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c1eeff"/>
                </a:solidFill>
                <a:latin typeface="Consolas"/>
              </a:rPr>
              <a:t>I.THE PREAMBLE</a:t>
            </a:r>
            <a:br>
              <a:rPr sz="4800"/>
            </a:b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MAKES REFERENCE T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1" name="Diagramme 2" descr=""/>
          <p:cNvPicPr/>
          <p:nvPr/>
        </p:nvPicPr>
        <p:blipFill>
          <a:blip r:embed="rId1"/>
          <a:stretch/>
        </p:blipFill>
        <p:spPr>
          <a:xfrm>
            <a:off x="-115920" y="1322280"/>
            <a:ext cx="9272520" cy="5548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c1eeff"/>
                </a:solidFill>
                <a:latin typeface="Consolas"/>
              </a:rPr>
              <a:t>II.GENERAL PROVISIONS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ZoneTexte 3"/>
          <p:cNvSpPr/>
          <p:nvPr/>
        </p:nvSpPr>
        <p:spPr>
          <a:xfrm>
            <a:off x="468360" y="2133720"/>
            <a:ext cx="79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PURPOSES OF DRAFT </a:t>
            </a: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CONV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SCOPE OF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Espace réservé du contenu 3" descr=""/>
          <p:cNvPicPr/>
          <p:nvPr/>
        </p:nvPicPr>
        <p:blipFill>
          <a:blip r:embed="rId1"/>
          <a:stretch/>
        </p:blipFill>
        <p:spPr>
          <a:xfrm>
            <a:off x="158760" y="122400"/>
            <a:ext cx="8809200" cy="6522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Diagramme 1" descr=""/>
          <p:cNvPicPr/>
          <p:nvPr/>
        </p:nvPicPr>
        <p:blipFill>
          <a:blip r:embed="rId1"/>
          <a:stretch/>
        </p:blipFill>
        <p:spPr>
          <a:xfrm>
            <a:off x="-6480" y="0"/>
            <a:ext cx="9163080" cy="6742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54388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onsolas"/>
              </a:rPr>
              <a:t>INHERENTLY STATE FUNCTIONS WHICH CANNOT BE OUTSOURCED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direct participation in hostiliti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waging war and/or combat operation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taking prisoners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law-mak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espionag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intelligenc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use of and other activities related to weapons of                  mass destruction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police powers, especially the powers of arrest or detention including the interrogation of detain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572320" cy="718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SCOPE OF APPLIC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9" name="Espace réservé du contenu 3" descr=""/>
          <p:cNvPicPr/>
          <p:nvPr/>
        </p:nvPicPr>
        <p:blipFill>
          <a:blip r:embed="rId1"/>
          <a:stretch/>
        </p:blipFill>
        <p:spPr>
          <a:xfrm>
            <a:off x="139680" y="1047600"/>
            <a:ext cx="8864640" cy="5608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Consolas"/>
              </a:rPr>
              <a:t>III.GENERAL PRINCIPLES</a:t>
            </a:r>
            <a:br>
              <a:rPr sz="3600"/>
            </a:b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50920" y="1125360"/>
            <a:ext cx="8642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State responsibility for the legitimate use of for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State sovereignty. Principles of sovereignty, equality and territorial integr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Prohibition of  outsourcing inherent State functions to PMSC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Prohibition of outsourcing the use of certain firear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Respect for IHRL and IHL and accountability for violations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Liability of superior of PMSCs personnel for 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crimes under international law committed by PMSC personnel under their effective authority and control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Prevent PMSCs from trafficking and illicitly manufacturing firear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rbel"/>
              </a:rPr>
              <a:t>Rule of Law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39240" indent="-498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39240" indent="-498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9:51:30Z</dcterms:created>
  <dc:creator>José Luis</dc:creator>
  <dc:description/>
  <dc:language>en-US</dc:language>
  <cp:lastModifiedBy>Zapata</cp:lastModifiedBy>
  <dcterms:modified xsi:type="dcterms:W3CDTF">2011-06-07T07:31:08Z</dcterms:modified>
  <cp:revision>23</cp:revision>
  <dc:subject/>
  <dc:title>GAPS IN HUMAN RIGHTS AND INTERNATIONAL HUMANITARIAN LA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678400.000000000</vt:lpwstr>
  </property>
  <property fmtid="{D5CDD505-2E9C-101B-9397-08002B2CF9AE}" pid="3" name="TemplateUrl">
    <vt:lpwstr/>
  </property>
  <property fmtid="{D5CDD505-2E9C-101B-9397-08002B2CF9AE}" pid="4" name="_SharedFileIndex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Valerie MYTNIK</vt:lpwstr>
  </property>
  <property fmtid="{D5CDD505-2E9C-101B-9397-08002B2CF9AE}" pid="7" name="display_urn:schemas-microsoft-com:office:office#Editor">
    <vt:lpwstr>Valerie MYTNIK</vt:lpwstr>
  </property>
  <property fmtid="{D5CDD505-2E9C-101B-9397-08002B2CF9AE}" pid="8" name="xd_ProgID">
    <vt:lpwstr/>
  </property>
</Properties>
</file>