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EFC-0504-4861-BCF3-275620F2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F1D-5F2C-43D3-A2E8-61655A8F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976-CCE9-4D78-95D4-ADA7BEDC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8334-BA53-42C4-8286-B962BC3D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CA9-E51F-49AB-B299-921ED41D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07B-972A-4EC1-89E0-F6EDC9FE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2BC7-7E57-4915-8B36-C755ED93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BEB1-4EBB-44BC-BBAC-790337C3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566-A814-410F-B2B5-4294F78B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4C3D-AE50-4393-ABC6-9EDBC229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569-396B-4BA8-BF44-6E0C4E62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EC7-759D-40D7-B1CE-B10E3706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45A2-E87E-4D74-A310-CBF35DBF88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8001000" y="457200"/>
            <a:ext cx="152280" cy="152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emand from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nly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legitimate way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f acquiring, import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nd transporting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eap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ertain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limitations on us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f force and use of weapon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y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blige compan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o provide appropriate train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 International Humanitarian Law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 Human Rights La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- in  national law of 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ountry of op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arliamentary oversi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ver PMSCs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earing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vestiga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ubcommitte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National   law on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inciple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tate monopol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n use of for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ach state need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 define legislatively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ilitary and secur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unctions which 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 princip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ot outsourcab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rom the st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Examples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Not to allow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use, guard or transport WM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fghanistan define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tection of religious sites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s non-outsoursable func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raw “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red line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eyond which activ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f PMSC beco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ure </a:t>
            </a: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mercenarism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or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reak into </a:t>
            </a: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non-outsoursabl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Calibri"/>
              </a:rPr>
              <a:t>state functions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Distinct clearly allowed 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hibited activities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or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reat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echanism of interst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mplaints and inquir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«</a:t>
            </a: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What your company 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doing on my territory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?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«</a:t>
            </a: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How my compan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behaves at your territory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?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nitoring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of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MSCs’ activit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(here interface wit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CoC mechanism 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possible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2006 main PC text files\Наемничество\PSD Operation Traning\PSD Operation Traning 069.jpg"/>
          <p:cNvPicPr/>
          <p:nvPr/>
        </p:nvPicPr>
        <p:blipFill>
          <a:blip r:embed="rId2"/>
          <a:stretch/>
        </p:blipFill>
        <p:spPr>
          <a:xfrm>
            <a:off x="-71280" y="0"/>
            <a:ext cx="92152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550440" y="4797360"/>
            <a:ext cx="773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nternational Regulation for PMSC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lements and Princi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System of sanctions  </a:t>
            </a: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applicable to PMSC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 “black marks” in International  Register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hibition to international organizatio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contract with certain PMSCs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commendation to the state of registr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deprive certain PMSC of licenses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Initiate investigation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*Initiate trial or request from the st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f registration or operation to initiate tr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Regulatory Framewor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versight body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(control organ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s required within the UN syste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(modeled after alread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established organs in U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7030a0"/>
                </a:solidFill>
                <a:latin typeface="Calibri"/>
              </a:rPr>
              <a:t>Human Rights arrangements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Functions of Oversight UN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nage International PMSCs Register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llect and analyze states’ annual repor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itor PMSCs activities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cess inter-state complaints /inquiries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llect and analyze public complaints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Functions of Oversight UN Committ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commend actions regarding PMS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o HRC and other international bodies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*Recommend actions to st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mote international legal assistanc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garding PMSCs c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0a0"/>
                </a:solidFill>
                <a:latin typeface="Calibri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tructure of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Preamb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44 artic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Part 1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Scope of Applic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tructure of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art 2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inciples for regul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Part 3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Regist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Licens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Monitor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Accountabil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National Oversi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tructure of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Part 4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nc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emed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Liabil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Jurisdic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secu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xtradi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tructure of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Part 5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ternational Oversi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ternational Monitor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ternational Bodies (Committee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ternational Regis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eports by Sta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quiries/Complaints/Peti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Structure of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art 6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Signatu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Entry into forc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Amendments/Reserva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Applicability to intergovernment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organiza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MSCs are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«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siness as usual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t is highly specific export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quiring robust “export control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nvention is a Code of Conduc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for states (regarding PMSCs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States then adopt nationa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legislation and regulat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rules for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2006 main PC text files\Наемничество\PSD Operation Traning\PSD Operation Traning 077.jpg"/>
          <p:cNvPicPr/>
          <p:nvPr/>
        </p:nvPicPr>
        <p:blipFill>
          <a:blip r:embed="rId2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nvention also establish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echanisms and procedur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for Inter-state dialogue 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teraction regarding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and role of UN mechanism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alibri"/>
              </a:rPr>
              <a:t>in these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tates should establis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ystem of registration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or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eparate from regular busin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ith more entry info require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hibit registration of PMSCs 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ff-shore z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reate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UN-base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ternational Regis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or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pply experience of th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UN Register f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nventional Arm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(172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tates annually report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ransparency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sponsibility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nual report of the stat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 the U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n main state contracts with PMSCs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n registration and licens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ystem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dvanced and detailed licens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censing compani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censing pers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censing contrac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crease responsibility of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home state”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or its PMSC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PRINCIPLES FOR 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nable “countries of operation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(“territorial states”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o possess entry contro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ver companies and pers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- Right to expel misbehaving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ompanies (“company non grata”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- Right to check entering pers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05:22:53Z</dcterms:created>
  <dc:creator>Alexander I. Nikitin</dc:creator>
  <dc:description/>
  <dc:language>en-US</dc:language>
  <cp:lastModifiedBy>Zapata</cp:lastModifiedBy>
  <cp:lastPrinted>2011-05-25T07:50:24Z</cp:lastPrinted>
  <dcterms:modified xsi:type="dcterms:W3CDTF">2011-06-07T07:31:51Z</dcterms:modified>
  <cp:revision>9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Order">
    <vt:lpwstr>679000.000000000</vt:lpwstr>
  </property>
  <property fmtid="{D5CDD505-2E9C-101B-9397-08002B2CF9AE}" pid="4" name="TemplateUrl">
    <vt:lpwstr/>
  </property>
  <property fmtid="{D5CDD505-2E9C-101B-9397-08002B2CF9AE}" pid="5" name="_SharedFileIndex">
    <vt:lpwstr/>
  </property>
  <property fmtid="{D5CDD505-2E9C-101B-9397-08002B2CF9AE}" pid="6" name="_SourceUrl">
    <vt:lpwstr/>
  </property>
  <property fmtid="{D5CDD505-2E9C-101B-9397-08002B2CF9AE}" pid="7" name="display_urn:schemas-microsoft-com:office:office#Author">
    <vt:lpwstr>Valerie MYTNIK</vt:lpwstr>
  </property>
  <property fmtid="{D5CDD505-2E9C-101B-9397-08002B2CF9AE}" pid="8" name="display_urn:schemas-microsoft-com:office:office#Editor">
    <vt:lpwstr>Valerie MYTNIK</vt:lpwstr>
  </property>
  <property fmtid="{D5CDD505-2E9C-101B-9397-08002B2CF9AE}" pid="9" name="xd_ProgID">
    <vt:lpwstr/>
  </property>
</Properties>
</file>