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7A6-FE5D-4BE6-BE60-C16BD24F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1187-DE9B-4BF1-B413-47E0A41C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E3FA-11BD-4CB7-B07F-77058864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3694-24DA-447C-9476-A0818002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D64-7056-439A-87CC-6F133A9F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624-AD9A-42BF-AEF6-38D5E61A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A5B-5709-45B2-B823-31069134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BB5-543B-44EE-BDF7-2A8F3B1D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5C4-372D-479D-9486-AEDCADB7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4E4-C13F-46E6-B6A9-0B823F08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A88-6DBF-4FE5-A3F0-62502AC9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0A33-19E2-4228-9C1E-68233956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6FAC-F9D6-4621-82A7-75E0E0D2FD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1000" y="457200"/>
            <a:ext cx="15228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emand from PMS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nly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legitimate way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f acquiring, import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nd transporting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eap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ertain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limitations on u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f force and use of weapon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y PMS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blige compan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o provide appropriate train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 International Humanitarian Law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 Human Rights La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- in  national law of 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ountry of op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arliamentary oversi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ver PMSCs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earing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vestiga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ubcommitte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National   law on PMS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inciple of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 monopol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n use of for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ach state need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 define legislatively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ilitary and secur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unctions which a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 princip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ot outsourcab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rom the st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Examples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Not to allow PMS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use, guard or transport WM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fghanistan define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tection of religious sites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s non-outsoursable func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raw “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red line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eyond which activit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f PMSC beco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ure </a:t>
            </a: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mercenarism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or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reak into </a:t>
            </a: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non-outsoursabl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state functions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istinct clearly allowed a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ohibited activities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or PMS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reat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echanism of interst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mplaints and inquir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«</a:t>
            </a: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What your company 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doing on my territory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?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«</a:t>
            </a: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How my compan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behaves at your territory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?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onitoring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of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MSCs’ activit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(here interface wit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CoC mechanism 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possible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2006 main PC text files\Наемничество\PSD Operation Traning\PSD Operation Traning 069.jpg"/>
          <p:cNvPicPr/>
          <p:nvPr/>
        </p:nvPicPr>
        <p:blipFill>
          <a:blip r:embed="rId2"/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50440" y="4797360"/>
            <a:ext cx="773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nternational Regulation for PMSC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lements and Princip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System of sanctions  </a:t>
            </a: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applicable to PMSC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“black marks” in International  Register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hibition to international organization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contract with certain PMSCs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commendation to the state of registr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deprive certain PMSC of licenses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Initiate investigation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Initiate trial or request from the st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f registration or operation to initiate tr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Regulatory Framewor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versight body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(control organ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s required within the UN syste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(modeled after alrea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established organs in U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Human Rights arrangements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Functions of Oversight UN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nage International PMSCs Register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llect and analyze states’ annual repor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itor PMSCs activities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cess inter-state complaints /inquiries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llect and analyze public complaints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Functions of Oversight UN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commend actions regarding PMS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o HRC and other international bodies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*Recommend actions to st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mote international legal assistanc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garding PMSCs ca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tructure of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Preamb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44 artic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Part 1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Scope of Applic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tructure of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art 2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inciples for regul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Part 3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Regist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Licens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onitor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Accountabil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National Oversi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tructure of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Part 4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n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emed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Liabil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Jurisdic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osecu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xtradi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tructure of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Part 5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ternational Oversi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ternational Monitor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ternational Bodies (Committee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ternational Regis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eports by Sta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quiries/Complaints/Peti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tructure of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art 6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Signa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Entry into for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Amendments/Reserva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Applicability to intergovernment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organiza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MSCs are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siness as usual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t is highly specific export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quiring robust “export control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nvention is a Code of Conduc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for states (regarding PMSCs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States then adopt nation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legislation and regulat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rules for PMS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2006 main PC text files\Наемничество\PSD Operation Traning\PSD Operation Traning 077.jpg"/>
          <p:cNvPicPr/>
          <p:nvPr/>
        </p:nvPicPr>
        <p:blipFill>
          <a:blip r:embed="rId2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nvention also establish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echanisms and procedu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for Inter-state dialogue a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teraction regarding PMS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and role of UN mechanism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 these proc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tates should establis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ystem of registration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or PMS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eparate from regular busin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ith more entry info require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hibit registration of PMSCs 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ff-shore z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reate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UN-base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ternational Regis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or PMS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pply experience of th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UN Register f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nventional Arm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(172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tates annually report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ransparency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sponsibility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nual report of the sta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 the U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n main state contracts with PMSCs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n registration and licens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ystem of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dvanced and detailed licens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censing compan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censing pers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censing contrac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crease responsibility of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home state”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or its PMS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nable “countries of operation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(“territorial states”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o possess entry contro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ver companies and pers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- Right to expel misbehaving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ompanies (“company non grata”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- Right to check entering pers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5:22:53Z</dcterms:created>
  <dc:creator>Alexander I. Nikitin</dc:creator>
  <dc:description/>
  <dc:language>en-US</dc:language>
  <cp:lastModifiedBy>Zapata</cp:lastModifiedBy>
  <cp:lastPrinted>2011-05-25T07:50:24Z</cp:lastPrinted>
  <dcterms:modified xsi:type="dcterms:W3CDTF">2011-06-07T07:31:51Z</dcterms:modified>
  <cp:revision>9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Order">
    <vt:lpwstr>679000.000000000</vt:lpwstr>
  </property>
  <property fmtid="{D5CDD505-2E9C-101B-9397-08002B2CF9AE}" pid="4" name="TemplateUrl">
    <vt:lpwstr/>
  </property>
  <property fmtid="{D5CDD505-2E9C-101B-9397-08002B2CF9AE}" pid="5" name="_SharedFileIndex">
    <vt:lpwstr/>
  </property>
  <property fmtid="{D5CDD505-2E9C-101B-9397-08002B2CF9AE}" pid="6" name="_SourceUrl">
    <vt:lpwstr/>
  </property>
  <property fmtid="{D5CDD505-2E9C-101B-9397-08002B2CF9AE}" pid="7" name="display_urn:schemas-microsoft-com:office:office#Author">
    <vt:lpwstr>Valerie MYTNIK</vt:lpwstr>
  </property>
  <property fmtid="{D5CDD505-2E9C-101B-9397-08002B2CF9AE}" pid="8" name="display_urn:schemas-microsoft-com:office:office#Editor">
    <vt:lpwstr>Valerie MYTNIK</vt:lpwstr>
  </property>
  <property fmtid="{D5CDD505-2E9C-101B-9397-08002B2CF9AE}" pid="9" name="xd_ProgID">
    <vt:lpwstr/>
  </property>
</Properties>
</file>