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DF15-CB62-4FD5-924A-B2B71C3367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FCBF-5860-47E9-AACF-D0F18F5551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C0FF-12E1-4196-99BD-0D3AFD6118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FB65-6F6D-4E3E-B9D9-C17385330A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BE8E-7A27-4B33-966C-7E3738DD13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06F7-8B57-4F5C-9AC7-6E5EEE973A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3277-79A7-444B-92DF-22E4C69475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5ABA-2F2A-4781-A454-A35E5CE5D5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1BC4-34F5-40FD-812E-8F30D31ADE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8A63-B9C0-4E2F-B2D1-CA3D2C3EA6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B1D0-7F50-4FE4-B1AD-A30C13A721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8E56-54EC-4DC8-B036-B23EA1910B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8E26-E749-408C-BF0A-FFF3E20004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B1DD-201D-4E28-976B-949318D5D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742968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90560" y="3725640"/>
            <a:ext cx="742968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5EAD-FFE3-4E31-99BD-C1577D1DA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90560" y="372564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7920" y="372564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AED4-E71A-4FFC-8907-75895BAD3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2640" y="179856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15080" y="179856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90560" y="372564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2640" y="372564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15080" y="372564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DC3C-3652-4F08-8B6A-4A02BCF12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781CB-347C-4502-A71F-22B4E789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90560" y="1798560"/>
            <a:ext cx="74296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C5F01-2F0E-4F25-B7D3-E9D994FE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742968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FD2D8-255E-4A9E-9E23-B8A19DC2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03F6D-FAD5-432D-9D36-CEF8A71A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8FD29-6C9B-4278-BCA3-9794E387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90560" y="610920"/>
            <a:ext cx="6477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C4E47-58C9-4B63-AC44-F7C93DA1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90560" y="372564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D8D62-41A3-4340-9A5C-D5F68204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90560" y="1798560"/>
            <a:ext cx="74296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785E-6C86-4DD8-B5D0-F3D68E660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97920" y="372564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F50F8-CA6E-4B06-B032-F5322696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90560" y="3725640"/>
            <a:ext cx="742968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6B2D2-4DDC-4B34-846A-7928E875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742968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0560" y="3725640"/>
            <a:ext cx="742968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FBEE2-BB4A-4FD8-B450-B7E828F6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0560" y="372564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97920" y="372564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EFE1D-8E31-44BE-8C66-8E223879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2640" y="179856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5080" y="179856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90560" y="372564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2640" y="372564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15080" y="3725640"/>
            <a:ext cx="239220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6DDE1-5622-4583-ADF9-6AE88612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742968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C20A-23CA-4480-8450-0E6A8F1F5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3DEE6-4936-4A7D-B1B3-4E0ACA34E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E9C56-3751-4618-A976-BB2953FFF2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90560" y="610920"/>
            <a:ext cx="6477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09F8A-37A5-4B6C-B798-5A65422D1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90560" y="372564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0FAF-E23A-44D9-A306-22854BF12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7920" y="372564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E558-9C5F-431C-99B7-F0AC5429F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9056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7920" y="1798560"/>
            <a:ext cx="362556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90560" y="3725640"/>
            <a:ext cx="7429680" cy="17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0FC1-6B73-4B6E-AE04-B07F2907B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1" descr=""/>
          <p:cNvPicPr/>
          <p:nvPr/>
        </p:nvPicPr>
        <p:blipFill>
          <a:blip r:embed="rId2"/>
          <a:stretch/>
        </p:blipFill>
        <p:spPr>
          <a:xfrm>
            <a:off x="7970760" y="419040"/>
            <a:ext cx="695520" cy="723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90560" y="610920"/>
            <a:ext cx="6477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5c0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90560" y="1798560"/>
            <a:ext cx="742968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1"/>
          <p:cNvSpPr/>
          <p:nvPr/>
        </p:nvSpPr>
        <p:spPr>
          <a:xfrm>
            <a:off x="898560" y="1276200"/>
            <a:ext cx="6118200" cy="108000"/>
          </a:xfrm>
          <a:prstGeom prst="rect">
            <a:avLst/>
          </a:prstGeom>
          <a:solidFill>
            <a:srgbClr val="7bb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97508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E41B-2B00-49E8-8873-FA31F30E508E}" type="slidenum"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E2EF-3730-4546-AA11-91E725675BC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1" descr=""/>
          <p:cNvPicPr/>
          <p:nvPr/>
        </p:nvPicPr>
        <p:blipFill>
          <a:blip r:embed="rId2"/>
          <a:stretch/>
        </p:blipFill>
        <p:spPr>
          <a:xfrm>
            <a:off x="7970760" y="419040"/>
            <a:ext cx="695520" cy="7239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1"/>
          <p:cNvSpPr/>
          <p:nvPr/>
        </p:nvSpPr>
        <p:spPr>
          <a:xfrm>
            <a:off x="898560" y="1438200"/>
            <a:ext cx="6118200" cy="108000"/>
          </a:xfrm>
          <a:prstGeom prst="rect">
            <a:avLst/>
          </a:prstGeom>
          <a:solidFill>
            <a:srgbClr val="7bbd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://justmytruth.files.wordpress.com/2010/06/ripples-s.jpg"/>
          <p:cNvPicPr/>
          <p:nvPr/>
        </p:nvPicPr>
        <p:blipFill>
          <a:blip r:embed="rId1"/>
          <a:srcRect l="0" t="11831" r="0" b="38435"/>
          <a:stretch/>
        </p:blipFill>
        <p:spPr>
          <a:xfrm>
            <a:off x="0" y="0"/>
            <a:ext cx="9144000" cy="361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39" descr=""/>
          <p:cNvPicPr/>
          <p:nvPr/>
        </p:nvPicPr>
        <p:blipFill>
          <a:blip r:embed="rId2"/>
          <a:stretch/>
        </p:blipFill>
        <p:spPr>
          <a:xfrm>
            <a:off x="3357720" y="5427720"/>
            <a:ext cx="2446200" cy="927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40"/>
          <p:cNvSpPr/>
          <p:nvPr/>
        </p:nvSpPr>
        <p:spPr>
          <a:xfrm>
            <a:off x="0" y="2833560"/>
            <a:ext cx="9163080" cy="1306800"/>
          </a:xfrm>
          <a:prstGeom prst="rect">
            <a:avLst/>
          </a:prstGeom>
          <a:solidFill>
            <a:srgbClr val="9091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0"/>
            <a:ext cx="91440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286056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alibri"/>
              </a:rPr>
              <a:t>The restriction of access to env. information </a:t>
            </a:r>
            <a:endParaRPr b="1" lang="en-US" sz="2600" spc="-1" strike="noStrike">
              <a:solidFill>
                <a:srgbClr val="d25c0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Calibri"/>
              </a:rPr>
              <a:t>related to protection of Confidential Business Information (CBI)</a:t>
            </a:r>
            <a:endParaRPr b="1" lang="en-US" sz="2600" spc="-1" strike="noStrike">
              <a:solidFill>
                <a:srgbClr val="d25c0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Experience, Challenges &amp; Best Practice</a:t>
            </a: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96" name="Slide Number Placeholder 2"/>
          <p:cNvSpPr/>
          <p:nvPr/>
        </p:nvSpPr>
        <p:spPr>
          <a:xfrm>
            <a:off x="7975440" y="6297480"/>
            <a:ext cx="685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CC11-5444-490C-B5EC-DAC59889A73E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66680" y="4216320"/>
            <a:ext cx="398160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</a:rPr>
              <a:t>Liesbeth Timmermans</a:t>
            </a:r>
            <a:endParaRPr b="1" lang="en-US" sz="14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</a:rPr>
              <a:t>Environmental Law Manager</a:t>
            </a:r>
            <a:endParaRPr b="1" lang="en-US" sz="14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0000"/>
                </a:solidFill>
                <a:latin typeface="Arial"/>
              </a:rPr>
              <a:t>European Chemical Industry Council</a:t>
            </a:r>
            <a:endParaRPr b="1" lang="en-US" sz="14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ECE Task Force on Access to Information</a:t>
            </a:r>
            <a:endParaRPr b="1" lang="en-US" sz="14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va, 3-5 December 2014</a:t>
            </a:r>
            <a:endParaRPr b="1" lang="en-US" sz="14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29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8"/>
          <p:cNvSpPr/>
          <p:nvPr/>
        </p:nvSpPr>
        <p:spPr>
          <a:xfrm>
            <a:off x="604800" y="1646280"/>
            <a:ext cx="845028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36" name="Title 1"/>
          <p:cNvSpPr/>
          <p:nvPr/>
        </p:nvSpPr>
        <p:spPr>
          <a:xfrm>
            <a:off x="820800" y="64620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Calibri"/>
              </a:rPr>
              <a:t>Best Practice</a:t>
            </a: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D24A-BE1F-44E4-B1FF-6E6FF0A14053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38" name="Rectangle 38"/>
          <p:cNvSpPr/>
          <p:nvPr/>
        </p:nvSpPr>
        <p:spPr>
          <a:xfrm>
            <a:off x="604800" y="1646280"/>
            <a:ext cx="837396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39" name="Rectangle 38"/>
          <p:cNvSpPr/>
          <p:nvPr/>
        </p:nvSpPr>
        <p:spPr>
          <a:xfrm>
            <a:off x="515880" y="1646280"/>
            <a:ext cx="8373960" cy="58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lancing of interests.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 startAt="3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re access to CBI is requested, a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areful weighing of interest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st be carried out to determine whether there is an overriding public interest in disclosure (no mechanical approach to disclosure)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ight to an effective remedy.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 startAt="4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the public authority intends to grant access to the data against the opinion of the company,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company should have sufficient time to seek judicial suspension and annulment of the administrative decis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fore disclosure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 startAt="4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 startAt="4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 startAt="4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33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Arial"/>
              </a:rPr>
              <a:t>1. Access to commercially sensitive information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-12600" y="-12600"/>
            <a:ext cx="9144000" cy="6858000"/>
          </a:xfrm>
          <a:prstGeom prst="rect">
            <a:avLst/>
          </a:prstGeom>
          <a:solidFill>
            <a:srgbClr val="273650"/>
          </a:solidFill>
          <a:ln w="25560">
            <a:solidFill>
              <a:srgbClr val="384e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1" lang="fr-BE" sz="4000" spc="-1" strike="noStrike">
                <a:solidFill>
                  <a:srgbClr val="ffffff"/>
                </a:solidFill>
                <a:latin typeface="Calibri"/>
                <a:ea typeface="Calibri"/>
              </a:rPr>
              <a:t>3. Legal uncertainty and significant threat for future CBI Protection: the ‘Emissions Rule’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44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F3B2-5713-4A1C-AEC2-1D246EF19A31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45" name="Title 1"/>
          <p:cNvSpPr/>
          <p:nvPr/>
        </p:nvSpPr>
        <p:spPr>
          <a:xfrm>
            <a:off x="795240" y="539640"/>
            <a:ext cx="7332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The ‘Emissions Rule’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46" name="Rectangle 38"/>
          <p:cNvSpPr/>
          <p:nvPr/>
        </p:nvSpPr>
        <p:spPr>
          <a:xfrm>
            <a:off x="528480" y="1531800"/>
            <a:ext cx="853920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arhus Convention requires tha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information on emissions which is relevant for the protection of the environment”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 disclosed, even if the request relates to CBI (presumed overriding public interest)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an ‘emission’? concep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 define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Convention</a:t>
            </a:r>
            <a:endParaRPr b="1" lang="en-US" sz="1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nformation on emissions woul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e relevant for environmental protection?</a:t>
            </a:r>
            <a:endParaRPr b="1" lang="en-US" sz="1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an exception to an exception, the ‘emissions rule’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ust be interpreted restrictively  </a:t>
            </a:r>
            <a:endParaRPr b="1" lang="en-US" sz="1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arhus Convention Implementation Guid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ers to the definition of ‘emission’ in the EU Industrial Emissions Directiv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“direct or indirect release of substances, vibrations, heat or noise from individual or diffuse sources in the installation into air, water or land”) </a:t>
            </a:r>
            <a:endParaRPr b="1" lang="en-US" sz="16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mited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ual releas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o the environment</a:t>
            </a:r>
            <a:endParaRPr b="1" lang="en-US" sz="1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industrial installations</a:t>
            </a:r>
            <a:endParaRPr b="1" lang="en-US" sz="1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79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F445-CF0F-45D4-BCB0-107FB5F48F28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49" name="Title 1"/>
          <p:cNvSpPr/>
          <p:nvPr/>
        </p:nvSpPr>
        <p:spPr>
          <a:xfrm>
            <a:off x="795240" y="539640"/>
            <a:ext cx="7332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The ‘Emissions Rule’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50" name="Rectangle 38"/>
          <p:cNvSpPr/>
          <p:nvPr/>
        </p:nvSpPr>
        <p:spPr>
          <a:xfrm>
            <a:off x="312840" y="1278000"/>
            <a:ext cx="853920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-245/11 ClientEarth v ECHA (EU Chemicals Agency)</a:t>
            </a: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HA refused access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nnage dat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disclosure of the latter would have undermined the commercial interest of the registrants involved (Cf. revealing market shares towards competitors) 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nnage in which a chemical substance is manufactured or placed on market is treated as confidential under REACH (Art. 118(2)(c))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CHA decision was challenged before the EU General Court by the applicants based on a broad reading of the Aarhus ‘emissions rule’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U General Court ruling pending 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56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F938-275C-4459-92E8-5C6255CD0BF2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53" name="Title 1"/>
          <p:cNvSpPr/>
          <p:nvPr/>
        </p:nvSpPr>
        <p:spPr>
          <a:xfrm>
            <a:off x="795240" y="539640"/>
            <a:ext cx="7332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The ‘Emissions Rule’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54" name="Rectangle 38"/>
          <p:cNvSpPr/>
          <p:nvPr/>
        </p:nvSpPr>
        <p:spPr>
          <a:xfrm>
            <a:off x="312840" y="1278000"/>
            <a:ext cx="85392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-545/11 Greenpeace Nederland, PAN Europe v Commission </a:t>
            </a: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now under appeal)</a:t>
            </a: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nt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llenged the decision of the EU Commission to refuse acces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specific data contained in the dossier for the authorization of glyphosate as active substance in plant protection products, such as information on product composition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l Cour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ulled EU Commission decision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not disclosing specific parts of the dossier considered to qualify as information on emissions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lying on a definition of ‘emission’ inconsistent with broader EU legal framework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U Commission appealed before CJEU (C-673/13 P) – final ruling pending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56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56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E3F7-6321-452F-A33B-1766F5B3C5F2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57" name="Title 1"/>
          <p:cNvSpPr/>
          <p:nvPr/>
        </p:nvSpPr>
        <p:spPr>
          <a:xfrm>
            <a:off x="795240" y="539640"/>
            <a:ext cx="7332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The ‘Emissions Rule’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58" name="Rectangle 38"/>
          <p:cNvSpPr/>
          <p:nvPr/>
        </p:nvSpPr>
        <p:spPr>
          <a:xfrm>
            <a:off x="604800" y="1278000"/>
            <a:ext cx="85392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broad interpretation of the concept of ‘emission’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uld  undermine the protection of CB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d in Art. 4.4(d) of the Aarhus Convention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tradict higher ranking norms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t. 339 Treaty on the Functioning of the EU (duty of professional secrecy)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t. 16 (freedom to conduct a business) and Art. 17 (right to property, incl. intellectual property) of Charter of Fundamental Rights of the EU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ticle 8 of European Convention  for the Protection of Human Rights and Fundamental Freedoms (right to property) 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t. 39 of WTO TRIPS (protection against unfair competition) 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351000" y="52642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8200" indent="-80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mpliance with superior rules of law requires narrow defini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45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61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1DD9-2980-4661-8908-D2DE00CEC35A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62" name="Title 1"/>
          <p:cNvSpPr/>
          <p:nvPr/>
        </p:nvSpPr>
        <p:spPr>
          <a:xfrm>
            <a:off x="795240" y="539640"/>
            <a:ext cx="7332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Conclusions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63" name="Rectangle 38"/>
          <p:cNvSpPr/>
          <p:nvPr/>
        </p:nvSpPr>
        <p:spPr>
          <a:xfrm>
            <a:off x="604800" y="1278000"/>
            <a:ext cx="8373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64" name="Rectangle 38"/>
          <p:cNvSpPr/>
          <p:nvPr/>
        </p:nvSpPr>
        <p:spPr>
          <a:xfrm>
            <a:off x="312840" y="1278000"/>
            <a:ext cx="883116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Calibri"/>
              </a:rPr>
              <a:t>Parties are </a:t>
            </a:r>
            <a:r>
              <a:rPr b="1" lang="fr-BE" sz="1900" spc="-1" strike="noStrike">
                <a:solidFill>
                  <a:srgbClr val="000000"/>
                </a:solidFill>
                <a:latin typeface="Calibri"/>
              </a:rPr>
              <a:t>allowed to counterbalance </a:t>
            </a:r>
            <a:r>
              <a:rPr b="0" lang="fr-BE" sz="1900" spc="-1" strike="noStrike">
                <a:solidFill>
                  <a:srgbClr val="000000"/>
                </a:solidFill>
                <a:latin typeface="Calibri"/>
              </a:rPr>
              <a:t>the right of the public to access to information with the right to confidentiality and protection of professional and business secrecy</a:t>
            </a:r>
            <a:endParaRPr b="1" lang="en-US" sz="19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nfidentiality should be granted to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prevent CBI disclosure and unfair competition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– taking into account that access requests are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often motivated by private interests </a:t>
            </a:r>
            <a:endParaRPr b="1" lang="en-US" sz="19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clear process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hould exist to respond to access requests targeting commercial and industrial information – with appropriate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procedural safeguards for the data submitter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(right to be consulted, right to be heard, right to review procedures before a Court)</a:t>
            </a:r>
            <a:endParaRPr b="1" lang="en-US" sz="19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9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fr-BE" sz="1900" spc="-1" strike="noStrike">
                <a:solidFill>
                  <a:srgbClr val="000000"/>
                </a:solidFill>
                <a:latin typeface="Calibri"/>
              </a:rPr>
              <a:t>‘emissions rule’ should be interpreted restrictively </a:t>
            </a:r>
            <a:r>
              <a:rPr b="0" lang="fr-BE" sz="1900" spc="-1" strike="noStrike">
                <a:solidFill>
                  <a:srgbClr val="000000"/>
                </a:solidFill>
                <a:latin typeface="Calibri"/>
              </a:rPr>
              <a:t>– as a derogation to the derogation – to keep the </a:t>
            </a:r>
            <a:r>
              <a:rPr b="0" i="1" lang="fr-BE" sz="1900" spc="-1" strike="noStrike">
                <a:solidFill>
                  <a:srgbClr val="000000"/>
                </a:solidFill>
                <a:latin typeface="Calibri"/>
              </a:rPr>
              <a:t>effet utile </a:t>
            </a:r>
            <a:r>
              <a:rPr b="0" lang="fr-BE" sz="1900" spc="-1" strike="noStrike">
                <a:solidFill>
                  <a:srgbClr val="000000"/>
                </a:solidFill>
                <a:latin typeface="Calibri"/>
              </a:rPr>
              <a:t>of Art. 4(4)(d) of the Aarhus Convention</a:t>
            </a:r>
            <a:endParaRPr b="1" lang="en-US" sz="19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d25c04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80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66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869F-FA1D-432C-AB6D-00BFCA7CBB2F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-12600" y="-12600"/>
            <a:ext cx="9144000" cy="6858000"/>
          </a:xfrm>
          <a:prstGeom prst="rect">
            <a:avLst/>
          </a:prstGeom>
          <a:solidFill>
            <a:srgbClr val="273650"/>
          </a:solidFill>
          <a:ln w="25560">
            <a:solidFill>
              <a:srgbClr val="384e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ffffff"/>
                </a:solidFill>
                <a:latin typeface="Calibri"/>
                <a:ea typeface="Calibri"/>
              </a:rPr>
              <a:t>Thank you for your attention</a:t>
            </a:r>
            <a:endParaRPr b="1" lang="en-US" sz="4400" spc="-1" strike="noStrike">
              <a:solidFill>
                <a:srgbClr val="d25c0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25c0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ffffff"/>
                </a:solidFill>
                <a:latin typeface="Calibri"/>
                <a:ea typeface="Calibri"/>
              </a:rPr>
              <a:t>Contact: lti@cefic.be</a:t>
            </a:r>
            <a:endParaRPr b="1" lang="en-US" sz="44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Arial"/>
              </a:rPr>
              <a:t>1. Access to commercially sensitive information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-12600" y="-12600"/>
            <a:ext cx="9144000" cy="6858000"/>
          </a:xfrm>
          <a:prstGeom prst="rect">
            <a:avLst/>
          </a:prstGeom>
          <a:solidFill>
            <a:srgbClr val="273650"/>
          </a:solidFill>
          <a:ln w="25560">
            <a:solidFill>
              <a:srgbClr val="384e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1" lang="fr-BE" sz="4000" spc="-1" strike="noStrike">
                <a:solidFill>
                  <a:srgbClr val="ffffff"/>
                </a:solidFill>
                <a:latin typeface="Calibri"/>
                <a:ea typeface="Calibri"/>
              </a:rPr>
              <a:t>1. Importance of protecting the confidentiality of commercial and industrial information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E573-ABD8-469D-9E69-3E9696FB5973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03" name="Title 1"/>
          <p:cNvSpPr/>
          <p:nvPr/>
        </p:nvSpPr>
        <p:spPr>
          <a:xfrm>
            <a:off x="795240" y="539640"/>
            <a:ext cx="7332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Importance of CBI Protection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grpSp>
        <p:nvGrpSpPr>
          <p:cNvPr id="104" name="Textfeld 1"/>
          <p:cNvGrpSpPr/>
          <p:nvPr/>
        </p:nvGrpSpPr>
        <p:grpSpPr>
          <a:xfrm>
            <a:off x="2762280" y="1689120"/>
            <a:ext cx="3413160" cy="463680"/>
            <a:chOff x="2762280" y="1689120"/>
            <a:chExt cx="3413160" cy="463680"/>
          </a:xfrm>
        </p:grpSpPr>
        <p:pic>
          <p:nvPicPr>
            <p:cNvPr id="105" name="Textfeld 1" descr=""/>
            <p:cNvPicPr/>
            <p:nvPr/>
          </p:nvPicPr>
          <p:blipFill>
            <a:blip r:embed="rId1"/>
            <a:stretch/>
          </p:blipFill>
          <p:spPr>
            <a:xfrm>
              <a:off x="2762280" y="1689120"/>
              <a:ext cx="3413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1640" y="1700280"/>
              <a:ext cx="3382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 data, no market </a:t>
              </a:r>
              <a:endParaRPr b="1" lang="en-US" sz="2200" spc="-1" strike="noStrike">
                <a:solidFill>
                  <a:srgbClr val="d25c04"/>
                </a:solidFill>
                <a:latin typeface="Arial"/>
              </a:endParaRPr>
            </a:p>
          </p:txBody>
        </p:sp>
      </p:grpSp>
      <p:pic>
        <p:nvPicPr>
          <p:cNvPr id="107" name="Textplatzhalter 2" descr=""/>
          <p:cNvPicPr/>
          <p:nvPr/>
        </p:nvPicPr>
        <p:blipFill>
          <a:blip r:embed="rId2"/>
          <a:stretch/>
        </p:blipFill>
        <p:spPr>
          <a:xfrm>
            <a:off x="30240" y="2262240"/>
            <a:ext cx="8789760" cy="4387680"/>
          </a:xfrm>
          <a:prstGeom prst="rect">
            <a:avLst/>
          </a:prstGeom>
          <a:ln w="0">
            <a:noFill/>
          </a:ln>
        </p:spPr>
      </p:pic>
    </p:spTree>
  </p:cSld>
  <p:transition advTm="81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09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1F43-D2DC-47DC-B5DF-4F325659D1F5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10" name="Title 1"/>
          <p:cNvSpPr/>
          <p:nvPr/>
        </p:nvSpPr>
        <p:spPr>
          <a:xfrm>
            <a:off x="795240" y="539640"/>
            <a:ext cx="73328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Importance of CBI Protection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11" name="Textplatzhalter 2"/>
          <p:cNvSpPr/>
          <p:nvPr/>
        </p:nvSpPr>
        <p:spPr>
          <a:xfrm>
            <a:off x="344520" y="1739880"/>
            <a:ext cx="8712000" cy="49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316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Failure to protect  CBI generates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unfair competi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by providing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ompetito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with immediate access to certain technological advances or know-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they may not have had the capacity to develop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316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316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316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316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316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Confidentiality rul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have been established under EU chemicals legislation to facilitate the submission of data by companies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to public authorities 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ensure trus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from duty holders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 marL="14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24316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43160"/>
                <a:tab algn="l" pos="251460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2400" spc="-1" strike="noStrike">
              <a:solidFill>
                <a:srgbClr val="d25c04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4520" y="2979720"/>
          <a:ext cx="7583400" cy="1216080"/>
        </p:xfrm>
        <a:graphic>
          <a:graphicData uri="http://schemas.openxmlformats.org/drawingml/2006/table">
            <a:tbl>
              <a:tblPr/>
              <a:tblGrid>
                <a:gridCol w="4044960"/>
                <a:gridCol w="35384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manufacturing process </a:t>
                      </a:r>
                      <a:endParaRPr b="1" lang="en-US" sz="1800" spc="-1" strike="noStrike">
                        <a:solidFill>
                          <a:srgbClr val="d25c0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production/sale volumes </a:t>
                      </a:r>
                      <a:endParaRPr b="1" lang="en-US" sz="1800" spc="-1" strike="noStrike">
                        <a:solidFill>
                          <a:srgbClr val="d25c0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specific formulae</a:t>
                      </a:r>
                      <a:endParaRPr b="1" lang="en-US" sz="1800" spc="-1" strike="noStrike">
                        <a:solidFill>
                          <a:srgbClr val="d25c0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identity of suppliers/customers</a:t>
                      </a:r>
                      <a:endParaRPr b="1" lang="en-US" sz="1800" spc="-1" strike="noStrike">
                        <a:solidFill>
                          <a:srgbClr val="d25c0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3480"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technology</a:t>
                      </a:r>
                      <a:endParaRPr b="1" lang="en-US" sz="1800" spc="-1" strike="noStrike">
                        <a:solidFill>
                          <a:srgbClr val="d25c0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R&amp;D knowledge</a:t>
                      </a:r>
                      <a:endParaRPr b="1" lang="en-US" sz="1800" spc="-1" strike="noStrike">
                        <a:solidFill>
                          <a:srgbClr val="d25c0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2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8"/>
          <p:cNvSpPr/>
          <p:nvPr/>
        </p:nvSpPr>
        <p:spPr>
          <a:xfrm>
            <a:off x="604800" y="1646280"/>
            <a:ext cx="8373960" cy="51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igh rate of disclosure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,525 access requests to EU institutions in 2013 - 84% full or partial disclosure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tection of commercial and industrial interest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ked as an exemption for initial requests i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16% of refusal cas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d to most common reliance on protection of decision making process (27%) and purpose of inspections (23%)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pplicants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aw firms (14%) are almost as active as civil society altogeth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including NGOs, citizens and industry associations (16%)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14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15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1D01-4945-49CD-B8E4-44D526C797BE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16" name="Title 1"/>
          <p:cNvSpPr/>
          <p:nvPr/>
        </p:nvSpPr>
        <p:spPr>
          <a:xfrm>
            <a:off x="820800" y="136440"/>
            <a:ext cx="778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Facts &amp; Figures:</a:t>
            </a:r>
            <a:endParaRPr b="1" lang="en-US" sz="30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ccess requests to EU institutions</a:t>
            </a:r>
            <a:endParaRPr b="1" lang="en-US" sz="3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228600" y="6138720"/>
            <a:ext cx="800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Calibri"/>
              </a:rPr>
              <a:t>Source: EU Commission report of 8.10.2014 on the application in 2013 of  Reg. 1049/2001</a:t>
            </a:r>
            <a:endParaRPr b="1" lang="en-US" sz="16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36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8"/>
          <p:cNvSpPr/>
          <p:nvPr/>
        </p:nvSpPr>
        <p:spPr>
          <a:xfrm>
            <a:off x="604800" y="1646280"/>
            <a:ext cx="837396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820800" y="13644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20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60FD-DF32-4CF8-8368-66D7B08662F6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21" name="Title 1"/>
          <p:cNvSpPr/>
          <p:nvPr/>
        </p:nvSpPr>
        <p:spPr>
          <a:xfrm>
            <a:off x="795240" y="250920"/>
            <a:ext cx="81583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Facts &amp; Figures: </a:t>
            </a:r>
            <a:endParaRPr b="1" lang="en-US" sz="30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ccess requests to EU Chemicals Agency</a:t>
            </a:r>
            <a:endParaRPr b="1" lang="en-US" sz="3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22" name="Rectangle 38"/>
          <p:cNvSpPr/>
          <p:nvPr/>
        </p:nvSpPr>
        <p:spPr>
          <a:xfrm>
            <a:off x="5230800" y="2065320"/>
            <a:ext cx="3747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t can reasonably be assumed that at least 40% of applications submitted to the EU Chemicals Agency were motivated by private interests </a:t>
            </a: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30040" y="1627200"/>
            <a:ext cx="4727880" cy="44672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8"/>
          <p:cNvSpPr/>
          <p:nvPr/>
        </p:nvSpPr>
        <p:spPr>
          <a:xfrm>
            <a:off x="808200" y="6229440"/>
            <a:ext cx="59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8080"/>
                </a:solidFill>
                <a:latin typeface="Calibri"/>
              </a:rPr>
              <a:t>Source: ECHA Factsheet -2013 Key Figures [ECHA-14-FS-02-EN]</a:t>
            </a:r>
            <a:endParaRPr b="1" lang="en-US" sz="16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36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Arial"/>
              </a:rPr>
              <a:t>1. Access to commercially sensitive information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-12600" y="-12600"/>
            <a:ext cx="9144000" cy="6858000"/>
          </a:xfrm>
          <a:prstGeom prst="rect">
            <a:avLst/>
          </a:prstGeom>
          <a:solidFill>
            <a:srgbClr val="273650"/>
          </a:solidFill>
          <a:ln w="25560">
            <a:solidFill>
              <a:srgbClr val="384e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25c0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1" lang="fr-BE" sz="4000" spc="-1" strike="noStrike">
                <a:solidFill>
                  <a:srgbClr val="ffffff"/>
                </a:solidFill>
                <a:latin typeface="Calibri"/>
                <a:ea typeface="Calibri"/>
              </a:rPr>
              <a:t>2. Application of the exception to disclosure: Aarhus Convention requirements and best practice</a:t>
            </a:r>
            <a:endParaRPr b="1" lang="en-US" sz="40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tle 1"/>
          <p:cNvSpPr/>
          <p:nvPr/>
        </p:nvSpPr>
        <p:spPr>
          <a:xfrm>
            <a:off x="820800" y="64620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Calibri"/>
              </a:rPr>
              <a:t>Aarhus Convention</a:t>
            </a: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29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2884-D0EB-4220-A097-2F9E8075FAAE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604800" y="1646280"/>
            <a:ext cx="8373960" cy="62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arhus Convention allows Parties to refuse access to env. information if: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sclosure would adversely affect the confidentiality of commercial and industrial information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information must not be in the public domain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 startAt="2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nfidentiality is protected by law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eption to disclosure must be transposed in EU/national law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 startAt="2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 startAt="3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nfidentiality protects a “legitimate economic interest”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Char char="-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isk of damage must be reasonably foreseeable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eption :  “information on emissions which is relevant for the protection of the environment” – shall be disclosed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43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8"/>
          <p:cNvSpPr/>
          <p:nvPr/>
        </p:nvSpPr>
        <p:spPr>
          <a:xfrm>
            <a:off x="604800" y="1646280"/>
            <a:ext cx="845028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32" name="Title 1"/>
          <p:cNvSpPr/>
          <p:nvPr/>
        </p:nvSpPr>
        <p:spPr>
          <a:xfrm>
            <a:off x="820800" y="646200"/>
            <a:ext cx="70754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Calibri"/>
              </a:rPr>
              <a:t>Best Practice</a:t>
            </a:r>
            <a:endParaRPr b="1" lang="en-US" sz="36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7975440" y="62974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E559-8DDC-4DB8-896E-3AF3449B9C7A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d25c04"/>
              </a:solidFill>
              <a:latin typeface="Arial"/>
            </a:endParaRPr>
          </a:p>
        </p:txBody>
      </p:sp>
      <p:sp>
        <p:nvSpPr>
          <p:cNvPr id="134" name="Rectangle 38"/>
          <p:cNvSpPr/>
          <p:nvPr/>
        </p:nvSpPr>
        <p:spPr>
          <a:xfrm>
            <a:off x="604800" y="1531800"/>
            <a:ext cx="8373960" cy="58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edictability.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nies  shoul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know in advanc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the data they are required to submit will be treated as confidential or not and under which conditions (e.g. if a confidentiality claim must be submitted)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ally, the EU/national legislation should provid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arity on the categories of information that will be considered CBI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ccess is requested to data provided by a company, it is best practice t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ystematically consult the compan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 a view to assess if the restriction related to CBI protection is applicable – as companies know the competitive and economic conditions in which they operate</a:t>
            </a: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70c0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d25c04"/>
              </a:buClr>
              <a:buSzPct val="115000"/>
              <a:buFont typeface="Calibri"/>
              <a:buAutoNum type="arabicPeriod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buClr>
                <a:srgbClr val="d25c04"/>
              </a:buClr>
              <a:buSzPct val="115000"/>
              <a:buFont typeface="Arial"/>
              <a:buChar char="•"/>
              <a:tabLst>
                <a:tab algn="l" pos="4484520"/>
                <a:tab algn="l" pos="54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25c04"/>
              </a:solidFill>
              <a:latin typeface="Arial"/>
            </a:endParaRPr>
          </a:p>
        </p:txBody>
      </p:sp>
    </p:spTree>
  </p:cSld>
  <p:transition advTm="5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2:33:49Z</dcterms:created>
  <dc:creator>fia</dc:creator>
  <dc:description/>
  <dc:language>en-US</dc:language>
  <cp:lastModifiedBy>TIMMERMANS Liesbeth</cp:lastModifiedBy>
  <cp:lastPrinted>2014-11-19T13:13:15Z</cp:lastPrinted>
  <dcterms:modified xsi:type="dcterms:W3CDTF">2014-12-02T22:04:22Z</dcterms:modified>
  <cp:revision>15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tle">
    <vt:lpwstr/>
  </property>
  <property fmtid="{D5CDD505-2E9C-101B-9397-08002B2CF9AE}" pid="3" name="CHTitle">
    <vt:lpwstr/>
  </property>
  <property fmtid="{D5CDD505-2E9C-101B-9397-08002B2CF9AE}" pid="4" name="ContentType">
    <vt:lpwstr>Document</vt:lpwstr>
  </property>
  <property fmtid="{D5CDD505-2E9C-101B-9397-08002B2CF9AE}" pid="5" name="FRTitle">
    <vt:lpwstr/>
  </property>
  <property fmtid="{D5CDD505-2E9C-101B-9397-08002B2CF9AE}" pid="6" name="Order">
    <vt:lpwstr>2793400.00000000</vt:lpwstr>
  </property>
  <property fmtid="{D5CDD505-2E9C-101B-9397-08002B2CF9AE}" pid="7" name="RUTitle">
    <vt:lpwstr/>
  </property>
  <property fmtid="{D5CDD505-2E9C-101B-9397-08002B2CF9AE}" pid="8" name="SPTitle">
    <vt:lpwstr/>
  </property>
  <property fmtid="{D5CDD505-2E9C-101B-9397-08002B2CF9AE}" pid="9" name="TemplateUrl">
    <vt:lpwstr/>
  </property>
  <property fmtid="{D5CDD505-2E9C-101B-9397-08002B2CF9AE}" pid="10" name="_SharedFileIndex">
    <vt:lpwstr/>
  </property>
  <property fmtid="{D5CDD505-2E9C-101B-9397-08002B2CF9AE}" pid="11" name="_SourceUrl">
    <vt:lpwstr/>
  </property>
  <property fmtid="{D5CDD505-2E9C-101B-9397-08002B2CF9AE}" pid="12" name="display_urn:schemas-microsoft-com:office:office#Author">
    <vt:lpwstr>Valerie MYTNIK</vt:lpwstr>
  </property>
  <property fmtid="{D5CDD505-2E9C-101B-9397-08002B2CF9AE}" pid="13" name="display_urn:schemas-microsoft-com:office:office#Editor">
    <vt:lpwstr>Valerie MYTNIK</vt:lpwstr>
  </property>
  <property fmtid="{D5CDD505-2E9C-101B-9397-08002B2CF9AE}" pid="14" name="xd_ProgID">
    <vt:lpwstr/>
  </property>
</Properties>
</file>