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19FE-5759-46F1-B23A-5E743A6CD5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E6DC-D27F-4F72-BB4D-5D04964A3B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60CC-ECFA-437A-9009-F4462F116D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89F1-187F-4F68-96ED-A87C7F8429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191B-F57C-492C-9D0F-702C834934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4290-4147-47C7-8E3C-484E50AB10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3D08-AB6D-4990-9BB6-D1091CC475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FFF0-3840-4A62-8AEA-7DE22E17FA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C91F-8224-4F2E-89DE-19BA2A7F8E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EA5-18CE-44E9-BFD1-D7C14568F1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04E3-486F-44EB-BD95-1681B0F4B7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FA1D-0038-404F-89AF-FCD15AD302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7A78-6A7B-42B2-9580-1D7488B9A1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A590-FB93-40C9-B0BB-C50376A8A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0560" y="372564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F4C2-E5DF-4EE9-BE43-84592420E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792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B56E-1C49-44AF-A743-60174815B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264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508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056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264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508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9933-9C67-45E8-B742-B544DD226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B6276-692B-4F94-920A-F6A1CE1B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B65E9-2D97-4A09-A1DA-BFEE2F63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DA410-F9C4-4171-B080-5D2B735B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D6D37-1D66-4394-957A-87F03ED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FAE0F-00BA-4B77-8041-B24953D8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0560" y="610920"/>
            <a:ext cx="6477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EC08F-C9E2-481E-8DC9-18077DF9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E8DDD-ABEB-4660-A97B-EDA21F2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5975-FFC3-419C-BDB0-5BB77162A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792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C338C-695C-442A-AD9A-B3A111D9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86F3D-D0AD-4820-9CCF-5130A1F2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560" y="372564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763CF-D4A7-476F-BCA7-FB678F14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792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9ACF1-97DF-466E-B0B6-E61797AC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264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508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056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264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1508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E9109-4382-41C4-9E0B-05C336FC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6E09-15DA-46F1-B7EC-1AD03C791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5FF7-81BD-4941-86EB-5FC29A0CD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6BD3-5107-492A-871A-B1CB10A51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0560" y="610920"/>
            <a:ext cx="6477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D9BA-E571-4460-BC1B-118FA9DE6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86D5-EA87-4EE2-A19B-D05E42DEE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792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0C2D-896A-44F8-ADC8-4B6A5ECEB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D41C-3A88-4213-B778-3512BA00C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1" descr=""/>
          <p:cNvPicPr/>
          <p:nvPr/>
        </p:nvPicPr>
        <p:blipFill>
          <a:blip r:embed="rId2"/>
          <a:stretch/>
        </p:blipFill>
        <p:spPr>
          <a:xfrm>
            <a:off x="7970760" y="419040"/>
            <a:ext cx="695520" cy="723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c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898560" y="1276200"/>
            <a:ext cx="6118200" cy="108000"/>
          </a:xfrm>
          <a:prstGeom prst="rect">
            <a:avLst/>
          </a:prstGeom>
          <a:solidFill>
            <a:srgbClr val="7bb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97508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EAF2-4AC5-42A6-8A61-92AA011D9D12}" type="slidenum"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32BE-56BC-47BF-AED7-8F30814A336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1" descr=""/>
          <p:cNvPicPr/>
          <p:nvPr/>
        </p:nvPicPr>
        <p:blipFill>
          <a:blip r:embed="rId2"/>
          <a:stretch/>
        </p:blipFill>
        <p:spPr>
          <a:xfrm>
            <a:off x="7970760" y="419040"/>
            <a:ext cx="695520" cy="723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1"/>
          <p:cNvSpPr/>
          <p:nvPr/>
        </p:nvSpPr>
        <p:spPr>
          <a:xfrm>
            <a:off x="898560" y="1438200"/>
            <a:ext cx="6118200" cy="108000"/>
          </a:xfrm>
          <a:prstGeom prst="rect">
            <a:avLst/>
          </a:prstGeom>
          <a:solidFill>
            <a:srgbClr val="7bb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justmytruth.files.wordpress.com/2010/06/ripples-s.jpg"/>
          <p:cNvPicPr/>
          <p:nvPr/>
        </p:nvPicPr>
        <p:blipFill>
          <a:blip r:embed="rId1"/>
          <a:srcRect l="0" t="11831" r="0" b="38435"/>
          <a:stretch/>
        </p:blipFill>
        <p:spPr>
          <a:xfrm>
            <a:off x="0" y="0"/>
            <a:ext cx="9144000" cy="361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39" descr=""/>
          <p:cNvPicPr/>
          <p:nvPr/>
        </p:nvPicPr>
        <p:blipFill>
          <a:blip r:embed="rId2"/>
          <a:stretch/>
        </p:blipFill>
        <p:spPr>
          <a:xfrm>
            <a:off x="3357720" y="5427720"/>
            <a:ext cx="2446200" cy="927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40"/>
          <p:cNvSpPr/>
          <p:nvPr/>
        </p:nvSpPr>
        <p:spPr>
          <a:xfrm>
            <a:off x="0" y="2833560"/>
            <a:ext cx="9163080" cy="1306800"/>
          </a:xfrm>
          <a:prstGeom prst="rect">
            <a:avLst/>
          </a:prstGeom>
          <a:solidFill>
            <a:srgbClr val="909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0"/>
            <a:ext cx="9144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28605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The restriction of access to env. information </a:t>
            </a:r>
            <a:endParaRPr b="1" lang="en-US" sz="2600" spc="-1" strike="noStrike">
              <a:solidFill>
                <a:srgbClr val="d25c0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related to protection of Confidential Business Information (CBI)</a:t>
            </a:r>
            <a:endParaRPr b="1" lang="en-US" sz="2600" spc="-1" strike="noStrike">
              <a:solidFill>
                <a:srgbClr val="d25c0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xperience, Challenges &amp; Best Practice</a:t>
            </a: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7975440" y="62974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B9E8-9630-45E5-89E7-50D4D9D916BE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6680" y="4216320"/>
            <a:ext cx="39816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Liesbeth Timmermans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Environmental Law Manager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European Chemical Industry Council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CE Task Force on Access to Information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va, 3-5 December 2014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29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8"/>
          <p:cNvSpPr/>
          <p:nvPr/>
        </p:nvSpPr>
        <p:spPr>
          <a:xfrm>
            <a:off x="604800" y="1646280"/>
            <a:ext cx="845028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820800" y="64620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Best Practice</a:t>
            </a: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C22E-6651-4B1D-92A0-FAAE0CEFA418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604800" y="1646280"/>
            <a:ext cx="837396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515880" y="1646280"/>
            <a:ext cx="8373960" cy="58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lancing of interests.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3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re access to CBI is requested,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areful weighing of interest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t be carried out to determine whether there is an overriding public interest in disclosure (no mechanical approach to disclosure)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ight to an effective remedy.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4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public authority intends to grant access to the data against the opinion of the company,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company should have sufficient time to seek judicial suspension and annulment of the administrative decis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fore disclosure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4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4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4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33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Arial"/>
              </a:rPr>
              <a:t>1. Access to commercially sensitive informa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-12600" y="-12600"/>
            <a:ext cx="9144000" cy="6858000"/>
          </a:xfrm>
          <a:prstGeom prst="rect">
            <a:avLst/>
          </a:prstGeom>
          <a:solidFill>
            <a:srgbClr val="273650"/>
          </a:solidFill>
          <a:ln w="25560">
            <a:solidFill>
              <a:srgbClr val="384e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3. Legal uncertainty and significant threat for future CBI Protection: 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B5A5-3D5B-458B-A61A-C27C63BD60AC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6" name="Rectangle 38"/>
          <p:cNvSpPr/>
          <p:nvPr/>
        </p:nvSpPr>
        <p:spPr>
          <a:xfrm>
            <a:off x="528480" y="1531800"/>
            <a:ext cx="85392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arhus Convention requires tha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information on emissions which is relevant for the protection of the environment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disclosed, even if the request relates to CBI (presumed overriding public interest)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n ‘emission’? concep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 defin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Convention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nformation on emissions woul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e relevant for environmental protection?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n exception to an exception, the ‘emissions rule’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ust be interpreted restrictively  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arhus Convention Implementation Guid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s to the definition of ‘emission’ in the EU Industrial Emissions Directiv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“direct or indirect release of substances, vibrations, heat or noise from individual or diffuse sources in the installation into air, water or land”) </a:t>
            </a: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ed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ual rele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o the environment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industrial installations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7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10F0-65B4-474D-867D-BE4B21853AA5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312840" y="1278000"/>
            <a:ext cx="85392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-245/11 ClientEarth v ECHA (EU Chemicals Agency)</a:t>
            </a: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A refused access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nnage da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disclosure of the latter would have undermined the commercial interest of the registrants involved (Cf. revealing market shares towards competitors)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nnage in which a chemical substance is manufactured or placed on market is treated as confidential under REACH (Art. 118(2)(c))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CHA decision was challenged before the EU General Court by the applicants based on a broad reading of the Aarhus ‘emissions rule’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 General Court ruling pending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56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2EBD-0291-47CE-97FE-8BA18C9ED0C5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4" name="Rectangle 38"/>
          <p:cNvSpPr/>
          <p:nvPr/>
        </p:nvSpPr>
        <p:spPr>
          <a:xfrm>
            <a:off x="312840" y="1278000"/>
            <a:ext cx="85392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-545/11 Greenpeace Nederland, PAN Europe v Commission </a:t>
            </a: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now under appeal)</a:t>
            </a: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llenged the decision of the EU Commission to refuse acc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pecific data contained in the dossier for the authorization of glyphosate as active substance in plant protection products, such as information on product composition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 Cour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lled EU Commission decision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not disclosing specific parts of the dossier considered to qualify as information on emissions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lying on a definition of ‘emission’ inconsistent with broader EU legal framework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U Commission appealed before CJEU (C-673/13 P) – final ruling pending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56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F0F-168B-4BA3-9887-F4BE11C707F1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8" name="Rectangle 38"/>
          <p:cNvSpPr/>
          <p:nvPr/>
        </p:nvSpPr>
        <p:spPr>
          <a:xfrm>
            <a:off x="604800" y="1278000"/>
            <a:ext cx="85392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road interpretation of the concept of ‘emission’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uld  undermine the protection of CB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d in Art. 4.4(d) of the Aarhus Convention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radict higher ranking norms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. 339 Treaty on the Functioning of the EU (duty of professional secrecy)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. 16 (freedom to conduct a business) and Art. 17 (right to property, incl. intellectual property) of Charter of Fundamental Rights of the EU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icle 8 of European Convention  for the Protection of Human Rights and Fundamental Freedoms (right to property)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. 39 of WTO TRIPS (protection against unfair competition)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351000" y="526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pliance with superior rules of law requires narrow defini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45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647-CC81-4295-BBFF-7969A57440FB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Conclusions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3" name="Rectangle 38"/>
          <p:cNvSpPr/>
          <p:nvPr/>
        </p:nvSpPr>
        <p:spPr>
          <a:xfrm>
            <a:off x="604800" y="1278000"/>
            <a:ext cx="8373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312840" y="1278000"/>
            <a:ext cx="883116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Parties are </a:t>
            </a:r>
            <a:r>
              <a:rPr b="1" lang="fr-BE" sz="1900" spc="-1" strike="noStrike">
                <a:solidFill>
                  <a:srgbClr val="000000"/>
                </a:solidFill>
                <a:latin typeface="Calibri"/>
              </a:rPr>
              <a:t>allowed to counterbalance </a:t>
            </a: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the right of the public to access to information with the right to confidentiality and protection of professional and business secrecy</a:t>
            </a: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fidentiality should be granted to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prevent CBI disclosure and unfair competitio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– taking into account that access requests are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often motivated by private interests </a:t>
            </a: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lear process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uld exist to respond to access requests targeting commercial and industrial information – with appropriate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procedural safeguards for the data submitter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right to be consulted, right to be heard, right to review procedures before a Court)</a:t>
            </a: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fr-BE" sz="1900" spc="-1" strike="noStrike">
                <a:solidFill>
                  <a:srgbClr val="000000"/>
                </a:solidFill>
                <a:latin typeface="Calibri"/>
              </a:rPr>
              <a:t>‘emissions rule’ should be interpreted restrictively </a:t>
            </a: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– as a derogation to the derogation – to keep the </a:t>
            </a:r>
            <a:r>
              <a:rPr b="0" i="1" lang="fr-BE" sz="1900" spc="-1" strike="noStrike">
                <a:solidFill>
                  <a:srgbClr val="000000"/>
                </a:solidFill>
                <a:latin typeface="Calibri"/>
              </a:rPr>
              <a:t>effet utile </a:t>
            </a: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of Art. 4(4)(d) of the Aarhus Convention</a:t>
            </a: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8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6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B3D1-17C9-4566-81AD-B83704ADBAB0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12600" y="-12600"/>
            <a:ext cx="9144000" cy="6858000"/>
          </a:xfrm>
          <a:prstGeom prst="rect">
            <a:avLst/>
          </a:prstGeom>
          <a:solidFill>
            <a:srgbClr val="273650"/>
          </a:solidFill>
          <a:ln w="25560">
            <a:solidFill>
              <a:srgbClr val="384e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ffff"/>
                </a:solidFill>
                <a:latin typeface="Calibri"/>
                <a:ea typeface="Calibri"/>
              </a:rPr>
              <a:t>Thank you for your attention</a:t>
            </a:r>
            <a:endParaRPr b="1" lang="en-US" sz="4400" spc="-1" strike="noStrike">
              <a:solidFill>
                <a:srgbClr val="d25c0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25c0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ffff"/>
                </a:solidFill>
                <a:latin typeface="Calibri"/>
                <a:ea typeface="Calibri"/>
              </a:rPr>
              <a:t>Contact: lti@cefic.be</a:t>
            </a:r>
            <a:endParaRPr b="1" lang="en-US" sz="44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Arial"/>
              </a:rPr>
              <a:t>1. Access to commercially sensitive informa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-12600" y="-12600"/>
            <a:ext cx="9144000" cy="6858000"/>
          </a:xfrm>
          <a:prstGeom prst="rect">
            <a:avLst/>
          </a:prstGeom>
          <a:solidFill>
            <a:srgbClr val="273650"/>
          </a:solidFill>
          <a:ln w="25560">
            <a:solidFill>
              <a:srgbClr val="384e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1. Importance of protecting the confidentiality of commercial and industrial informa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33B6-A687-4980-94E6-1F9A40032DF1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Importance of CBI Protec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grpSp>
        <p:nvGrpSpPr>
          <p:cNvPr id="104" name="Textfeld 1"/>
          <p:cNvGrpSpPr/>
          <p:nvPr/>
        </p:nvGrpSpPr>
        <p:grpSpPr>
          <a:xfrm>
            <a:off x="2762280" y="1689120"/>
            <a:ext cx="3413160" cy="463680"/>
            <a:chOff x="2762280" y="1689120"/>
            <a:chExt cx="3413160" cy="463680"/>
          </a:xfrm>
        </p:grpSpPr>
        <p:pic>
          <p:nvPicPr>
            <p:cNvPr id="105" name="Textfeld 1" descr=""/>
            <p:cNvPicPr/>
            <p:nvPr/>
          </p:nvPicPr>
          <p:blipFill>
            <a:blip r:embed="rId1"/>
            <a:stretch/>
          </p:blipFill>
          <p:spPr>
            <a:xfrm>
              <a:off x="2762280" y="1689120"/>
              <a:ext cx="3413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1640" y="1700280"/>
              <a:ext cx="338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 data, no market </a:t>
              </a:r>
              <a:endParaRPr b="1" lang="en-US" sz="2200" spc="-1" strike="noStrike">
                <a:solidFill>
                  <a:srgbClr val="d25c04"/>
                </a:solidFill>
                <a:latin typeface="Arial"/>
              </a:endParaRPr>
            </a:p>
          </p:txBody>
        </p:sp>
      </p:grpSp>
      <p:pic>
        <p:nvPicPr>
          <p:cNvPr id="107" name="Textplatzhalter 2" descr=""/>
          <p:cNvPicPr/>
          <p:nvPr/>
        </p:nvPicPr>
        <p:blipFill>
          <a:blip r:embed="rId2"/>
          <a:stretch/>
        </p:blipFill>
        <p:spPr>
          <a:xfrm>
            <a:off x="30240" y="2262240"/>
            <a:ext cx="8789760" cy="4387680"/>
          </a:xfrm>
          <a:prstGeom prst="rect">
            <a:avLst/>
          </a:prstGeom>
          <a:ln w="0">
            <a:noFill/>
          </a:ln>
        </p:spPr>
      </p:pic>
    </p:spTree>
  </p:cSld>
  <p:transition advTm="8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781A-EA95-4E17-BF82-AF82C8DD16CE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Importance of CBI Protec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1" name="Textplatzhalter 2"/>
          <p:cNvSpPr/>
          <p:nvPr/>
        </p:nvSpPr>
        <p:spPr>
          <a:xfrm>
            <a:off x="344520" y="1739880"/>
            <a:ext cx="871200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Failure to protect  CBI generate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unfair competi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by providing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ompetito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with immediate access to certain technological advances or know-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they may not have had the capacity to develop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onfidentiality ru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have been established under EU chemicals legislation to facilitate the submission of data by compani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to public authorities 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ensure tru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from duty holders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4520" y="2979720"/>
          <a:ext cx="7583400" cy="1216080"/>
        </p:xfrm>
        <a:graphic>
          <a:graphicData uri="http://schemas.openxmlformats.org/drawingml/2006/table">
            <a:tbl>
              <a:tblPr/>
              <a:tblGrid>
                <a:gridCol w="4044960"/>
                <a:gridCol w="3538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anufacturing process 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production/sale volumes 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specific formulae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identity of suppliers/customers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3480"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technology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R&amp;D knowledge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2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8"/>
          <p:cNvSpPr/>
          <p:nvPr/>
        </p:nvSpPr>
        <p:spPr>
          <a:xfrm>
            <a:off x="604800" y="1646280"/>
            <a:ext cx="837396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igh rate of disclosure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,525 access requests to EU institutions in 2013 - 84% full or partial disclosure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ection of commercial and industrial interest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ked as an exemption for initial requests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16% of refusal cas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d to most common reliance on protection of decision making process (27%) and purpose of inspections (23%)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pplicants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aw firms (14%) are almost as active as civil society altogeth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including NGOs, citizens and industry associations (16%)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BAFE-D3C8-4BE7-BC91-69885993F6CD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820800" y="136440"/>
            <a:ext cx="778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Facts &amp; Figures:</a:t>
            </a:r>
            <a:endParaRPr b="1" lang="en-US" sz="30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ccess requests to EU institutions</a:t>
            </a:r>
            <a:endParaRPr b="1" lang="en-US" sz="3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28600" y="6138720"/>
            <a:ext cx="800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alibri"/>
              </a:rPr>
              <a:t>Source: EU Commission report of 8.10.2014 on the application in 2013 of  Reg. 1049/2001</a:t>
            </a: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3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8"/>
          <p:cNvSpPr/>
          <p:nvPr/>
        </p:nvSpPr>
        <p:spPr>
          <a:xfrm>
            <a:off x="604800" y="1646280"/>
            <a:ext cx="837396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B688-C306-4BB0-A6A4-D367A961E364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1" name="Title 1"/>
          <p:cNvSpPr/>
          <p:nvPr/>
        </p:nvSpPr>
        <p:spPr>
          <a:xfrm>
            <a:off x="795240" y="250920"/>
            <a:ext cx="81583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Facts &amp; Figures: </a:t>
            </a:r>
            <a:endParaRPr b="1" lang="en-US" sz="30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ccess requests to EU Chemicals Agency</a:t>
            </a:r>
            <a:endParaRPr b="1" lang="en-US" sz="3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2" name="Rectangle 38"/>
          <p:cNvSpPr/>
          <p:nvPr/>
        </p:nvSpPr>
        <p:spPr>
          <a:xfrm>
            <a:off x="5230800" y="2065320"/>
            <a:ext cx="3747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t can reasonably be assumed that at least 40% of applications submitted to the EU Chemicals Agency were motivated by private interests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30040" y="1627200"/>
            <a:ext cx="4727880" cy="4467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8"/>
          <p:cNvSpPr/>
          <p:nvPr/>
        </p:nvSpPr>
        <p:spPr>
          <a:xfrm>
            <a:off x="808200" y="6229440"/>
            <a:ext cx="59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alibri"/>
              </a:rPr>
              <a:t>Source: ECHA Factsheet -2013 Key Figures [ECHA-14-FS-02-EN]</a:t>
            </a: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36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Arial"/>
              </a:rPr>
              <a:t>1. Access to commercially sensitive informa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-12600" y="-12600"/>
            <a:ext cx="9144000" cy="6858000"/>
          </a:xfrm>
          <a:prstGeom prst="rect">
            <a:avLst/>
          </a:prstGeom>
          <a:solidFill>
            <a:srgbClr val="273650"/>
          </a:solidFill>
          <a:ln w="25560">
            <a:solidFill>
              <a:srgbClr val="384e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2. Application of the exception to disclosure: Aarhus Convention requirements and best practice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le 1"/>
          <p:cNvSpPr/>
          <p:nvPr/>
        </p:nvSpPr>
        <p:spPr>
          <a:xfrm>
            <a:off x="820800" y="64620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Aarhus Convention</a:t>
            </a: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F39A-C8B9-436F-861A-687B73E15E61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604800" y="1646280"/>
            <a:ext cx="837396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arhus Convention allows Parties to refuse access to env. information if: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closure would adversely affect the confidentiality of commercial and industrial information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nformation must not be in the public domain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2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fidentiality is protected by law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eption to disclosure must be transposed in EU/national law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2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3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fidentiality protects a “legitimate economic interest”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sk of damage must be reasonably foreseeable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eption :  “information on emissions which is relevant for the protection of the environment” – shall be disclosed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43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8"/>
          <p:cNvSpPr/>
          <p:nvPr/>
        </p:nvSpPr>
        <p:spPr>
          <a:xfrm>
            <a:off x="604800" y="1646280"/>
            <a:ext cx="845028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820800" y="64620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Best Practice</a:t>
            </a: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B898-35C6-40B9-B53F-8B85416E21CE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604800" y="1531800"/>
            <a:ext cx="8373960" cy="58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dictability.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nies  shoul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now in advanc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data they are required to submit will be treated as confidential or not and under which conditions (e.g. if a confidentiality claim must be submitted)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ally, the EU/national legislation should provid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arity on the categories of information that will be considered CBI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ccess is requested to data provided by a company, it is best practic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ystematically consult the comp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a view to assess if the restriction related to CBI protection is applicable – as companies know the competitive and economic conditions in which they operate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5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2:33:49Z</dcterms:created>
  <dc:creator>fia</dc:creator>
  <dc:description/>
  <dc:language>en-US</dc:language>
  <cp:lastModifiedBy>TIMMERMANS Liesbeth</cp:lastModifiedBy>
  <cp:lastPrinted>2014-11-19T13:13:15Z</cp:lastPrinted>
  <dcterms:modified xsi:type="dcterms:W3CDTF">2014-12-02T22:04:22Z</dcterms:modified>
  <cp:revision>15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tle">
    <vt:lpwstr/>
  </property>
  <property fmtid="{D5CDD505-2E9C-101B-9397-08002B2CF9AE}" pid="3" name="CHTitle">
    <vt:lpwstr/>
  </property>
  <property fmtid="{D5CDD505-2E9C-101B-9397-08002B2CF9AE}" pid="4" name="ContentType">
    <vt:lpwstr>Document</vt:lpwstr>
  </property>
  <property fmtid="{D5CDD505-2E9C-101B-9397-08002B2CF9AE}" pid="5" name="FRTitle">
    <vt:lpwstr/>
  </property>
  <property fmtid="{D5CDD505-2E9C-101B-9397-08002B2CF9AE}" pid="6" name="Order">
    <vt:lpwstr>2793400.00000000</vt:lpwstr>
  </property>
  <property fmtid="{D5CDD505-2E9C-101B-9397-08002B2CF9AE}" pid="7" name="RUTitle">
    <vt:lpwstr/>
  </property>
  <property fmtid="{D5CDD505-2E9C-101B-9397-08002B2CF9AE}" pid="8" name="SPTitle">
    <vt:lpwstr/>
  </property>
  <property fmtid="{D5CDD505-2E9C-101B-9397-08002B2CF9AE}" pid="9" name="TemplateUrl">
    <vt:lpwstr/>
  </property>
  <property fmtid="{D5CDD505-2E9C-101B-9397-08002B2CF9AE}" pid="10" name="_SharedFileIndex">
    <vt:lpwstr/>
  </property>
  <property fmtid="{D5CDD505-2E9C-101B-9397-08002B2CF9AE}" pid="11" name="_SourceUrl">
    <vt:lpwstr/>
  </property>
  <property fmtid="{D5CDD505-2E9C-101B-9397-08002B2CF9AE}" pid="12" name="display_urn:schemas-microsoft-com:office:office#Author">
    <vt:lpwstr>Valerie MYTNIK</vt:lpwstr>
  </property>
  <property fmtid="{D5CDD505-2E9C-101B-9397-08002B2CF9AE}" pid="13" name="display_urn:schemas-microsoft-com:office:office#Editor">
    <vt:lpwstr>Valerie MYTNIK</vt:lpwstr>
  </property>
  <property fmtid="{D5CDD505-2E9C-101B-9397-08002B2CF9AE}" pid="14" name="xd_ProgID">
    <vt:lpwstr/>
  </property>
</Properties>
</file>