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B5F-DF01-4DF2-9554-0162D8F0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458-A790-4981-889B-92216411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048-FBF2-4076-8558-25DAD9D7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4E4-5473-48EA-A2E4-E6F46786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992D-744F-4808-8F70-53E3E1C6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5B1A-21CE-408B-B069-D1F18073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091F-D47E-4CD7-8D52-8CCA63CB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43D0-9DCD-422C-B05D-595C9C1C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21CA-858F-4E9B-99A1-CEAAC71A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03CC-5F52-4A8B-AA6B-BC5B5B85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E781-F453-4FDD-BF26-3661E47F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BAE-4884-4649-B868-CDAB3A21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5D6C-E7BA-43B6-9D96-8FAB5930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1D81-2499-4E00-83EC-AED58032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A77C-C1AC-4759-A74C-24F67763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FCEF-6D63-4098-83C7-8B7AC717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7D32-02D6-43F0-B28E-D7598CA2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2D870-E9D9-4063-B294-1AD5F962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EB7A0-3D94-4A9D-A4D9-968615D6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A6B22-E3BA-4845-80BB-E1D9F1A4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8CA14-C8C1-4FD1-B939-140345DD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40BD5-5C23-43C2-94AA-5948E2AF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786-3AE6-48B6-B374-A8BF6B89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04CA9-E458-4DB9-9A64-0858D42E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0B312-A8BB-4D31-87E8-B4E0CFC9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A8BE5-BDF6-4546-90D8-08E7FD0E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23E16-AD11-4AF4-B904-7E8944CA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C67AF-1FAD-48C2-ABD2-E399F0CE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869C0-5FDD-4882-9100-57919F85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CEDD0-F0B4-4653-8980-8DBF97A3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7DA-04A6-42AB-B2C4-39DCBDA1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DE7-43A0-4AF8-BB8B-48B88442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C86-F890-4E3B-9B9F-2A24D18F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51C-1F12-41C3-9269-087E8D36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41A-9211-4322-87C3-B8D65F17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EC0-8861-491D-BCB7-FA6D4245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A7A5-F86E-49BC-9ECE-F8C7996A0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4B51-DACD-4F41-A06C-49C16DE1C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7772-E089-4A2B-8916-1979BD4F56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39640" y="119700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79280" y="2276640"/>
            <a:ext cx="896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Peculiarities of the institution of National Rapporteur on trafficking in persons in the Republic of Belarus 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role, functions and legislative regulation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7" descr="Герб-МВД"/>
          <p:cNvPicPr/>
          <p:nvPr/>
        </p:nvPicPr>
        <p:blipFill>
          <a:blip r:embed="rId2"/>
          <a:stretch/>
        </p:blipFill>
        <p:spPr>
          <a:xfrm>
            <a:off x="539640" y="4797360"/>
            <a:ext cx="1658880" cy="1876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\\181.1.87.83\obmen\_Цаюн_\Герб РБ.gif"/>
          <p:cNvPicPr/>
          <p:nvPr/>
        </p:nvPicPr>
        <p:blipFill>
          <a:blip r:embed="rId3"/>
          <a:stretch/>
        </p:blipFill>
        <p:spPr>
          <a:xfrm>
            <a:off x="6804000" y="333360"/>
            <a:ext cx="157968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Victims exploited in Belarus and abroad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5480" y="1714320"/>
            <a:ext cx="8643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Объект 7" descr=""/>
          <p:cNvPicPr/>
          <p:nvPr/>
        </p:nvPicPr>
        <p:blipFill>
          <a:blip r:embed="rId2"/>
          <a:stretch/>
        </p:blipFill>
        <p:spPr>
          <a:xfrm>
            <a:off x="0" y="10717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6"/>
          <p:cNvSpPr/>
          <p:nvPr/>
        </p:nvSpPr>
        <p:spPr>
          <a:xfrm>
            <a:off x="0" y="142920"/>
            <a:ext cx="9144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3664 criminal cases in the field of   TH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elated crimes have been revealed since 2000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Объект 2" descr=""/>
          <p:cNvPicPr/>
          <p:nvPr/>
        </p:nvPicPr>
        <p:blipFill>
          <a:blip r:embed="rId2"/>
          <a:stretch/>
        </p:blipFill>
        <p:spPr>
          <a:xfrm>
            <a:off x="0" y="1857240"/>
            <a:ext cx="91440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43040" y="0"/>
            <a:ext cx="75009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laces of exploitation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larusian citizens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9" descr="Европа"/>
          <p:cNvPicPr/>
          <p:nvPr/>
        </p:nvPicPr>
        <p:blipFill>
          <a:blip r:embed="rId1"/>
          <a:stretch/>
        </p:blipFill>
        <p:spPr>
          <a:xfrm>
            <a:off x="1592280" y="1357200"/>
            <a:ext cx="7551720" cy="5500800"/>
          </a:xfrm>
          <a:prstGeom prst="rect">
            <a:avLst/>
          </a:prstGeom>
          <a:ln w="0">
            <a:noFill/>
          </a:ln>
        </p:spPr>
      </p:pic>
      <p:sp>
        <p:nvSpPr>
          <p:cNvPr id="201" name="Line 22"/>
          <p:cNvSpPr/>
          <p:nvPr/>
        </p:nvSpPr>
        <p:spPr>
          <a:xfrm flipH="1">
            <a:off x="5857560" y="2714760"/>
            <a:ext cx="1871640" cy="150012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3"/>
          <p:cNvSpPr/>
          <p:nvPr/>
        </p:nvSpPr>
        <p:spPr>
          <a:xfrm flipH="1">
            <a:off x="3708000" y="2708280"/>
            <a:ext cx="4032360" cy="14436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5000400" y="2708280"/>
            <a:ext cx="2739960" cy="64944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7308720" y="2708280"/>
            <a:ext cx="432000" cy="331308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916000" y="2708280"/>
            <a:ext cx="4824360" cy="295272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7"/>
          <p:cNvSpPr/>
          <p:nvPr/>
        </p:nvSpPr>
        <p:spPr>
          <a:xfrm flipH="1">
            <a:off x="6286320" y="2708280"/>
            <a:ext cx="1454040" cy="350676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8"/>
          <p:cNvSpPr/>
          <p:nvPr/>
        </p:nvSpPr>
        <p:spPr>
          <a:xfrm flipH="1" flipV="1">
            <a:off x="7071840" y="2143080"/>
            <a:ext cx="668520" cy="56520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 flipH="1">
            <a:off x="4428720" y="2708280"/>
            <a:ext cx="3311640" cy="29196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0"/>
          <p:cNvSpPr/>
          <p:nvPr/>
        </p:nvSpPr>
        <p:spPr>
          <a:xfrm flipH="1" flipV="1">
            <a:off x="6428880" y="2571480"/>
            <a:ext cx="1311480" cy="13644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1"/>
          <p:cNvSpPr/>
          <p:nvPr/>
        </p:nvSpPr>
        <p:spPr>
          <a:xfrm flipH="1">
            <a:off x="1714320" y="2708280"/>
            <a:ext cx="6026040" cy="314964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7740720" y="2708280"/>
            <a:ext cx="1152360" cy="295272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3"/>
          <p:cNvSpPr/>
          <p:nvPr/>
        </p:nvSpPr>
        <p:spPr>
          <a:xfrm flipH="1">
            <a:off x="5857920" y="2708280"/>
            <a:ext cx="1882800" cy="79200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4"/>
          <p:cNvSpPr/>
          <p:nvPr/>
        </p:nvSpPr>
        <p:spPr>
          <a:xfrm flipH="1">
            <a:off x="4000320" y="2708280"/>
            <a:ext cx="3740040" cy="1220760"/>
          </a:xfrm>
          <a:prstGeom prst="line">
            <a:avLst/>
          </a:prstGeom>
          <a:ln w="9360">
            <a:solidFill>
              <a:srgbClr val="010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5"/>
          <p:cNvSpPr/>
          <p:nvPr/>
        </p:nvSpPr>
        <p:spPr>
          <a:xfrm>
            <a:off x="0" y="0"/>
            <a:ext cx="1547640" cy="5978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stri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eat Britain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rmany</a:t>
            </a:r>
            <a:r>
              <a:rPr b="1" lang="ru-RU" sz="2000" spc="-1" strike="noStrike">
                <a:solidFill>
                  <a:srgbClr val="01019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eec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ain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p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thuania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Netherlands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land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tugal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urkey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zech Republic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ance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6"/>
          <p:cNvSpPr/>
          <p:nvPr/>
        </p:nvSpPr>
        <p:spPr>
          <a:xfrm>
            <a:off x="0" y="214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ahoma"/>
              </a:rPr>
              <a:t>ГОСУДАРСТВЕННЫ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7"/>
          <p:cNvSpPr/>
          <p:nvPr/>
        </p:nvSpPr>
        <p:spPr>
          <a:xfrm>
            <a:off x="0" y="107172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10191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tate program of comprehensive measures on counteraction of trafficking  in human beings and dissemination of the prostitution for 2002-2207</a:t>
            </a:r>
            <a:r>
              <a:rPr b="1" i="1" lang="en-US" sz="2700" spc="-1" strike="noStrike">
                <a:solidFill>
                  <a:srgbClr val="010191"/>
                </a:solidFill>
                <a:latin typeface="Arial"/>
              </a:rPr>
              <a:t> </a:t>
            </a: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approved by the Council of Ministers decision)</a:t>
            </a: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10191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10191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tate program on counteraction of human trafficking, illegal migration and related crimes for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2008–2010</a:t>
            </a:r>
            <a:r>
              <a:rPr b="1" i="1" lang="en-US" sz="2700" spc="-1" strike="noStrike">
                <a:solidFill>
                  <a:srgbClr val="010191"/>
                </a:solidFill>
                <a:latin typeface="Arial"/>
              </a:rPr>
              <a:t> </a:t>
            </a: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approved by President’s Decree)</a:t>
            </a: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10191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0000"/>
              </a:lnSpc>
              <a:spcBef>
                <a:spcPts val="675"/>
              </a:spcBef>
              <a:buClr>
                <a:srgbClr val="010191"/>
              </a:buClr>
              <a:buSzPct val="12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tate program on counteraction of human trafficking, illegal migration and related crimes for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11-201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approved by President’s Decree)</a:t>
            </a: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Law of the Republic of Belarus on Counteraction of Trafficking in Human Be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tered into force on July 25,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 this Law the legal norm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viously contained in different legal acts related to combating human traffick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ere  systemat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ea"/>
                </a:solidFill>
                <a:latin typeface="Times New Roman"/>
              </a:rPr>
              <a:t>STATE REGULATION IN THE SPHERE OF COUNTERACTION OF HUMAN TRAFFICKING IS CARRIED OUT BY</a:t>
            </a:r>
            <a:r>
              <a:rPr b="1" lang="ru-RU" sz="3200" spc="-1" strike="noStrike">
                <a:solidFill>
                  <a:srgbClr val="dddd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resident of the Republic of Belarus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ouncil of Ministers of the Republic of Belarus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Government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other governmental auth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6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ea"/>
                </a:solidFill>
                <a:latin typeface="Times New Roman"/>
              </a:rPr>
              <a:t>PRESIDENT’S AUTHORITIES IN THE SPHERE OF COMBATING HUMAN TRAFFI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 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efinition of unified sate policy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 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eneral administration of state bodies activity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 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pproval of state programs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- 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arrying out other authorities according to the Constitution and other legislative acts of the Republic of Belarus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6"/>
          <p:cNvSpPr/>
          <p:nvPr/>
        </p:nvSpPr>
        <p:spPr>
          <a:xfrm>
            <a:off x="0" y="0"/>
            <a:ext cx="9144000" cy="57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ea"/>
                </a:solidFill>
                <a:latin typeface="Times New Roman"/>
              </a:rPr>
              <a:t>GOVERNMENT’S AUTHORITIES IN THE SPHERE OF COMBATING HUMAN TRAFFI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Conducting of unified state policy in the sphere of combating human trafficking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Elaboration of state programs in this sphere</a:t>
            </a:r>
            <a:r>
              <a:rPr b="1" lang="ru-RU" sz="3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611280" y="76500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6"/>
          <p:cNvSpPr/>
          <p:nvPr/>
        </p:nvSpPr>
        <p:spPr>
          <a:xfrm>
            <a:off x="0" y="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 BODIES, EXCISING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ERTRAFFI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ODIES OF INTERNAL AFFAIRS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TATE SECURITY BODIES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ORDER CONTROL SERVICE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SECUTION BODIES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NVESTIGATION 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e bodies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ponsible for rehabilit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the victims of traffic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10191"/>
                </a:solidFill>
                <a:uFillTx/>
                <a:latin typeface="Times New Roman"/>
              </a:rPr>
              <a:t>1) </a:t>
            </a:r>
            <a:r>
              <a:rPr b="1" lang="en-US" sz="2400" spc="-1" strike="noStrike" u="sng">
                <a:solidFill>
                  <a:srgbClr val="010191"/>
                </a:solidFill>
                <a:uFillTx/>
                <a:latin typeface="Times New Roman"/>
              </a:rPr>
              <a:t>MINISTRY OF LABOR AND SOCIAL PROTED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or the persons above 1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Ministerial structure includes 151 local centres of social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and 50 crisis ro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10191"/>
                </a:solidFill>
                <a:uFillTx/>
                <a:latin typeface="Times New Roman"/>
              </a:rPr>
              <a:t>2) </a:t>
            </a:r>
            <a:r>
              <a:rPr b="1" lang="en-US" sz="2400" spc="-1" strike="noStrike" u="sng">
                <a:solidFill>
                  <a:srgbClr val="010191"/>
                </a:solidFill>
                <a:uFillTx/>
                <a:latin typeface="Times New Roman"/>
              </a:rPr>
              <a:t>MINISTRY OF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or children between the age of 3 and 18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Ministerial structure includes 140 social and pedagogical cent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10191"/>
                </a:solidFill>
                <a:uFillTx/>
                <a:latin typeface="Times New Roman"/>
              </a:rPr>
              <a:t>3) </a:t>
            </a:r>
            <a:r>
              <a:rPr b="1" lang="en-US" sz="2400" spc="-1" strike="noStrike" u="sng">
                <a:solidFill>
                  <a:srgbClr val="010191"/>
                </a:solidFill>
                <a:uFillTx/>
                <a:latin typeface="Times New Roman"/>
              </a:rPr>
              <a:t>MINISTRY OF HEALTH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or children under 3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Ministerial structure includes 10 orphan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0" y="18900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мом"/>
          <p:cNvPicPr/>
          <p:nvPr/>
        </p:nvPicPr>
        <p:blipFill>
          <a:blip r:embed="rId2"/>
          <a:stretch/>
        </p:blipFill>
        <p:spPr>
          <a:xfrm>
            <a:off x="1763640" y="2708280"/>
            <a:ext cx="714600" cy="81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Рисунок1"/>
          <p:cNvPicPr/>
          <p:nvPr/>
        </p:nvPicPr>
        <p:blipFill>
          <a:blip r:embed="rId3"/>
          <a:stretch/>
        </p:blipFill>
        <p:spPr>
          <a:xfrm>
            <a:off x="1619280" y="1844640"/>
            <a:ext cx="965160" cy="814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ec"/>
          <p:cNvPicPr/>
          <p:nvPr/>
        </p:nvPicPr>
        <p:blipFill>
          <a:blip r:embed="rId4"/>
          <a:stretch/>
        </p:blipFill>
        <p:spPr>
          <a:xfrm>
            <a:off x="1763640" y="5661000"/>
            <a:ext cx="857160" cy="636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UNICEF"/>
          <p:cNvPicPr/>
          <p:nvPr/>
        </p:nvPicPr>
        <p:blipFill>
          <a:blip r:embed="rId5"/>
          <a:stretch/>
        </p:blipFill>
        <p:spPr>
          <a:xfrm>
            <a:off x="1763640" y="4581360"/>
            <a:ext cx="890640" cy="760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2627280" y="1989000"/>
            <a:ext cx="5945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39640" y="260280"/>
            <a:ext cx="8209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NTERNATIONAL ORGANIZATIONS, DEALING WITH THE PROBLEM OF TRAFFICKING IN PERSONS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627280" y="1916280"/>
            <a:ext cx="651672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United Nations Organization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UN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-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International Organization for Migration (IOM)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- О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rganization for Security and </a:t>
            </a:r>
            <a:br>
              <a:rPr sz="2300"/>
            </a:b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Co-operation in Europe 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OSCE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-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Office of the United Nations Commissioner for Human Rights (OHCHR)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-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UN Special Agencies (UNODC, UNICEF, UNHCR, UNFPA, UNDP) 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–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according to their mandate and in relation to the special categories of victims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European Commission (EC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d0d0d"/>
                </a:solidFill>
                <a:latin typeface="Arial"/>
              </a:rPr>
              <a:t>Council of Europe (CE) and etc</a:t>
            </a:r>
            <a:r>
              <a:rPr b="1" lang="ru-RU" sz="23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МОМ IOM"/>
          <p:cNvPicPr/>
          <p:nvPr/>
        </p:nvPicPr>
        <p:blipFill>
          <a:blip r:embed="rId2"/>
          <a:stretch/>
        </p:blipFill>
        <p:spPr>
          <a:xfrm>
            <a:off x="3000240" y="2571840"/>
            <a:ext cx="2481480" cy="1857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БОКК LOGO_BOKK"/>
          <p:cNvPicPr/>
          <p:nvPr/>
        </p:nvPicPr>
        <p:blipFill>
          <a:blip r:embed="rId3"/>
          <a:stretch/>
        </p:blipFill>
        <p:spPr>
          <a:xfrm>
            <a:off x="1214280" y="785880"/>
            <a:ext cx="1781280" cy="1781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Ла Страда a_2f96db23"/>
          <p:cNvPicPr/>
          <p:nvPr/>
        </p:nvPicPr>
        <p:blipFill>
          <a:blip r:embed="rId4"/>
          <a:stretch/>
        </p:blipFill>
        <p:spPr>
          <a:xfrm>
            <a:off x="5500800" y="4429080"/>
            <a:ext cx="1904760" cy="16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Реклама"/>
          <p:cNvPicPr/>
          <p:nvPr/>
        </p:nvPicPr>
        <p:blipFill>
          <a:blip r:embed="rId2"/>
          <a:stretch/>
        </p:blipFill>
        <p:spPr>
          <a:xfrm>
            <a:off x="0" y="0"/>
            <a:ext cx="7215120" cy="686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235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156 VoTs – which is 6.9% of all identified in 2007–2012 – obtained rehabilitation from the state organization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t were referred to NGOs and IOM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5480" y="78552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0" y="1963800"/>
          <a:ext cx="9144000" cy="489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63800"/>
                    <a:ext cx="91440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Прямоугольник 5"/>
          <p:cNvSpPr/>
          <p:nvPr/>
        </p:nvSpPr>
        <p:spPr>
          <a:xfrm>
            <a:off x="2500200" y="328608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10191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10191"/>
                </a:solidFill>
                <a:latin typeface="Times New Roman"/>
                <a:ea typeface="Times New Roman"/>
              </a:rPr>
              <a:t>6</a:t>
            </a:r>
            <a:r>
              <a:rPr b="1" lang="ru-RU" sz="2200" spc="-1" strike="noStrike">
                <a:solidFill>
                  <a:srgbClr val="010191"/>
                </a:solidFill>
                <a:latin typeface="Times New Roman"/>
                <a:ea typeface="Times New Roman"/>
              </a:rPr>
              <a:t>,9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123455_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0" y="-142920"/>
            <a:ext cx="914400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According to the Law of the Republic of Belarus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Counter-trafficking in Pers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NGO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have the righ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pen centers on protection and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o the victims of human traffi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dentify victims of human trafficking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rganize and hold information campaig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alize counter-traffic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rnational technical assistance pro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4" descr="123455_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0" y="-142920"/>
            <a:ext cx="9144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ccording to the Law of the Republic of Belarus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Counter-trafficking in Pers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National Rapporteur on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ounter-trafficking </a:t>
            </a:r>
            <a:r>
              <a:rPr b="1" i="1" lang="en-US" sz="3500" spc="-1" strike="noStrike" u="sng">
                <a:solidFill>
                  <a:srgbClr val="ff0000"/>
                </a:solidFill>
                <a:uFillTx/>
                <a:latin typeface="Times New Roman"/>
              </a:rPr>
              <a:t>is defin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HE MINIS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OF INTERNAL AFFA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7" descr="Герб-МВД"/>
          <p:cNvPicPr/>
          <p:nvPr/>
        </p:nvPicPr>
        <p:blipFill>
          <a:blip r:embed="rId2"/>
          <a:stretch/>
        </p:blipFill>
        <p:spPr>
          <a:xfrm>
            <a:off x="395280" y="4221000"/>
            <a:ext cx="1978200" cy="22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9" name="Picture 4" descr="123455_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39640" y="119700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6"/>
          <p:cNvSpPr/>
          <p:nvPr/>
        </p:nvSpPr>
        <p:spPr>
          <a:xfrm>
            <a:off x="0" y="-142920"/>
            <a:ext cx="9144000" cy="70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The main functions of the National Rapporteur on countertrafficking a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 studying and generalizing the practice of application of Belarusian legislation on counter-trafficking in Belaru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 informing other states as well as international and foreign organizations about counter-trafficking in Belaru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 developing international cooperation for exchanging experienc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 preparing and submitting to the Government an annual report on the issues of counter-trafficking with the evaluation of the effectiveness of the taken measures and making suggestions to improve Belarusian legislation on counter-trafficking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Законодательство"/>
          <p:cNvPicPr/>
          <p:nvPr/>
        </p:nvPicPr>
        <p:blipFill>
          <a:blip r:embed="rId2"/>
          <a:stretch/>
        </p:blipFill>
        <p:spPr>
          <a:xfrm>
            <a:off x="971640" y="142920"/>
            <a:ext cx="8172360" cy="671508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3"/>
          <p:cNvSpPr/>
          <p:nvPr/>
        </p:nvSpPr>
        <p:spPr>
          <a:xfrm>
            <a:off x="0" y="2967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www.mvd.gov.b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0" y="14292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0" y="1000080"/>
          <a:ext cx="9144000" cy="2214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2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Прямоугольник 10"/>
          <p:cNvSpPr/>
          <p:nvPr/>
        </p:nvSpPr>
        <p:spPr>
          <a:xfrm>
            <a:off x="0" y="981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Times New Roman"/>
              </a:rPr>
              <a:t>C O O R D I N A T I O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Times New Roman"/>
              </a:rPr>
              <a:t>in</a:t>
            </a:r>
            <a:r>
              <a:rPr b="1" lang="ru-RU" sz="2800" spc="-1" strike="noStrike">
                <a:solidFill>
                  <a:srgbClr val="161645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61645"/>
                </a:solidFill>
                <a:latin typeface="Times New Roman"/>
              </a:rPr>
              <a:t>the sphere of combating TH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2781360"/>
          <a:ext cx="9144000" cy="26431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The first direc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coordination of th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law enforceme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effort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The second direc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161645"/>
                          </a:solidFill>
                          <a:latin typeface="Times New Roman"/>
                          <a:ea typeface="Times New Roman"/>
                        </a:rPr>
                        <a:t>coordination in the sphere of protection and rehabilitation of victims of traffickin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6"/>
          <p:cNvSpPr/>
          <p:nvPr/>
        </p:nvSpPr>
        <p:spPr>
          <a:xfrm>
            <a:off x="0" y="0"/>
            <a:ext cx="9144000" cy="69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rdination of law-enforcement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1)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Republica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ordinative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countering crime and corrup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d under the General Prosecutor’s Off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ordinates the activity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inistry of Internal Affairs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ate Security Committee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ate Border Committee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General Prosecutor’s Office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vestiga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2)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Reg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v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countering crime and corruptio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the Minsk Prosecutor’s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under six regional prosecutor’s office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ordinates the activity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cal bodies of internal affairs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ate security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border control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osecution and inves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0" y="0"/>
            <a:ext cx="9144000" cy="89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Coordination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of the activities on protection and rehabilitation of the victims of human traffi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inistry of Internal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es the activity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Ministry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of Education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Ministry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of Health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Ministry of Foreign Affairs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Ministry of Labor and Social Protec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Non-governmental organizations (NG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0" y="64882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7" descr="Герб-МВД"/>
          <p:cNvPicPr/>
          <p:nvPr/>
        </p:nvPicPr>
        <p:blipFill>
          <a:blip r:embed="rId2"/>
          <a:stretch/>
        </p:blipFill>
        <p:spPr>
          <a:xfrm>
            <a:off x="6877080" y="1197000"/>
            <a:ext cx="1977840" cy="2236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7" descr="Герб-МВД"/>
          <p:cNvPicPr/>
          <p:nvPr/>
        </p:nvPicPr>
        <p:blipFill>
          <a:blip r:embed="rId3"/>
          <a:stretch/>
        </p:blipFill>
        <p:spPr>
          <a:xfrm>
            <a:off x="6877080" y="1197000"/>
            <a:ext cx="197784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0" y="1125360"/>
            <a:ext cx="91440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ganization for Security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 Co-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Europe (OSCE)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d0d0d"/>
                </a:solidFill>
                <a:latin typeface="Times New Roman"/>
              </a:rPr>
              <a:t>Special Representative / OSCE Coordinator on Trafficking </a:t>
            </a:r>
            <a:br>
              <a:rPr sz="2700"/>
            </a:br>
            <a:r>
              <a:rPr b="1" lang="en-US" sz="2700" spc="-1" strike="noStrike">
                <a:solidFill>
                  <a:srgbClr val="0d0d0d"/>
                </a:solidFill>
                <a:latin typeface="Times New Roman"/>
              </a:rPr>
              <a:t>in Human Beings</a:t>
            </a:r>
            <a:r>
              <a:rPr b="1" lang="ru-RU" sz="2700" spc="-1" strike="noStrike">
                <a:solidFill>
                  <a:srgbClr val="0d0d0d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ited Nations Council for Human Rights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pecial Rapporteur on trafficking in persons, especially in women and children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123455_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5"/>
          <p:cNvSpPr/>
          <p:nvPr/>
        </p:nvSpPr>
        <p:spPr>
          <a:xfrm>
            <a:off x="785880" y="14292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6"/>
          <p:cNvSpPr/>
          <p:nvPr/>
        </p:nvSpPr>
        <p:spPr>
          <a:xfrm>
            <a:off x="0" y="-14292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day in Belarus there is no legal act, establishing unified mechanism of identification and sending victims of human trafficking for rehabil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initiative proposal on elabo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such normative legal act until the end of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introdu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the draft of a new Stat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\\181.1.87.83\obmen\_Цаюн_\Герб РБ.gif"/>
          <p:cNvPicPr/>
          <p:nvPr/>
        </p:nvPicPr>
        <p:blipFill>
          <a:blip r:embed="rId2"/>
          <a:stretch/>
        </p:blipFill>
        <p:spPr>
          <a:xfrm>
            <a:off x="6877080" y="260280"/>
            <a:ext cx="172224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08280"/>
            <a:ext cx="8229600" cy="1657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800" spc="-1" strike="noStrike">
                <a:solidFill>
                  <a:srgbClr val="ffc000"/>
                </a:solidFill>
                <a:latin typeface="Tahoma"/>
              </a:rPr>
              <a:t>THANK YOU </a:t>
            </a:r>
            <a:br>
              <a:rPr sz="3800"/>
            </a:br>
            <a:r>
              <a:rPr b="0" lang="en-US" sz="3800" spc="-1" strike="noStrike">
                <a:solidFill>
                  <a:srgbClr val="ffc000"/>
                </a:solidFill>
                <a:latin typeface="Tahoma"/>
              </a:rPr>
              <a:t>FOR YOUR KIND ATTENTIO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8" name="Picture 5" descr="\\181.1.87.83\obmen\_Цаюн_\Герб РБ.gif"/>
          <p:cNvPicPr/>
          <p:nvPr/>
        </p:nvPicPr>
        <p:blipFill>
          <a:blip r:embed="rId2"/>
          <a:stretch/>
        </p:blipFill>
        <p:spPr>
          <a:xfrm>
            <a:off x="6732720" y="404640"/>
            <a:ext cx="1866600" cy="1857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Герб-МВД"/>
          <p:cNvPicPr/>
          <p:nvPr/>
        </p:nvPicPr>
        <p:blipFill>
          <a:blip r:embed="rId3"/>
          <a:stretch/>
        </p:blipFill>
        <p:spPr>
          <a:xfrm>
            <a:off x="539640" y="4437000"/>
            <a:ext cx="197820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0" y="260280"/>
            <a:ext cx="914400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THE NECESSITY OF INCREASING OF THE EFFECTIVENESS OF NATIONAL MONITORING AND EVALUATING MECHANISM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IN THE SPHERE OF HUMAN TRAFFIC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WAS CONDITIONED BY THE NUMBER OF FACTOR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t and organized nature of human traffick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 constantly increase of trafficking sc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 lack of full and objective information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 low efficiency of national and international measures to countertrafficking in human beings and elimination of fundamental reasons of this phenomen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0" y="260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THE NECESSITY OF INCREASING OF THE EFFECTIVENESS OF NATIONAL MONITORING AND EVALUATING MECHANISM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IN THE SPHERE OF HUMAN TRAFFIC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WAS CONDITIONED BY THE NUMBER OF FACTOR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bare state financing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ecessity of adjustments of the national priorities in the forming of internal and external policy in the sphere of counteraction in human beings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2195640" y="476280"/>
            <a:ext cx="6480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RST MODEL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functions of national rapporteur on trafficking in persons are assigned to specially established independent body, which regularly must report to the Government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2195640" y="1700280"/>
            <a:ext cx="64800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ECOND MODEL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ata gathering is carried out on the inter-agency leve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39640" y="1214280"/>
            <a:ext cx="82296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6"/>
          <p:cNvSpPr/>
          <p:nvPr/>
        </p:nvSpPr>
        <p:spPr>
          <a:xfrm>
            <a:off x="2195640" y="1700280"/>
            <a:ext cx="648000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RD MODEL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functions of national rapporteur are assigne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o one of the existing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ate bodi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755640" y="0"/>
            <a:ext cx="7715160" cy="85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123455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85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victims of trafficking identified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2002–2012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5480" y="1714320"/>
            <a:ext cx="8643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2"/>
          <p:cNvGraphicFramePr/>
          <p:nvPr/>
        </p:nvGraphicFramePr>
        <p:xfrm>
          <a:off x="34920" y="1197000"/>
          <a:ext cx="9109080" cy="50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1197000"/>
                    <a:ext cx="910908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8:21:14Z</dcterms:created>
  <dc:creator>alex</dc:creator>
  <dc:description/>
  <dc:language>en-US</dc:language>
  <cp:lastModifiedBy>Purevdorj Vaanchig</cp:lastModifiedBy>
  <dcterms:modified xsi:type="dcterms:W3CDTF">2013-06-04T13:04:23Z</dcterms:modified>
  <cp:revision>149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1692800.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Miriam ZAPATA</vt:lpwstr>
  </property>
  <property fmtid="{D5CDD505-2E9C-101B-9397-08002B2CF9AE}" pid="7" name="display_urn:schemas-microsoft-com:office:office#Editor">
    <vt:lpwstr>Miriam ZAPATA</vt:lpwstr>
  </property>
  <property fmtid="{D5CDD505-2E9C-101B-9397-08002B2CF9AE}" pid="8" name="xd_ProgID">
    <vt:lpwstr/>
  </property>
</Properties>
</file>