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A26-7C0C-41DC-A046-E9C40A81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1CD-DEE1-4E62-9695-337C338D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F61-BEEB-40FE-82A7-76C1FC8E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D3B-7FEF-4551-8651-CAB17BB1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AD46-2BE0-4392-9E06-4CBBBEC9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3891-237A-4142-A724-47978998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05FC-A5B1-4B78-BBCE-7E28CF5B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AAEC-9935-408B-9C1F-ABDE8410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D0E5-D225-4B7B-B17B-EB44599C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8949-371A-48A5-8C59-82646B33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2996-A9F1-4913-A844-38DC76DC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3B2-BDC6-44EE-BF11-AB2CC5C6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1532-F299-40F7-B591-018F6543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52C1-F580-436D-9E6A-F3DD67D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4DE8-043E-4772-837A-6DA84D88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869C-AB8C-469F-AABD-EB43AD68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D16E-B136-40BA-BB6D-BA909406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9E5A4-EC79-4FDC-A7F1-48FA9A52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A6848-4D34-4A32-B66D-FA75BAEA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14A50-226E-49D5-8F81-FC12E721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16C21-4FD8-451A-8044-9F01C0DD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0961C-27A2-4C98-922C-57010751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B05-D40C-4A9B-A0D3-1627E78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4B4B5-F8F6-4901-B841-7F523B0B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657A1-36A6-435C-934F-EA6268C0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F4F88-50A0-41EF-BEEB-451AFFF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BFBDF-4498-416D-AD0A-57B41B9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D77E1-5A7D-44CD-91B7-1D88077E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6A563-5B1E-4BB9-935C-BB103E63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80744-52B2-4C1C-9A4C-1E954D1A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D08-A0CC-43E3-8278-B77E6CC8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72F-777B-445C-9812-F201B4EF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81B-DEBA-4ED3-9010-8AF01870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335-E154-4A27-AF4E-376CC1FA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B89-4F9E-4BED-83E7-D7B4485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BE7-1338-441C-8686-5DE0ECA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39E2-4EC0-47C0-8C78-A6AAA5551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306B-9C8C-4E2A-9F1B-5CDEC6075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97C0-9735-4646-BD79-48DBE19D20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39640" y="119700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79280" y="227664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Peculiarities of the institution of National Rapporteur on trafficking in persons in the Republic of Belarus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role, functions and legislative regulation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7" descr="Герб-МВД"/>
          <p:cNvPicPr/>
          <p:nvPr/>
        </p:nvPicPr>
        <p:blipFill>
          <a:blip r:embed="rId2"/>
          <a:stretch/>
        </p:blipFill>
        <p:spPr>
          <a:xfrm>
            <a:off x="539640" y="4797360"/>
            <a:ext cx="1658880" cy="1876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\\181.1.87.83\obmen\_Цаюн_\Герб РБ.gif"/>
          <p:cNvPicPr/>
          <p:nvPr/>
        </p:nvPicPr>
        <p:blipFill>
          <a:blip r:embed="rId3"/>
          <a:stretch/>
        </p:blipFill>
        <p:spPr>
          <a:xfrm>
            <a:off x="6804000" y="333360"/>
            <a:ext cx="157968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Victims exploited in Belarus and abroad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5480" y="171432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Объект 7" descr=""/>
          <p:cNvPicPr/>
          <p:nvPr/>
        </p:nvPicPr>
        <p:blipFill>
          <a:blip r:embed="rId2"/>
          <a:stretch/>
        </p:blipFill>
        <p:spPr>
          <a:xfrm>
            <a:off x="0" y="10717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0" y="142920"/>
            <a:ext cx="9144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3664 criminal cases in the field of   T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elated crimes have been revealed since 2000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43040" y="0"/>
            <a:ext cx="75009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ces of exploitation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larusian citizens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9" descr="Европа"/>
          <p:cNvPicPr/>
          <p:nvPr/>
        </p:nvPicPr>
        <p:blipFill>
          <a:blip r:embed="rId1"/>
          <a:stretch/>
        </p:blipFill>
        <p:spPr>
          <a:xfrm>
            <a:off x="1592280" y="1357200"/>
            <a:ext cx="7551720" cy="5500800"/>
          </a:xfrm>
          <a:prstGeom prst="rect">
            <a:avLst/>
          </a:prstGeom>
          <a:ln w="0">
            <a:noFill/>
          </a:ln>
        </p:spPr>
      </p:pic>
      <p:sp>
        <p:nvSpPr>
          <p:cNvPr id="201" name="Line 22"/>
          <p:cNvSpPr/>
          <p:nvPr/>
        </p:nvSpPr>
        <p:spPr>
          <a:xfrm flipH="1">
            <a:off x="5857560" y="2714760"/>
            <a:ext cx="1871640" cy="150012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 flipH="1">
            <a:off x="3708000" y="2708280"/>
            <a:ext cx="4032360" cy="14436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5000400" y="2708280"/>
            <a:ext cx="2739960" cy="64944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7308720" y="2708280"/>
            <a:ext cx="432000" cy="331308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916000" y="2708280"/>
            <a:ext cx="4824360" cy="295272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7"/>
          <p:cNvSpPr/>
          <p:nvPr/>
        </p:nvSpPr>
        <p:spPr>
          <a:xfrm flipH="1">
            <a:off x="6286320" y="2708280"/>
            <a:ext cx="1454040" cy="350676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8"/>
          <p:cNvSpPr/>
          <p:nvPr/>
        </p:nvSpPr>
        <p:spPr>
          <a:xfrm flipH="1" flipV="1">
            <a:off x="7071840" y="2143080"/>
            <a:ext cx="668520" cy="56520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 flipH="1">
            <a:off x="4428720" y="2708280"/>
            <a:ext cx="3311640" cy="29196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0"/>
          <p:cNvSpPr/>
          <p:nvPr/>
        </p:nvSpPr>
        <p:spPr>
          <a:xfrm flipH="1" flipV="1">
            <a:off x="6428880" y="2571480"/>
            <a:ext cx="1311480" cy="13644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1"/>
          <p:cNvSpPr/>
          <p:nvPr/>
        </p:nvSpPr>
        <p:spPr>
          <a:xfrm flipH="1">
            <a:off x="1714320" y="2708280"/>
            <a:ext cx="6026040" cy="314964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7740720" y="2708280"/>
            <a:ext cx="1152360" cy="295272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3"/>
          <p:cNvSpPr/>
          <p:nvPr/>
        </p:nvSpPr>
        <p:spPr>
          <a:xfrm flipH="1">
            <a:off x="5857920" y="2708280"/>
            <a:ext cx="1882800" cy="79200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4"/>
          <p:cNvSpPr/>
          <p:nvPr/>
        </p:nvSpPr>
        <p:spPr>
          <a:xfrm flipH="1">
            <a:off x="4000320" y="2708280"/>
            <a:ext cx="3740040" cy="122076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0" y="0"/>
            <a:ext cx="1547640" cy="5978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stri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at Britain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rmany</a:t>
            </a:r>
            <a:r>
              <a:rPr b="1" lang="ru-RU" sz="2000" spc="-1" strike="noStrike">
                <a:solidFill>
                  <a:srgbClr val="01019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ec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ain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p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thuani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Netherlands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land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tugal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urke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zech Republi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anc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0" y="214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ahoma"/>
              </a:rPr>
              <a:t>ГОСУДАРСТВЕННЫ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0" y="10717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tate program of comprehensive measures on counteraction of trafficking  in human beings and dissemination of the prostitution for 2002-2207</a:t>
            </a:r>
            <a:r>
              <a:rPr b="1" i="1" lang="en-US" sz="2700" spc="-1" strike="noStrike">
                <a:solidFill>
                  <a:srgbClr val="010191"/>
                </a:solidFill>
                <a:latin typeface="Arial"/>
              </a:rPr>
              <a:t> 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approved by the Council of Ministers decision)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tate program on counteraction of human trafficking, illegal migration and related crimes for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2008–2010</a:t>
            </a:r>
            <a:r>
              <a:rPr b="1" i="1" lang="en-US" sz="2700" spc="-1" strike="noStrike">
                <a:solidFill>
                  <a:srgbClr val="010191"/>
                </a:solidFill>
                <a:latin typeface="Arial"/>
              </a:rPr>
              <a:t> 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approved by President’s Decree)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tate program on counteraction of human trafficking, illegal migration and related crimes for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11-201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approved by President’s Decree)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Law of the Republic of Belarus on Counteraction of Trafficking in Human Be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ed into force on July 25,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Law the legal norm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iously contained in different legal acts related to combating human traffick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re  systemat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ea"/>
                </a:solidFill>
                <a:latin typeface="Times New Roman"/>
              </a:rPr>
              <a:t>STATE REGULATION IN THE SPHERE OF COUNTERACTION OF HUMAN TRAFFICKING IS CARRIED OUT BY</a:t>
            </a:r>
            <a:r>
              <a:rPr b="1" lang="ru-RU" sz="3200" spc="-1" strike="noStrike">
                <a:solidFill>
                  <a:srgbClr val="dddd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esident of the Republic of Belarus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ouncil of Ministers of the Republic of Belarus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Government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other governmental auth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ea"/>
                </a:solidFill>
                <a:latin typeface="Times New Roman"/>
              </a:rPr>
              <a:t>PRESIDENT’S AUTHORITIES IN THE SPHERE OF COMBATING HUMAN TRAFF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 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finition of unified sate policy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 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neral administration of state bodies activity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 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pproval of state program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 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rrying out other authorities according to the Constitution and other legislative acts of the Republic of Belaru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0" y="0"/>
            <a:ext cx="914400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ea"/>
                </a:solidFill>
                <a:latin typeface="Times New Roman"/>
              </a:rPr>
              <a:t>GOVERNMENT’S AUTHORITIES IN THE SPHERE OF COMBATING HUMAN TRAFF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onducting of unified state policy in the sphere of combating human trafficking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Elaboration of state programs in this sphere</a:t>
            </a:r>
            <a:r>
              <a:rPr b="1" lang="ru-RU" sz="3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611280" y="76500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6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BODIES, EXCISING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ERTRAFF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ODIES OF INTERNAL AFFAIR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TATE SECURITY BODIE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ORDER CONTROL SERVICE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SECUTION BODIE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VESTIGATION 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 bodies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onsible for rehabilit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e victims of traffi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0191"/>
                </a:solidFill>
                <a:uFillTx/>
                <a:latin typeface="Times New Roman"/>
              </a:rPr>
              <a:t>1) </a:t>
            </a:r>
            <a:r>
              <a:rPr b="1" lang="en-US" sz="2400" spc="-1" strike="noStrike" u="sng">
                <a:solidFill>
                  <a:srgbClr val="010191"/>
                </a:solidFill>
                <a:uFillTx/>
                <a:latin typeface="Times New Roman"/>
              </a:rPr>
              <a:t>MINISTRY OF LABOR AND SOCIAL PROTED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 the persons above 1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Ministerial structure includes 151 local centres of social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and 50 crisis ro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0191"/>
                </a:solidFill>
                <a:uFillTx/>
                <a:latin typeface="Times New Roman"/>
              </a:rPr>
              <a:t>2) </a:t>
            </a:r>
            <a:r>
              <a:rPr b="1" lang="en-US" sz="2400" spc="-1" strike="noStrike" u="sng">
                <a:solidFill>
                  <a:srgbClr val="010191"/>
                </a:solidFill>
                <a:uFillTx/>
                <a:latin typeface="Times New Roman"/>
              </a:rPr>
              <a:t>MINISTRY OF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 children between the age of 3 and 18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Ministerial structure includes 140 social and pedagogical cent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0191"/>
                </a:solidFill>
                <a:uFillTx/>
                <a:latin typeface="Times New Roman"/>
              </a:rPr>
              <a:t>3) </a:t>
            </a:r>
            <a:r>
              <a:rPr b="1" lang="en-US" sz="2400" spc="-1" strike="noStrike" u="sng">
                <a:solidFill>
                  <a:srgbClr val="010191"/>
                </a:solidFill>
                <a:uFillTx/>
                <a:latin typeface="Times New Roman"/>
              </a:rPr>
              <a:t>MINISTRY OF HEALTH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 children under 3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Ministerial structure includes 10 orphan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0" y="18900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мом"/>
          <p:cNvPicPr/>
          <p:nvPr/>
        </p:nvPicPr>
        <p:blipFill>
          <a:blip r:embed="rId2"/>
          <a:stretch/>
        </p:blipFill>
        <p:spPr>
          <a:xfrm>
            <a:off x="1763640" y="2708280"/>
            <a:ext cx="714600" cy="81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Рисунок1"/>
          <p:cNvPicPr/>
          <p:nvPr/>
        </p:nvPicPr>
        <p:blipFill>
          <a:blip r:embed="rId3"/>
          <a:stretch/>
        </p:blipFill>
        <p:spPr>
          <a:xfrm>
            <a:off x="1619280" y="1844640"/>
            <a:ext cx="965160" cy="814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c"/>
          <p:cNvPicPr/>
          <p:nvPr/>
        </p:nvPicPr>
        <p:blipFill>
          <a:blip r:embed="rId4"/>
          <a:stretch/>
        </p:blipFill>
        <p:spPr>
          <a:xfrm>
            <a:off x="1763640" y="5661000"/>
            <a:ext cx="857160" cy="636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UNICEF"/>
          <p:cNvPicPr/>
          <p:nvPr/>
        </p:nvPicPr>
        <p:blipFill>
          <a:blip r:embed="rId5"/>
          <a:stretch/>
        </p:blipFill>
        <p:spPr>
          <a:xfrm>
            <a:off x="1763640" y="4581360"/>
            <a:ext cx="890640" cy="760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2627280" y="1989000"/>
            <a:ext cx="5945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39640" y="260280"/>
            <a:ext cx="8209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TERNATIONAL ORGANIZATIONS, DEALING WITH THE PROBLEM OF TRAFFICKING IN PERSONS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627280" y="1916280"/>
            <a:ext cx="651672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United Nations Organization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International Organization for Migration (IOM)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- О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rganization for Security and </a:t>
            </a:r>
            <a:br>
              <a:rPr sz="2300"/>
            </a:b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Co-operation in Europe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OSCE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Office of the United Nations Commissioner for Human Rights (OHCHR)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UN Special Agencies (UNODC, UNICEF, UNHCR, UNFPA, UNDP)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–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according to their mandate and in relation to the special categories of victims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European Commission (EC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Council of Europe (CE) and etc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МОМ IOM"/>
          <p:cNvPicPr/>
          <p:nvPr/>
        </p:nvPicPr>
        <p:blipFill>
          <a:blip r:embed="rId2"/>
          <a:stretch/>
        </p:blipFill>
        <p:spPr>
          <a:xfrm>
            <a:off x="3000240" y="2571840"/>
            <a:ext cx="2481480" cy="1857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БОКК LOGO_BOKK"/>
          <p:cNvPicPr/>
          <p:nvPr/>
        </p:nvPicPr>
        <p:blipFill>
          <a:blip r:embed="rId3"/>
          <a:stretch/>
        </p:blipFill>
        <p:spPr>
          <a:xfrm>
            <a:off x="1214280" y="785880"/>
            <a:ext cx="1781280" cy="1781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Ла Страда a_2f96db23"/>
          <p:cNvPicPr/>
          <p:nvPr/>
        </p:nvPicPr>
        <p:blipFill>
          <a:blip r:embed="rId4"/>
          <a:stretch/>
        </p:blipFill>
        <p:spPr>
          <a:xfrm>
            <a:off x="5500800" y="4429080"/>
            <a:ext cx="190476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Реклама"/>
          <p:cNvPicPr/>
          <p:nvPr/>
        </p:nvPicPr>
        <p:blipFill>
          <a:blip r:embed="rId2"/>
          <a:stretch/>
        </p:blipFill>
        <p:spPr>
          <a:xfrm>
            <a:off x="0" y="0"/>
            <a:ext cx="721512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235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156 VoTs – which is 6.9% of all identified in 2007–2012 – obtained rehabilitation from the state organiza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t were referred to NGOs and IOM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0" y="1963800"/>
          <a:ext cx="9144000" cy="489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3800"/>
                    <a:ext cx="91440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Прямоугольник 5"/>
          <p:cNvSpPr/>
          <p:nvPr/>
        </p:nvSpPr>
        <p:spPr>
          <a:xfrm>
            <a:off x="2500200" y="328608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0191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10191"/>
                </a:solidFill>
                <a:latin typeface="Times New Roman"/>
                <a:ea typeface="Times New Roman"/>
              </a:rPr>
              <a:t>6</a:t>
            </a:r>
            <a:r>
              <a:rPr b="1" lang="ru-RU" sz="2200" spc="-1" strike="noStrike">
                <a:solidFill>
                  <a:srgbClr val="010191"/>
                </a:solidFill>
                <a:latin typeface="Times New Roman"/>
                <a:ea typeface="Times New Roman"/>
              </a:rPr>
              <a:t>,9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123455_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0" y="-142920"/>
            <a:ext cx="914400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According to the Law of the Republic of Belarus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Counter-trafficking in Pers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NGO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have the righ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en centers on protection and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the victims of human traffi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dentify victims of human trafficking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rganize and hold information campaig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alize counter-traffic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national technical assistance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4" descr="123455_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0" y="-14292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ccording to the Law of the Republic of Belarus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Counter-trafficking in Pers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National Rapporteur o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unter-trafficking </a:t>
            </a:r>
            <a:r>
              <a:rPr b="1" i="1" lang="en-US" sz="3500" spc="-1" strike="noStrike" u="sng">
                <a:solidFill>
                  <a:srgbClr val="ff0000"/>
                </a:solidFill>
                <a:uFillTx/>
                <a:latin typeface="Times New Roman"/>
              </a:rPr>
              <a:t>is defin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INIS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F INTERNAL AFF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7" descr="Герб-МВД"/>
          <p:cNvPicPr/>
          <p:nvPr/>
        </p:nvPicPr>
        <p:blipFill>
          <a:blip r:embed="rId2"/>
          <a:stretch/>
        </p:blipFill>
        <p:spPr>
          <a:xfrm>
            <a:off x="395280" y="4221000"/>
            <a:ext cx="1978200" cy="22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4" descr="123455_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39640" y="119700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6"/>
          <p:cNvSpPr/>
          <p:nvPr/>
        </p:nvSpPr>
        <p:spPr>
          <a:xfrm>
            <a:off x="0" y="-142920"/>
            <a:ext cx="914400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The main functions of the National Rapporteur on countertrafficking a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 studying and generalizing the practice of application of Belarusian legislation on counter-trafficking in Belaru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 informing other states as well as international and foreign organizations about counter-trafficking in Belaru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 developing international cooperation for exchanging experienc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 preparing and submitting to the Government an annual report on the issues of counter-trafficking with the evaluation of the effectiveness of the taken measures and making suggestions to improve Belarusian legislation on counter-trafficking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Законодательство"/>
          <p:cNvPicPr/>
          <p:nvPr/>
        </p:nvPicPr>
        <p:blipFill>
          <a:blip r:embed="rId2"/>
          <a:stretch/>
        </p:blipFill>
        <p:spPr>
          <a:xfrm>
            <a:off x="971640" y="142920"/>
            <a:ext cx="8172360" cy="67150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3"/>
          <p:cNvSpPr/>
          <p:nvPr/>
        </p:nvSpPr>
        <p:spPr>
          <a:xfrm>
            <a:off x="0" y="2967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www.mvd.gov.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0" y="14292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0" y="1000080"/>
          <a:ext cx="9144000" cy="2214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Прямоугольник 10"/>
          <p:cNvSpPr/>
          <p:nvPr/>
        </p:nvSpPr>
        <p:spPr>
          <a:xfrm>
            <a:off x="0" y="981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Times New Roman"/>
              </a:rPr>
              <a:t>C O O R D I N A T I O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Times New Roman"/>
              </a:rPr>
              <a:t>in</a:t>
            </a: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61645"/>
                </a:solidFill>
                <a:latin typeface="Times New Roman"/>
              </a:rPr>
              <a:t>the sphere of combating T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2781360"/>
          <a:ext cx="9144000" cy="2643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The first dire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coordination of th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law enforcem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effor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The second dire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coordination in the sphere of protection and rehabilitation of victims of traffick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6"/>
          <p:cNvSpPr/>
          <p:nvPr/>
        </p:nvSpPr>
        <p:spPr>
          <a:xfrm>
            <a:off x="0" y="0"/>
            <a:ext cx="914400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rdination of law-enforcement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1)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Republica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ordinative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countering crime and corrup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d under the General Prosecutor’s Off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s the activity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nistry of Internal Affairs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ate Security Committee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ate Border Committee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eneral Prosecutor’s Office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stiga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2)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Reg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v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countering crime and corruptio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the Minsk Prosecutor’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under six regional prosecutor’s office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s the activity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cal bodies of internal affairs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ate security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border control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secution and inves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0" y="0"/>
            <a:ext cx="9144000" cy="89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Coordination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of the activities on protection and rehabilitation of the victims of human traff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inistry of Internal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es the activity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Ministry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of Education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Ministry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of Health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Ministry of Foreign Affairs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Ministry of Labor and Social Protec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on-governmental organizations (NG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0" y="6488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7" descr="Герб-МВД"/>
          <p:cNvPicPr/>
          <p:nvPr/>
        </p:nvPicPr>
        <p:blipFill>
          <a:blip r:embed="rId2"/>
          <a:stretch/>
        </p:blipFill>
        <p:spPr>
          <a:xfrm>
            <a:off x="6877080" y="1197000"/>
            <a:ext cx="1977840" cy="2236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7" descr="Герб-МВД"/>
          <p:cNvPicPr/>
          <p:nvPr/>
        </p:nvPicPr>
        <p:blipFill>
          <a:blip r:embed="rId3"/>
          <a:stretch/>
        </p:blipFill>
        <p:spPr>
          <a:xfrm>
            <a:off x="6877080" y="1197000"/>
            <a:ext cx="197784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0" y="1125360"/>
            <a:ext cx="91440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ganization for Security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 Co-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Europe (OSCE)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d0d0d"/>
                </a:solidFill>
                <a:latin typeface="Times New Roman"/>
              </a:rPr>
              <a:t>Special Representative / OSCE Coordinator on Trafficking </a:t>
            </a:r>
            <a:br>
              <a:rPr sz="2700"/>
            </a:br>
            <a:r>
              <a:rPr b="1" lang="en-US" sz="2700" spc="-1" strike="noStrike">
                <a:solidFill>
                  <a:srgbClr val="0d0d0d"/>
                </a:solidFill>
                <a:latin typeface="Times New Roman"/>
              </a:rPr>
              <a:t>in Human Beings</a:t>
            </a:r>
            <a:r>
              <a:rPr b="1" lang="ru-RU" sz="2700" spc="-1" strike="noStrike">
                <a:solidFill>
                  <a:srgbClr val="0d0d0d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ited Nations Council for Human Rights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pecial Rapporteur on trafficking in persons, especially in women and children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123455_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6"/>
          <p:cNvSpPr/>
          <p:nvPr/>
        </p:nvSpPr>
        <p:spPr>
          <a:xfrm>
            <a:off x="0" y="-14292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 in Belarus there is no legal act, establishing unified mechanism of identification and sending victims of human trafficking for rehabil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initiative proposal on elab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such normative legal act until the end of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introdu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he draft of a new Stat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\\181.1.87.83\obmen\_Цаюн_\Герб РБ.gif"/>
          <p:cNvPicPr/>
          <p:nvPr/>
        </p:nvPicPr>
        <p:blipFill>
          <a:blip r:embed="rId2"/>
          <a:stretch/>
        </p:blipFill>
        <p:spPr>
          <a:xfrm>
            <a:off x="6877080" y="260280"/>
            <a:ext cx="17222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08280"/>
            <a:ext cx="8229600" cy="1657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800" spc="-1" strike="noStrike">
                <a:solidFill>
                  <a:srgbClr val="ffc000"/>
                </a:solidFill>
                <a:latin typeface="Tahoma"/>
              </a:rPr>
              <a:t>THANK YOU </a:t>
            </a:r>
            <a:br>
              <a:rPr sz="3800"/>
            </a:br>
            <a:r>
              <a:rPr b="0" lang="en-US" sz="3800" spc="-1" strike="noStrike">
                <a:solidFill>
                  <a:srgbClr val="ffc000"/>
                </a:solidFill>
                <a:latin typeface="Tahoma"/>
              </a:rPr>
              <a:t>FOR YOUR KIND ATTENT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8" name="Picture 5" descr="\\181.1.87.83\obmen\_Цаюн_\Герб РБ.gif"/>
          <p:cNvPicPr/>
          <p:nvPr/>
        </p:nvPicPr>
        <p:blipFill>
          <a:blip r:embed="rId2"/>
          <a:stretch/>
        </p:blipFill>
        <p:spPr>
          <a:xfrm>
            <a:off x="6732720" y="404640"/>
            <a:ext cx="1866600" cy="1857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Герб-МВД"/>
          <p:cNvPicPr/>
          <p:nvPr/>
        </p:nvPicPr>
        <p:blipFill>
          <a:blip r:embed="rId3"/>
          <a:stretch/>
        </p:blipFill>
        <p:spPr>
          <a:xfrm>
            <a:off x="539640" y="4437000"/>
            <a:ext cx="197820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0" y="260280"/>
            <a:ext cx="91440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THE NECESSITY OF INCREASING OF THE EFFECTIVENESS OF NATIONAL MONITORING AND EVALUATING MECHANISM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IN THE SPHERE OF HUMAN TRAFFIC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WAS CONDITIONED BY THE NUMBER OF FACTOR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t and organized nature of human traffick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 constantly increase of trafficking sc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 lack of full and objective information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 low efficiency of national and international measures to countertrafficking in human beings and elimination of fundamental reasons of this phenomen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0" y="260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THE NECESSITY OF INCREASING OF THE EFFECTIVENESS OF NATIONAL MONITORING AND EVALUATING MECHANISM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IN THE SPHERE OF HUMAN TRAFFIC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WAS CONDITIONED BY THE NUMBER OF FACTOR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bare state financing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cessity of adjustments of the national priorities in the forming of internal and external policy in the sphere of counteraction in human beings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2195640" y="476280"/>
            <a:ext cx="6480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RST MODEL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functions of national rapporteur on trafficking in persons are assigned to specially established independent body, which regularly must report to the Governmen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2195640" y="1700280"/>
            <a:ext cx="6480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COND MODEL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ata gathering is carried out on the inter-agency leve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2195640" y="1700280"/>
            <a:ext cx="648000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RD MODEL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functions of national rapporteur are assigne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o one of the existing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ate bodi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85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victims of trafficking identified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2002–2012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5480" y="171432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34920" y="1197000"/>
          <a:ext cx="910908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197000"/>
                    <a:ext cx="910908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8:21:14Z</dcterms:created>
  <dc:creator>alex</dc:creator>
  <dc:description/>
  <dc:language>en-US</dc:language>
  <cp:lastModifiedBy>Purevdorj Vaanchig</cp:lastModifiedBy>
  <dcterms:modified xsi:type="dcterms:W3CDTF">2013-06-04T13:04:23Z</dcterms:modified>
  <cp:revision>149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6928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Miriam ZAPATA</vt:lpwstr>
  </property>
  <property fmtid="{D5CDD505-2E9C-101B-9397-08002B2CF9AE}" pid="7" name="display_urn:schemas-microsoft-com:office:office#Editor">
    <vt:lpwstr>Miriam ZAPATA</vt:lpwstr>
  </property>
  <property fmtid="{D5CDD505-2E9C-101B-9397-08002B2CF9AE}" pid="8" name="xd_ProgID">
    <vt:lpwstr/>
  </property>
</Properties>
</file>